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9.xml.rels" ContentType="application/vnd.openxmlformats-package.relationships+xml"/>
  <Override PartName="/ppt/notesSlides/_rels/notesSlide338.xml.rels" ContentType="application/vnd.openxmlformats-package.relationships+xml"/>
  <Override PartName="/ppt/notesSlides/_rels/notesSlide328.xml.rels" ContentType="application/vnd.openxmlformats-package.relationships+xml"/>
  <Override PartName="/ppt/notesSlides/_rels/notesSlide240.xml.rels" ContentType="application/vnd.openxmlformats-package.relationships+xml"/>
  <Override PartName="/ppt/notesSlides/_rels/notesSlide237.xml.rels" ContentType="application/vnd.openxmlformats-package.relationships+xml"/>
  <Override PartName="/ppt/notesSlides/_rels/notesSlide191.xml.rels" ContentType="application/vnd.openxmlformats-package.relationships+xml"/>
  <Override PartName="/ppt/notesSlides/notesSlide191.xml" ContentType="application/vnd.openxmlformats-officedocument.presentationml.notesSlide+xml"/>
  <Override PartName="/ppt/notesSlides/notesSlide328.xml" ContentType="application/vnd.openxmlformats-officedocument.presentationml.notesSlide+xml"/>
  <Override PartName="/ppt/notesSlides/notesSlide237.xml" ContentType="application/vnd.openxmlformats-officedocument.presentationml.notesSlide+xml"/>
  <Override PartName="/ppt/notesSlides/notesSlide240.xml" ContentType="application/vnd.openxmlformats-officedocument.presentationml.notesSlide+xml"/>
  <Override PartName="/ppt/notesSlides/notesSlide338.xml" ContentType="application/vnd.openxmlformats-officedocument.presentationml.notesSlide+xml"/>
  <Override PartName="/ppt/notesSlides/notesSlide3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80.wmf" ContentType="image/x-wmf"/>
  <Override PartName="/ppt/media/image57.png" ContentType="image/png"/>
  <Override PartName="/ppt/media/image14.wmf" ContentType="image/x-wmf"/>
  <Override PartName="/ppt/media/image56.png" ContentType="image/png"/>
  <Override PartName="/ppt/media/image13.wmf" ContentType="image/x-wmf"/>
  <Override PartName="/ppt/media/image1.wmf" ContentType="image/x-wmf"/>
  <Override PartName="/ppt/media/image55.png" ContentType="image/png"/>
  <Override PartName="/ppt/media/image1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1.wmf" ContentType="image/x-wmf"/>
  <Override PartName="/ppt/media/image19.png" ContentType="image/png"/>
  <Override PartName="/ppt/media/image40.wmf" ContentType="image/x-wmf"/>
  <Override PartName="/ppt/media/image18.png" ContentType="image/png"/>
  <Override PartName="/ppt/media/image42.wmf" ContentType="image/x-wmf"/>
  <Override PartName="/ppt/media/image39.png" ContentType="image/png"/>
  <Override PartName="/ppt/media/image34.wmf" ContentType="image/x-wmf"/>
  <Override PartName="/ppt/media/image33.wmf" ContentType="image/x-wmf"/>
  <Override PartName="/ppt/media/image32.wmf" ContentType="image/x-wmf"/>
  <Override PartName="/ppt/media/image30.wmf" ContentType="image/x-wmf"/>
  <Override PartName="/ppt/media/image9.wmf" ContentType="image/x-wmf"/>
  <Override PartName="/ppt/media/image86.wmf" ContentType="image/x-wmf"/>
  <Override PartName="/ppt/media/image52.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61.png" ContentType="image/png"/>
  <Override PartName="/ppt/media/image59.wmf" ContentType="image/x-wmf"/>
  <Override PartName="/ppt/media/image22.wmf" ContentType="image/x-wmf"/>
  <Override PartName="/ppt/media/image65.png" ContentType="image/png"/>
  <Override PartName="/ppt/media/image27.wmf" ContentType="image/x-wmf"/>
  <Override PartName="/ppt/media/image92.wmf" ContentType="image/x-wmf"/>
  <Override PartName="/ppt/media/image66.png" ContentType="image/png"/>
  <Override PartName="/ppt/media/image23.wmf" ContentType="image/x-wmf"/>
  <Override PartName="/ppt/media/image62.png" ContentType="image/png"/>
  <Override PartName="/ppt/media/image60.wmf" ContentType="image/x-wmf"/>
  <Override PartName="/ppt/media/image72.wmf" ContentType="image/x-wmf"/>
  <Override PartName="/ppt/media/image2.png" ContentType="image/png"/>
  <Override PartName="/ppt/media/image26.wmf" ContentType="image/x-wmf"/>
  <Override PartName="/ppt/media/image69.png" ContentType="image/png"/>
  <Override PartName="/ppt/media/image91.wmf" ContentType="image/x-wmf"/>
  <Override PartName="/ppt/media/image89.wmf" ContentType="image/x-wmf"/>
  <Override PartName="/ppt/media/image77.wmf" ContentType="image/x-wmf"/>
  <Override PartName="/ppt/media/image71.wmf" ContentType="image/x-wmf"/>
  <Override PartName="/ppt/media/image29.wmf" ContentType="image/x-wmf"/>
  <Override PartName="/ppt/media/image25.wmf" ContentType="image/x-wmf"/>
  <Override PartName="/ppt/media/image68.png" ContentType="image/png"/>
  <Override PartName="/ppt/media/image90.wmf" ContentType="image/x-wmf"/>
  <Override PartName="/ppt/media/image48.wmf" ContentType="image/x-wmf"/>
  <Override PartName="/ppt/media/image70.png" ContentType="image/png"/>
  <Override PartName="/ppt/media/image31.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81.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3.png" ContentType="image/png"/>
  <Override PartName="/ppt/media/image64.png" ContentType="image/png"/>
  <Override PartName="/ppt/media/image21.wmf" ContentType="image/x-wmf"/>
  <Override PartName="/ppt/media/image63.png" ContentType="image/png"/>
  <Override PartName="/ppt/media/image20.wmf" ContentType="image/x-wmf"/>
  <Override PartName="/ppt/media/image17.png" ContentType="image/png"/>
  <Override PartName="/ppt/media/image24.wmf" ContentType="image/x-wmf"/>
  <Override PartName="/ppt/media/image67.png" ContentType="image/png"/>
  <Override PartName="/ppt/media/image28.wmf" ContentType="image/x-wmf"/>
  <Override PartName="/ppt/media/image93.wmf" ContentType="image/x-wmf"/>
  <Override PartName="/ppt/media/image82.wmf" ContentType="image/x-wmf"/>
  <Override PartName="/ppt/media/image5.wmf" ContentType="image/x-wmf"/>
  <Override PartName="/ppt/media/image35.wmf" ContentType="image/x-wmf"/>
  <Override PartName="/ppt/media/image53.png" ContentType="image/png"/>
  <Override PartName="/ppt/media/image10.wmf" ContentType="image/x-wmf"/>
  <Override PartName="/ppt/media/image47.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54.png" ContentType="image/png"/>
  <Override PartName="/ppt/media/image84.wmf" ContentType="image/x-wmf"/>
  <Override PartName="/ppt/media/image7.wmf" ContentType="image/x-wmf"/>
  <Override PartName="/ppt/media/image37.wmf" ContentType="image/x-wmf"/>
  <Override PartName="/ppt/media/image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102.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43.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71.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78.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236.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367.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64.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0.xml" ContentType="application/vnd.openxmlformats-officedocument.presentationml.slide+xml"/>
  <Override PartName="/ppt/slides/slide281.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29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291.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332.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31.xml" ContentType="application/vnd.openxmlformats-officedocument.presentationml.slide+xml"/>
  <Override PartName="/ppt/slides/slide261.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260.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2.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1.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6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300.xml" ContentType="application/vnd.openxmlformats-officedocument.presentationml.slide+xml"/>
  <Override PartName="/ppt/slides/slide293.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804E-13B8-491E-BC36-DA822B803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z </a:t>
            </a:r>
            <a:r>
              <a:rPr b="0" i="1" lang="hu-HU" sz="1000" spc="-1" strike="noStrike">
                <a:solidFill>
                  <a:srgbClr val="000000"/>
                </a:solidFill>
                <a:latin typeface="Arial"/>
              </a:rPr>
              <a:t>általános numerikus módszerek</a:t>
            </a:r>
            <a:r>
              <a:rPr b="0" lang="hu-HU" sz="1000" spc="-1" strike="noStrike">
                <a:solidFill>
                  <a:srgbClr val="000000"/>
                </a:solidFill>
                <a:latin typeface="Arial"/>
              </a:rPr>
              <a:t> a matematikailag zárt alakban kezelhető feladatok megoldásainak számítógépes előállítását támogatják. E feladatok matematikai megoldása általában differenciál- és integrálegyenletek kiértékelésén, numerikus differenciáláson és integráláson, lineáris egyenletrendszerek megoldásán, mátrixok invertálásán, illetve interpoláción vagy approximáción alapszik. A </a:t>
            </a:r>
            <a:r>
              <a:rPr b="0" i="1" lang="hu-HU" sz="1000" spc="-1" strike="noStrike">
                <a:solidFill>
                  <a:srgbClr val="000000"/>
                </a:solidFill>
                <a:latin typeface="Arial"/>
              </a:rPr>
              <a:t>mennyiségszámító módszerek</a:t>
            </a:r>
            <a:r>
              <a:rPr b="0" lang="hu-HU" sz="1000" spc="-1" strike="noStrike">
                <a:solidFill>
                  <a:srgbClr val="000000"/>
                </a:solidFill>
                <a:latin typeface="Arial"/>
              </a:rPr>
              <a:t> a tervezés szempontjából fontos mérnöki jellemzőket határozzák meg lineáris közelítéssel, dekompozícióval vagy integrálegyenletek megoldásával. A </a:t>
            </a:r>
            <a:r>
              <a:rPr b="0" i="1" lang="hu-HU" sz="1000" spc="-1" strike="noStrike">
                <a:solidFill>
                  <a:srgbClr val="000000"/>
                </a:solidFill>
                <a:latin typeface="Arial"/>
              </a:rPr>
              <a:t>diszkrét elemekre bontáson alapuló módszerek</a:t>
            </a:r>
            <a:r>
              <a:rPr b="0" lang="hu-HU" sz="1000" spc="-1" strike="noStrike">
                <a:solidFill>
                  <a:srgbClr val="000000"/>
                </a:solidFill>
                <a:latin typeface="Arial"/>
              </a:rPr>
              <a:t> a gépszerkezetek geometriájának különböző idealizálása alapján különböző célú mérnöki elemzések végrehajtását teszik lehetővé. Ilyen a véges differencia, a végeselem, a peremelem és a végessáv módszer, amelyek alkalmazása a szilárdságtani számítások mellett, az aerodinamikai, termikus, hidrodinamikai, elektrotechnikai elemzésekre és más területekre is kiterjed. A </a:t>
            </a:r>
            <a:r>
              <a:rPr b="0" i="1" lang="hu-HU" sz="1000" spc="-1" strike="noStrike">
                <a:solidFill>
                  <a:srgbClr val="000000"/>
                </a:solidFill>
                <a:latin typeface="Arial"/>
              </a:rPr>
              <a:t>véges differencia módszer</a:t>
            </a:r>
            <a:r>
              <a:rPr b="0" lang="hu-HU" sz="1000" spc="-1" strike="noStrike">
                <a:solidFill>
                  <a:srgbClr val="000000"/>
                </a:solidFill>
                <a:latin typeface="Arial"/>
              </a:rPr>
              <a:t> a differenciálegyenletek megoldását rendszerint Taylor-sorra való visszavezetés alapján a differenciaegyenlet megoldásával helyettesíti. A megoldandó feladat dimenziószámának csökkentése, ezen keresztül a numerikus számításigény mérséklése céljából alakították ki a </a:t>
            </a:r>
            <a:r>
              <a:rPr b="0" i="1" lang="hu-HU" sz="1000" spc="-1" strike="noStrike">
                <a:solidFill>
                  <a:srgbClr val="000000"/>
                </a:solidFill>
                <a:latin typeface="Arial"/>
              </a:rPr>
              <a:t>peremelemes módszert</a:t>
            </a:r>
            <a:r>
              <a:rPr b="0" lang="hu-HU" sz="1000" spc="-1" strike="noStrike">
                <a:solidFill>
                  <a:srgbClr val="000000"/>
                </a:solidFill>
                <a:latin typeface="Arial"/>
              </a:rPr>
              <a:t>. A </a:t>
            </a:r>
            <a:r>
              <a:rPr b="0" i="1" lang="hu-HU" sz="1000" spc="-1" strike="noStrike">
                <a:solidFill>
                  <a:srgbClr val="000000"/>
                </a:solidFill>
                <a:latin typeface="Arial"/>
              </a:rPr>
              <a:t>végeselemes megközelítés</a:t>
            </a:r>
            <a:r>
              <a:rPr b="0" lang="hu-HU" sz="1000" spc="-1" strike="noStrike">
                <a:solidFill>
                  <a:srgbClr val="000000"/>
                </a:solidFill>
                <a:latin typeface="Arial"/>
              </a:rPr>
              <a:t> a szerkezeteket/alkatrészeket diszkrét elemek sokaságára bontja, és ezen idealizált elemek jellemzőinek meghatározásán keresztül állapítja meg a szerkezet egészére vonatkozó jellemzőket. Az egymáshoz kapcsolódó diszkét elemek sokasága hálót képez, ami a geometriai modell továbbfeldolgozásával hozható létre. Sokoldalúsága és az általános alkalmazhatósága miatt a végeselemes analízis napjainkban a mérnöki elemzés legelterjedtebben használt módszere. A </a:t>
            </a:r>
            <a:r>
              <a:rPr b="0" i="1" lang="hu-HU" sz="1000" spc="-1" strike="noStrike">
                <a:solidFill>
                  <a:srgbClr val="000000"/>
                </a:solidFill>
                <a:latin typeface="Arial"/>
              </a:rPr>
              <a:t>végessáv módszer</a:t>
            </a:r>
            <a:r>
              <a:rPr b="0" lang="hu-HU" sz="1000" spc="-1" strike="noStrike">
                <a:solidFill>
                  <a:srgbClr val="000000"/>
                </a:solidFill>
                <a:latin typeface="Arial"/>
              </a:rPr>
              <a:t> egyrészt a kevésbé általános jellege, másrészt a végeselemeket alkalmazó modellező és elemző módszerek előretörése miatt jelentőségéből sokat vesztett. A </a:t>
            </a:r>
            <a:r>
              <a:rPr b="0" i="1" lang="hu-HU" sz="1000" spc="-1" strike="noStrike">
                <a:solidFill>
                  <a:srgbClr val="000000"/>
                </a:solidFill>
                <a:latin typeface="Arial"/>
              </a:rPr>
              <a:t>numerikus szimulációs módszerek</a:t>
            </a:r>
            <a:r>
              <a:rPr b="0" lang="hu-HU" sz="1000" spc="-1" strike="noStrike">
                <a:solidFill>
                  <a:srgbClr val="000000"/>
                </a:solidFill>
                <a:latin typeface="Arial"/>
              </a:rPr>
              <a:t> esemény- vagy jelenség-orientált formában </a:t>
            </a:r>
            <a:r>
              <a:rPr b="0" i="1" lang="hu-HU" sz="1000" spc="-1" strike="noStrike">
                <a:solidFill>
                  <a:srgbClr val="000000"/>
                </a:solidFill>
                <a:latin typeface="Arial"/>
              </a:rPr>
              <a:t>diszkrét</a:t>
            </a:r>
            <a:r>
              <a:rPr b="0" lang="hu-HU" sz="1000" spc="-1" strike="noStrike">
                <a:solidFill>
                  <a:srgbClr val="000000"/>
                </a:solidFill>
                <a:latin typeface="Arial"/>
              </a:rPr>
              <a:t>, folyamat-orientált formában </a:t>
            </a:r>
            <a:r>
              <a:rPr b="0" i="1" lang="hu-HU" sz="1000" spc="-1" strike="noStrike">
                <a:solidFill>
                  <a:srgbClr val="000000"/>
                </a:solidFill>
                <a:latin typeface="Arial"/>
              </a:rPr>
              <a:t>folytonos</a:t>
            </a:r>
            <a:r>
              <a:rPr b="0" lang="hu-HU" sz="1000" spc="-1" strike="noStrike">
                <a:solidFill>
                  <a:srgbClr val="000000"/>
                </a:solidFill>
                <a:latin typeface="Arial"/>
              </a:rPr>
              <a:t> működésszimulációt valósítanak meg. Az </a:t>
            </a:r>
            <a:r>
              <a:rPr b="0" i="1" lang="hu-HU" sz="1000" spc="-1" strike="noStrike">
                <a:solidFill>
                  <a:srgbClr val="000000"/>
                </a:solidFill>
                <a:latin typeface="Arial"/>
              </a:rPr>
              <a:t>optimum számító numerikus módszerek</a:t>
            </a:r>
            <a:r>
              <a:rPr b="0" lang="hu-HU" sz="1000" spc="-1" strike="noStrike">
                <a:solidFill>
                  <a:srgbClr val="000000"/>
                </a:solidFill>
                <a:latin typeface="Arial"/>
              </a:rPr>
              <a:t> a lineáris vagy nem-lineáris programozásra, a differenciál számításra, a determinisztikus és heurisztikus kereső eljárásokra, valamint a funkcionál számításra támaszkodnak.</a:t>
            </a:r>
            <a:endParaRPr b="0" lang="en-US" sz="10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M koncepció fejlődése </a:t>
            </a:r>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ljárások számítógépes alkalmazások összekapcsolására </a:t>
            </a:r>
            <a:endParaRPr b="0" lang="en-US" sz="1200" spc="-1" strike="noStrike">
              <a:solidFill>
                <a:srgbClr val="000000"/>
              </a:solidFill>
              <a:latin typeface="Arial"/>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fázis, a modellezés során a tervező a követelmények elemzésével és a helyszíni adatgyűjtés, beszélgetések révén nyert információ alapján meghatározza a problémakörben szereplő egyedeket. Ezt követően az egyedekhez kapcsolódó tevékenységeket kell rendszerezni, vagyis le kell írni az egyed viselkedését. Ennek során nemcsak a tevékenységeket azonosítják, hanem azok időbeli viszonyait is felderítik. Így felépíthető a tevékenységek végrehajtási hierarchiája minden egyed esetén. Az így elkészült leírás az </a:t>
            </a:r>
            <a:r>
              <a:rPr b="0" i="1" lang="hu-HU" sz="1200" spc="-1" strike="noStrike">
                <a:solidFill>
                  <a:srgbClr val="000000"/>
                </a:solidFill>
                <a:latin typeface="Arial"/>
              </a:rPr>
              <a:t>egyed-struktúra diagrammal</a:t>
            </a:r>
            <a:r>
              <a:rPr b="0" lang="hu-HU" sz="1200" spc="-1" strike="noStrike">
                <a:solidFill>
                  <a:srgbClr val="000000"/>
                </a:solidFill>
                <a:latin typeface="Arial"/>
              </a:rPr>
              <a:t> ábrázolható. Ez a struktúra-diagramhoz hasonló formalizmussal rendelkezik, csak itt a szekvencia nem tartalmazást, hanem időbeli egymásutániságot jelöl. </a:t>
            </a:r>
            <a:endParaRPr b="0" lang="en-US" sz="1200" spc="-1" strike="noStrike">
              <a:solidFill>
                <a:srgbClr val="000000"/>
              </a:solidFill>
              <a:latin typeface="Arial"/>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ábra azt fejezi ki, hogy a hallgató előbb beiratkozik, majd felvesz tárgyakat (esetleg többször egymásután), majd elhagyja az iskolát. A tárgyhoz különböző lezárás kapcsolódhat, mely lehet pl. kollokvium vagy aláírá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osszabb fejlesztési idejű, átfogóbb rendszereknél a projekt ideje alatt a fejlesztői csoport összetétele nagymértékben változhat, ezért a fejlesztést úgy kell végezni, hogy a meghozott döntéseket, az elért eredményeket minél simábban, minimális veszteséggel lehessen továbbadni. Másrészt azzal is csökkenthetők a mobilitás veszélyei, hogy megpróbálják minden lépésnél a legjobb megoldást elérni. Ezzel azt akadályozzák meg, hogy gyakran vissza kelljen térni korábbi fázisokra, melyek tervezői már esetleg rég elhagyták a tervezőgárdá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1C90E-0712-406F-B1B1-9AEF2F114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D7CD9-5310-421D-B247-DD7A0601B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FA2BF-CDE7-4F6A-A3EF-0F5532C78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56DCF-E310-41A3-A083-EFB7D04AD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51406-A689-472C-BA78-2A20AF3945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49AFB-EB0E-4C85-B0BD-5DA6A247F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BDAB3-F1BA-4F13-BDC4-9D178B36C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7C5E5-B73F-49F4-911D-BD7783ED6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0D04A-6DCD-4ED9-94DA-62028DC79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7FF04-A366-4DC9-BC8F-046440D6C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45FCC-314D-4AD2-86FF-C2A895961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707BA-1DA1-492B-A596-7F3419C7F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6AA7E-B8BE-41B6-AE26-F1DF59317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77E35-EACC-43DC-9446-A4B2167D7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0A13E-7565-4AE7-9047-0CC6A9A0C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B5BB05-9446-490A-BFD1-FB250F36B8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7D6E4A-4FAA-42D6-B378-CF75CC651D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4EF8E-E0F6-428E-BC51-CA8A8372C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5FCF9-CDDB-4F7F-847E-BE7A5237C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D2EBB-BF5A-4AAE-B37B-C989F28A1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911D5-01F5-4F03-8CAB-A41983275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AFA41-87AB-497E-BD8F-DA9D3F78B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D5FE6-B855-497F-971C-7043283D4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89ECB-EECC-4C16-9CDA-6BCE32669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E43F-A8A1-4002-9046-D3F7C0969DA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30E41-9476-4A5B-80D9-EF8D4F9FCF9A}"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5.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5.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5.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5.xml"/>
</Relationships>
</file>

<file path=ppt/slides/_rels/slide3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5.xml"/>
</Relationships>
</file>

<file path=ppt/slides/_rels/slide3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5.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3.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5.xml"/><Relationship Id="rId4"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5.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5.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5.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5.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5.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5.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5.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5.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Minőségmenedzsment és Informatika</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űszaki informatikai szak,</a:t>
            </a:r>
            <a:r>
              <a:rPr b="0" i="1" lang="hu-HU" sz="2800" spc="-1" strike="noStrike">
                <a:solidFill>
                  <a:srgbClr val="ffffff"/>
                </a:solidFill>
                <a:latin typeface="Tahoma"/>
              </a:rPr>
              <a:t>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melési folyamatok informatikája szakirány (S1)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kalmazásfejlesztői szakirány (S8)</a:t>
            </a: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116AFABB-E7DF-41A8-AB86-B7277043A0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szabályozás</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parágak többsége a tömegszerű termelés (sorozatgyártás) megindulását követően került a minőségszabályozás szakaszá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ődött a technológia, a munkaszervezés, a minőségellenőrzés tudománya. Az ipari termelés tömegszerűségének növekedése jótékonyan hatott a matematikai statisztikai elveken minőségellenőrzésre. Már a gyártási folyamat közben végeztek a minőségre vonatkozó méréseket, és a folyamatok szabályozásával biztosították a termék elvárásoknak megfelelő jellemzőit. Valószínűségelméleti számítások segítségével jutottak el arra a felismerésre, hogy a gyártott mennyiségből kivett - minta számítható - módon reprezentálja a sokaság jellemző tulajdonságait. Nem kellett már minden egyes gyártott darabot funkcionális vizsgálatnak alávetni, annak érdekében, hogy a végellenőrzés rátegye a minősítő bélyegzőt a végtermékr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szabályozás fő célja az ellenőrzés és szabályozás lett. Jellemző módon a termelő és műszaki részlegek felelnek a minőségért. A statisztikai mintavétellel történő minőségszabályozás esetén a minőséget már nemcsak ellenőrzik, hanem igyekeznek kézben tartani a folyamatot, és szerepet kap a helyesbítő tevékenység is.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1E134D5-80F8-4575-A5A4-58CAC33021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lkalmazott információs paradigma alapszabályai</a:t>
            </a:r>
            <a:endParaRPr b="0" lang="en-US" sz="4000" spc="-1" strike="noStrike">
              <a:solidFill>
                <a:srgbClr val="ffffcc"/>
              </a:solidFill>
              <a:latin typeface="Tahoma"/>
            </a:endParaRPr>
          </a:p>
        </p:txBody>
      </p:sp>
      <p:sp>
        <p:nvSpPr>
          <p:cNvPr id="6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re csak lehetséges, objektum-orientált módszereket kell alkalmazni.</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ngsúlyozni kell a szabványos adatbázisokat, adatkezelést és a teljes rendszerre vonatkozó elérhetősége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módszereket kell használni a kommunikációban a források, tárolási helyek és az információ felhasználói közöt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zösen használt, vagyis a több funkció vagy folyamat által használt adatoknak neutrális, szabványos formátuma kell, hogy legyen. Bárki, aki használja az adatokat, képes legyen azokat olvasni és írni, valamint speciális formátumra alakítani, de csak akkor, ha erre van szüksége.</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feldolgozási kérések és az eredmények visszaküldése a felhasználóhoz legyenek átlátszóak a felhasználó számár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E01348-CAEA-4C6B-B5DC-3A323D1005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t éven belül elérhető reális célo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nformáció a megfelelő helyen legyen elérhető, amikor szükség van rá.</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lkalmazkodás a környezet és a gyártási folyamatok folyamatos változásaihoz.</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vállalati folyamat és szervezeti struktúra rugalmasság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összes tevékenységéhez tartozó funkció és viselkedés olyan leírása, amely a számítógépes szimuláció és irányítás céljaira felhasználható (feldolgoz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vállalati folyamat valós-idejű irányítás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technológia leggazdaságosabb alkalma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620C17-5596-439E-BC36-1560D852DB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601"/>
              </a:spcBef>
              <a:buClr>
                <a:srgbClr val="a3c145"/>
              </a:buClr>
              <a:buSzPct val="80000"/>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volabbi jövő céljai</a:t>
            </a:r>
            <a:endParaRPr b="0" lang="en-US" sz="24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önböző szállítóktól származó programok és gépek együttes (konzisztens, kompatibilis) felhasználási lehetősége.</a:t>
            </a:r>
            <a:endParaRPr b="0" lang="en-US" sz="20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ehetőség a CIM architektúrák formális módszerekkel való leírására (szigorúan meghatározott szintaxissal és szemantikával), hogy az architektúrának legyen egy adott interpretálása (értelmezése), ami lehetővé teszi, hogy bármilyen szükséges fordítás vagy szolgáltatás elérhető legy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FB01CD8-3CA8-4779-8E47-A562AF7DF8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a3c145"/>
              </a:buClr>
              <a:buSzPct val="80000"/>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rchitektúrán túlmenő igények a vállalatintegrálásban</a:t>
            </a:r>
            <a:endParaRPr b="0" lang="en-US" sz="24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Olyan módszereket kell kifejleszteni, amelyek a modellezési technikákat, az eszközöket, a projekt-fejlesztő keretrendszereket stb. a lehető legátlátszóbbá teszik a különböző hátterű és képzettségű felhasználók számára. Nem követelhető meg, hogy a felhasználónak teljes számítástudományi háttere legyen, hogy megértse és használja a fenti eszközöket, azaz a gyakorlati felhasználók elől el kell rejteni az elméleti bonyolultságot.</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nt említett átlátszósággal összhangban erőteljes oktatási programokat kell indítani, hogy a felhasználók a vállalat-integrálási technológiát, mint egy, a saját ismeretanyagukhoz természetesen és könnyen alkalmazkodó, szakmasemleges és hatékony módszertant fogadják e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ok részlet szükséges egy ilyen rendszer teljes specifikálásához, tervezéséhez és megvalósításához. Eszközöket kell találni, hogy nagymértékben csökkenthessük az „ alapvető szintű” szükséges részletek mennyiségét. A lehetséges módszerek erre pl. konfigurációs és parametrizálási technikák az újratervezés és újraprogramozás helyett, valamint a széleskörű újrafelhasználás (</a:t>
            </a:r>
            <a:r>
              <a:rPr b="0" i="1" lang="hu-HU" sz="1600" spc="-1" strike="noStrike">
                <a:solidFill>
                  <a:srgbClr val="ffffff"/>
                </a:solidFill>
                <a:latin typeface="Tahoma"/>
              </a:rPr>
              <a:t>reuse</a:t>
            </a:r>
            <a:r>
              <a:rPr b="0" lang="hu-HU" sz="1600" spc="-1" strike="noStrike">
                <a:solidFill>
                  <a:srgbClr val="ffffff"/>
                </a:solidFill>
                <a:latin typeface="Tahoma"/>
              </a:rPr>
              <a:t>) a régebbi rendszerek általános moduljaibó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égső cél a vállalat-integrálás általános elfogadásának elérése, és ennek széleskörű megvalósítása minden területen, nemcsak a gépiparban és főként ott is az alkatrészgyártásban, hanem bármely vállalattípus esetében egyarán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4BE033-81F4-4E22-825B-BB8E5E1A92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A vállalati referencia architektúrákhoz használandó modellezési koncepciók</a:t>
            </a:r>
            <a:endParaRPr b="0" lang="en-US" sz="3600" spc="-1" strike="noStrike">
              <a:solidFill>
                <a:srgbClr val="ffffcc"/>
              </a:solidFill>
              <a:latin typeface="Tahoma"/>
            </a:endParaRPr>
          </a:p>
        </p:txBody>
      </p:sp>
      <p:sp>
        <p:nvSpPr>
          <p:cNvPr id="6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leírt funkció és tárgy (üzleti folyamatok, adatok, anyagok és erőforrások, beleértve a szerszámokat és készülékeket is) </a:t>
            </a:r>
            <a:r>
              <a:rPr b="0" i="1" lang="hu-HU" sz="2000" spc="-1" strike="noStrike">
                <a:solidFill>
                  <a:srgbClr val="ffffff"/>
                </a:solidFill>
                <a:latin typeface="Tahoma"/>
              </a:rPr>
              <a:t>teljesség</a:t>
            </a:r>
            <a:r>
              <a:rPr b="0" lang="hu-HU" sz="2000" spc="-1" strike="noStrike">
                <a:solidFill>
                  <a:srgbClr val="ffffff"/>
                </a:solidFill>
                <a:latin typeface="Tahoma"/>
              </a:rPr>
              <a:t> és </a:t>
            </a:r>
            <a:r>
              <a:rPr b="0" i="1" lang="hu-HU" sz="2000" spc="-1" strike="noStrike">
                <a:solidFill>
                  <a:srgbClr val="ffffff"/>
                </a:solidFill>
                <a:latin typeface="Tahoma"/>
              </a:rPr>
              <a:t>konzisztencia </a:t>
            </a:r>
            <a:r>
              <a:rPr b="0" lang="hu-HU" sz="2000" spc="-1" strike="noStrike">
                <a:solidFill>
                  <a:srgbClr val="ffffff"/>
                </a:solidFill>
                <a:latin typeface="Tahoma"/>
              </a:rPr>
              <a:t>(ellentmondás-mentesség) igazolása (verifikál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modell szimulálása tetszőleges részletezési szint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egyszerű és gyors cseréje az üzleti folyamatok, a módszerek, vagy az eszközök változása eseté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alkalmazása a vállalat napi működésének indítására, ellenőrzésére, irányítására és végrehajtásá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smételt erőforrás-allokáció (elhelyezés, elosztás) az üzleti folyamat folyamán, hogy lehetővé váljék a vállalat erőforrásainak jobb és rugalmasabb eloszt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generálás már működő és az építendő vállalatok részére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239A63-AC4E-42F4-803E-0633C4BECB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ódszert kell adnia az összes rendszerfunkció alapvető, általános funkciókra és feladatokra való lebontására. Ezt a lehető legkevesebb fajta alapvető építőelemmel kell megvalósítania. Megfordítva: lehetségesnek kell lennie, hogy ezekből a végső, alapvető építőelemekből felépítsük az általános funkció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nek alkalmasnak kell lennie arra, hogy megmutassa az összes létező összefüggést azon egységek között, amelyeket a modellezéshez felhasznált blokkok, vagy modulok reprezentáln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 rendszerben meg kell tudni mutatni az ember helyét mind funkcionálisan, mind a szervezet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épesnek kell lennie arra, hogy közvetlenül megmutassa a CIM program vagy más vállalati program fejlődését az indító gondolattól kezdve a teljes rendszer működéséig, ez utóbbit is beleértv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76CCCA7-3B82-4DDC-9E0F-60D9150B101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znie kell az emberek és az információs rendszer kapcsolatait, csakúgy, mint az ember és a gyártórendszer, valamint az információs rendszer és a gyártórendszer közötti, valamint a külvilág és a rendszer elemei közötti kapcsolat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odelleznie kell a rendszer változásait, mint a korlátozásokat, hatásokat, stb.</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mutatnia a rendszer általános követelményeit érintő, speciális tervek okozta korlátozás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pot kell adnia a rendszer különböző nézőpontjai szerinti szabványigények kifejlesztésére, és azok viszonylagos értékét is meg kell mutatnia.</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t egy létező vállalat vagy üzleti egység, illetve egy tervezett vállalat vagy üzleti egység olyan leképezésére is kell használni, amelyben a javasolt leképezés összevethető egy elfogadott, létező szabvány hasonló leképezésével, hogy az egyik vagy másik hiányosságait, stb. kimutassu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A7569AC-B9F7-44AE-BC30-A7100B91904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sonlóképpen az architektúra legyen képes a jelenlegi legjobb gyakorlatot összevetni a jövő technológiájával, hogy megmutathassuk az új technológia alkalmasságát és szükséges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elő kell mozdítania a rugalmasság, modularitás és alkalmazkodóképesség koncepcióját a fejlesztett rendszerek tervezésében, megvalósításában és működtetés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támogatnia kell a korábbi projektek terveinek és programjainak újrafelhasználását mindenütt, ahol ez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t meg kell tenni annak érdekében, hogy formális módszereket alkalmazhassunk (mint pl. a szigorúan meghatározott szintaxis és szemantika), hogy leírjuk és értelmezzük az architektúrát és vele a specifikus rendszerek reprezentációjá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val kezelt tárgyakban lehetővé kell tenni a gazdasági kérdések figyelembe-vétel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C26EB2-78FA-49E6-8656-12315382229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egfontosabb, hogy egy architektúra közös alapot adjon egy gyártásintegráció vagy más vállalati rendszer megvitatására, és így biztosítsa, hogy teljes és pontos értelmezéshez jusson minden résztvevő fél, minden kérdésbe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gy aktuális és feldolgozható megvalósításba fordítható formában kell, hogy világosan tükrözze a létesített vállalat döntéshozatalát, szervezetét, tevékenységeit, üzleti folyamatait, információcseréjét és anyagfolyamatait.</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alkalmas legyen rugalmas módosításokra, hogy tükrözze a változó vállalati környezetet, megkötéseket és működést, és különösen alkalmas legyen az olyan rendszermegvalósítások tükrözésére, amelyek evolúciós (folyamatosan fejlődő) módon épülnek.</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és az azt támogató iránymutatás kell, hogy vezessék a felhasználót a gyártó ipar széles területén a rendszerek tervezési, megvalósítási és működési fázisaiba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a ma meglévő számítástudományi és gyártásautomatizálási technológiák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AA85CD-EE31-4D7B-A8CE-32754629C9A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minden kész megvalósítástól a rendszerkonfiguráció vagy megvalósítás szempontjai szerint.</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igyelembe veendő, hogy egy CIM rendszer teljes leírásához számos különböző nézőpont szükséges.</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endszert úgy kell strukturálni, hogy az egyes részek bonyolultságát korlátozzuk. Az eredményként kapott viszonylagos egyszerűség elősegíti:</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z emberi megértés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számítástechnikai funkciók és eszközök elosztásá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fizikai strukturálást.</a:t>
            </a:r>
            <a:endParaRPr b="0" lang="en-US" sz="18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öbb funkció vagy folyamat által közösen használt adatoknak valamilyen szabványos, semleges formátumúnak kell lennie: bárki, aki az adatokat használja, képes kell legyen az adott formátumból olvasni, avagy abba írni, és helyi felhasználásra csak akkor használni speciális formátumot, ha az szükséges, de akkor az adott formátumból levezethet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5894FCB-B7E7-4B85-8A4A-23995FDBFAA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vállalaton belüli alrendszerré fejlesztésével az európai vállalatok a minőségügyi rendszerek irányába léptek tovább. A minőségügyi alrendszerek létrejöttével nemcsak a termelő részlegek és folyamatok, hanem lényegében a vállalat minden, a vevő által megfogalmazott igények biztosításában közreműködő részleg és folyamat irányítására és szabályozására nyílt lehetőség. A modell középpontjában a működő rendszer szabályozottságának megteremtése és működési optimumának elérése áll. Ehhez szükséges megfelelő minőséginformatikai háttér megteremtése is.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ügyi rendszerek felépítésének sokféle lehetősége ismert, leggyakrabban az ISO 9000 szabványsorozat alapján épül fel. Ezen szabványok tulajdonképpen egyfajta támpontokat, előírásokat adnak a minőségügyi rendszerek kialakításához. A rendszer bevezetésével tudatosulnak a minőséggel kapcsolatos tevékenységek. Az </a:t>
            </a:r>
            <a:r>
              <a:rPr b="0" i="1" lang="hu-HU" sz="2000" spc="-1" strike="noStrike">
                <a:solidFill>
                  <a:srgbClr val="ffffff"/>
                </a:solidFill>
                <a:latin typeface="Tahoma"/>
              </a:rPr>
              <a:t>ISO 9000</a:t>
            </a:r>
            <a:r>
              <a:rPr b="1" lang="hu-HU" sz="2000" spc="-1" strike="noStrike">
                <a:solidFill>
                  <a:srgbClr val="ffffff"/>
                </a:solidFill>
                <a:latin typeface="Tahoma"/>
              </a:rPr>
              <a:t> </a:t>
            </a:r>
            <a:r>
              <a:rPr b="0" lang="hu-HU" sz="2000" spc="-1" strike="noStrike">
                <a:solidFill>
                  <a:srgbClr val="ffffff"/>
                </a:solidFill>
                <a:latin typeface="Tahoma"/>
              </a:rPr>
              <a:t>segít abban, hogy az összehangolatlanul működő - de már jórészt meglevő - rendszerelemek egységes logikai rend szerint kezdjenek el működni, kiküszöbölve ezzel a minőség ingadozásá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C4D3256-179A-4A64-A483-5724AE887C8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gyártó üzem minden egyes forrásához szabványos azonosító, vagy osztályozó kódot kell rendel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definíciókat kell adni az adatkezelés, tárolás és kommunikáció fogalmai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szabad különbséget tenni az adatok és az információ között azok átvitele és tárolása szempontjából. Természetesen minden információhoz tartozik valamilyen szemantikus és kulturális összefüggés azt illetően, ahogy használjuk. Az adatoknál nincs ily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eterogén, több szállítótól származó hardver és szoftver szükséges különböző szintű adatbázis-kezelési lehetőségekkel.</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datok nem szükségképpen kötődnek adott irányítási szintekhez; adatbázisban vannak és külön adatadminisztráló rendszer kezeli ő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FBD359-5F8F-4824-9C6D-C476E5AB9FA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rdver-, szoftver- és az adatbázis-funkciókat el kell osztani a teljes CIM-en, úgy, hogy maximalizáljuk a rendszer </a:t>
            </a:r>
            <a:r>
              <a:rPr b="0" i="1" lang="hu-HU" sz="2000" spc="-1" strike="noStrike">
                <a:solidFill>
                  <a:srgbClr val="ffffff"/>
                </a:solidFill>
                <a:latin typeface="Tahoma"/>
              </a:rPr>
              <a:t>válaszadási</a:t>
            </a:r>
            <a:r>
              <a:rPr b="0" lang="hu-HU" sz="2000" spc="-1" strike="noStrike">
                <a:solidFill>
                  <a:srgbClr val="ffffff"/>
                </a:solidFill>
                <a:latin typeface="Tahoma"/>
              </a:rPr>
              <a:t> sebességeit. Így a rendszernek a </a:t>
            </a:r>
            <a:r>
              <a:rPr b="0" i="1" lang="hu-HU" sz="2000" spc="-1" strike="noStrike">
                <a:solidFill>
                  <a:srgbClr val="ffffff"/>
                </a:solidFill>
                <a:latin typeface="Tahoma"/>
              </a:rPr>
              <a:t>helybeliség elvét</a:t>
            </a:r>
            <a:r>
              <a:rPr b="0" lang="hu-HU" sz="2000" spc="-1" strike="noStrike">
                <a:solidFill>
                  <a:srgbClr val="ffffff"/>
                </a:solidFill>
                <a:latin typeface="Tahoma"/>
              </a:rPr>
              <a:t> (lokalizáció elvét) kell követnie, ami elosztott feldolgozáshoz és idő-fázisú lebontáshoz (time-phase decomposition) vezet. A helybeliség azt jelenti, hogy az azonos földrajzi területen lévő egységek igyekeznek szorosan együtt dolgozni. Egy egység általában szorosabban dolgozik a szomszédjával, mint távolabbi egységekk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endszerben lévő minden adatelemhez tartozik egy adott (szervezeti) egység, amelyik azért az elemért felelős. Minden, az egységek közötti adatelérés explicit kell, hogy legyen. Az adatok függetlensége az olvasáshoz és az íráshoz is explicit adatelérést kíván. Az explicit elérés szabályozza a rendszer bonyolultságát és egyszerűbbé teszi a karbantartást is.</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határozni egy, a teljes rendszerre érvényes elérési módszert. Ez az elérési mód támogatja az egységek közötti irányított cserét a fentieknek (30. pont ) megfelel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203674-8A0E-49CC-A0F3-28D9A963236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szközöket kell, hogy biztosítson az adat-tulajdon koncepciójának megvalósítására a vállalati politikának és szokásoknak megfelelően, ahogy az architektúrában szerep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erőforrásokat is a megfelelő módon kell azonosítani, elismerve működésük különleges értékeit az architektúrában való szerepeik szerint.</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ldolgozás-kérési módszerek, valamint az eredmények visszaküldése a felhasználóhoz a felhasználó számára legyenek átlátszóa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felhasználónak - a hálózathoz való csatlakozásuktól függetlenül - ugyanolyan információ-elérési módszerei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világgal való kapcsolatok interfészei (fogyasztó, szállító, kormányszervek, bankok, stb. ) szabványosak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edzsment, a támogatás és a működtetés minden szintjén legyenek az interfészek, protokollok és interakciók szabványosak az irányítás, adat-tárolás, visszanyerés és kommunikáció szempontjáb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12542E-16E9-4809-959C-30160409BD4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olyan fő funkciónak, amelyeket bármely eladó, aki az adott funkcióra szoftvert szállít, szabványos be/kimeneti formátuma legyen.</a:t>
            </a:r>
            <a:br>
              <a:rPr sz="2000"/>
            </a:br>
            <a:br>
              <a:rPr sz="2000"/>
            </a:br>
            <a:r>
              <a:rPr b="0" lang="hu-HU" sz="2000" spc="-1" strike="noStrike">
                <a:solidFill>
                  <a:srgbClr val="ffffff"/>
                </a:solidFill>
                <a:latin typeface="Tahoma"/>
              </a:rPr>
              <a:t>(A 34-38. tételek, a ma egyre több szállítótól elvárt OSI-ra /Open System Interconnection, nyílt rendszer-összeköttetés / vonatkoznak).</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t úgy kell funkcionálisan szervezni, hogy elkerüljük minden adott fizikai megvalósítás kedvezményezését a specifikációban.</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nek magába kell foglalnia elegendő hibatűrő, redundáns, meghibásodás mentes, vagy enyhe meghibásodási tulajdonságot, hogy biztosítsa a személyzet, a berendezések és a környezet biztonságát mindenféle lehetséges esemény bekövetkezésére.</a:t>
            </a:r>
            <a:endParaRPr b="0" lang="en-US" sz="2000" spc="-1" strike="noStrike">
              <a:solidFill>
                <a:srgbClr val="ffffff"/>
              </a:solidFill>
              <a:latin typeface="Tahom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A7CC8EF-63EB-4133-A89B-D70B3D55D3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 kell fejleszteni a megfelelő viszonyt a modularitás és a rendszer funkcionális teljesítménye között. Biztosítani kell, hogy bármely modul kicserélhető legyen egy fejlettebb verzióra anélkül, hogy tönkretennénk a kapcsolatokat a javított funkcionális lehetőségek és a</a:t>
            </a:r>
            <a:r>
              <a:rPr b="0" lang="en-US" sz="2000" spc="-1" strike="noStrike">
                <a:solidFill>
                  <a:srgbClr val="ffffff"/>
                </a:solidFill>
                <a:latin typeface="Tahoma"/>
              </a:rPr>
              <a:t>zok</a:t>
            </a:r>
            <a:r>
              <a:rPr b="0" lang="hu-HU" sz="2000" spc="-1" strike="noStrike">
                <a:solidFill>
                  <a:srgbClr val="ffffff"/>
                </a:solidFill>
                <a:latin typeface="Tahoma"/>
              </a:rPr>
              <a:t> szomszédai között. Az eredményképpen kapott rendszer tegyen eleget a </a:t>
            </a:r>
            <a:r>
              <a:rPr b="0" i="1" lang="hu-HU" sz="2000" spc="-1" strike="noStrike">
                <a:solidFill>
                  <a:srgbClr val="ffffff"/>
                </a:solidFill>
                <a:latin typeface="Tahoma"/>
              </a:rPr>
              <a:t>függetlenség elvének</a:t>
            </a:r>
            <a:r>
              <a:rPr b="0" lang="hu-HU" sz="2000" spc="-1" strike="noStrike">
                <a:solidFill>
                  <a:srgbClr val="ffffff"/>
                </a:solidFill>
                <a:latin typeface="Tahoma"/>
              </a:rPr>
              <a:t>, azaz vezessen magas kohéziójú, alacsonyan kapcsolt moduláris rendszerhez. Az autonómia azt jelenti, hogy az egyes modulok olyan függetlenül működhessenek, amennyire az általános integrálás megengedhet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specifikációja nyitott legyen a kiegészítésekre és arra, hogy magába foglalhasson új technológiákat anélkül, hogy indokolatlan mértékben rontaná a jelenlegi megvalósításo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élesztési folyamatok legyenek szabványosak, figyelembe véve ezen rendszerek folyamatos fejlődési jellegét (azaz kiegészítések és törlések a menedzsmentben, a támogatásban és a működésben hardver és szoftver oldalról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58A4FF0-5C9C-447C-A97A-F740A57746D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ell, hogy legyen egy </a:t>
            </a:r>
            <a:r>
              <a:rPr b="0" i="1" lang="hu-HU" sz="2000" spc="-1" strike="noStrike">
                <a:solidFill>
                  <a:srgbClr val="ffffff"/>
                </a:solidFill>
                <a:latin typeface="Tahoma"/>
              </a:rPr>
              <a:t>általános</a:t>
            </a:r>
            <a:r>
              <a:rPr b="0" lang="hu-HU" sz="2000" spc="-1" strike="noStrike">
                <a:solidFill>
                  <a:srgbClr val="ffffff"/>
                </a:solidFill>
                <a:latin typeface="Tahoma"/>
              </a:rPr>
              <a:t> (</a:t>
            </a:r>
            <a:r>
              <a:rPr b="0" i="1" lang="hu-HU" sz="2000" spc="-1" strike="noStrike">
                <a:solidFill>
                  <a:srgbClr val="ffffff"/>
                </a:solidFill>
                <a:latin typeface="Tahoma"/>
              </a:rPr>
              <a:t>generic</a:t>
            </a:r>
            <a:r>
              <a:rPr b="0" lang="hu-HU" sz="2000" spc="-1" strike="noStrike">
                <a:solidFill>
                  <a:srgbClr val="ffffff"/>
                </a:solidFill>
                <a:latin typeface="Tahoma"/>
              </a:rPr>
              <a:t>) része, amely számos gyártási műveletre és szervezetre alkalmazható.</a:t>
            </a:r>
            <a:endParaRPr b="0" lang="en-US" sz="2000" spc="-1" strike="noStrike">
              <a:solidFill>
                <a:srgbClr val="ffffff"/>
              </a:solidFill>
              <a:latin typeface="Tahoma"/>
            </a:endParaRPr>
          </a:p>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egységek között háromfajta adat mehet át:</a:t>
            </a:r>
            <a:endParaRPr b="0" lang="en-US" sz="20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nyers</a:t>
            </a:r>
            <a:r>
              <a:rPr b="0" lang="hu-HU" sz="1800" spc="-1" strike="noStrike">
                <a:solidFill>
                  <a:srgbClr val="ffffff"/>
                </a:solidFill>
                <a:latin typeface="Tahoma"/>
              </a:rPr>
              <a:t> adat, amely közvetlenül érzékelőknél keletkezi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iszta</a:t>
            </a:r>
            <a:r>
              <a:rPr b="0" lang="hu-HU" sz="1800" spc="-1" strike="noStrike">
                <a:solidFill>
                  <a:srgbClr val="ffffff"/>
                </a:solidFill>
                <a:latin typeface="Tahoma"/>
              </a:rPr>
              <a:t> adat, amelyet simítottunk és kondicionáltun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formáció, amely már szemantikus összefüggésekkel bír, értelmezett tiszta ad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D532FE-DF24-47DB-8353-0DCFB6AE76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ő célja</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fő célja az, hogy támogassa a gyártóvállalatok folyamat-orientált modellezését és végrehajtási segítséget nyújtson azon vállalatoknak, amelyek az itt említett modelleken alapulnak. A CIM-OSA a modellezési segítséget inkább az üzleti felhasználók, mint a modellezési specialisták szemszögéből hangsúlyozza.</a:t>
            </a:r>
            <a:endParaRPr b="0" lang="en-US" sz="16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integrálás - a megoldás</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ntegrálás segít a vállalat működésében és a vállalat javainak hatékony felhasználásában. Emiatt az integrálás moduláris megközelítése tűnik ígéretesnek. Eszerint a megközelítés szerint a működést kooperáló folyamatokként kell modellezni, amelyek eredményeket és kéréseket (események) cserélnek egymással. Csak a cserében résztvevő objektumoknak kell olyan reprezentációjának lenne, amely közös a partnerek között. Az objektumoknak ez a minimális egységesítése, valamint a heterogenitást elrejtő integrált infrastruktúra alkalmas a vállalatintegrálást segíteni. A CIM-OSA megközelítés egyaránt alkalmas létező és tervezett (újratervezett: re-engineered) rendszerek integrálására.</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83E6B8-C652-47AE-83EA-1E279AEE1D6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45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tozások kezelése</a:t>
            </a:r>
            <a:r>
              <a:rPr b="0" lang="en-US" sz="1800" spc="-1" strike="noStrike">
                <a:solidFill>
                  <a:srgbClr val="ffffff"/>
                </a:solidFill>
                <a:latin typeface="Tahoma"/>
              </a:rPr>
              <a:t> </a:t>
            </a:r>
            <a:endParaRPr b="0" lang="en-US" sz="18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okra nem mindig jellemző a gyors döntéshozatali folyamat. Az egyes osztályok inkább a saját részcéljaik, mint a vállalat általános céljai érdekében tevékenykednek. A felelősségek még mindig egydimenziós hierarchiák szerint strukturáltak és a vállalati vagyon és a vállalat működtetésének felelőssége keveredik. </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a sikeres vállalti működés legfontosabb jövőbeli jellemzője a </a:t>
            </a:r>
            <a:r>
              <a:rPr b="0" i="1" lang="hu-HU" sz="1600" spc="-1" strike="noStrike">
                <a:solidFill>
                  <a:srgbClr val="ffffff"/>
                </a:solidFill>
                <a:latin typeface="Tahoma"/>
              </a:rPr>
              <a:t>változások aktív kezelése</a:t>
            </a:r>
            <a:r>
              <a:rPr b="0" lang="hu-HU" sz="1600" spc="-1" strike="noStrike">
                <a:solidFill>
                  <a:srgbClr val="ffffff"/>
                </a:solidFill>
                <a:latin typeface="Tahoma"/>
              </a:rPr>
              <a:t> lesz. Ez a külső változások lehető legkorábbi észlelését és a gyors reagálást jelenti, valamint a belső változtatások gyors meghatározását és végrehajtását. A vállalatintegrálás előfeltétele az </a:t>
            </a:r>
            <a:r>
              <a:rPr b="0" i="1" lang="hu-HU" sz="1600" spc="-1" strike="noStrike">
                <a:solidFill>
                  <a:srgbClr val="ffffff"/>
                </a:solidFill>
                <a:latin typeface="Tahoma"/>
              </a:rPr>
              <a:t>üzleti újratervezés</a:t>
            </a:r>
            <a:r>
              <a:rPr b="0" lang="hu-HU" sz="1600" spc="-1" strike="noStrike">
                <a:solidFill>
                  <a:srgbClr val="ffffff"/>
                </a:solidFill>
                <a:latin typeface="Tahoma"/>
              </a:rPr>
              <a:t> (business process re-engineering) és az egyszerűsítés a vállalati tervezésben.</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toztatások menedzsmentjének fontos része a </a:t>
            </a:r>
            <a:r>
              <a:rPr b="0" i="1" lang="hu-HU" sz="1600" spc="-1" strike="noStrike">
                <a:solidFill>
                  <a:srgbClr val="ffffff"/>
                </a:solidFill>
                <a:latin typeface="Tahoma"/>
              </a:rPr>
              <a:t>döntéstámogatás</a:t>
            </a:r>
            <a:r>
              <a:rPr b="0" lang="hu-HU" sz="1600" spc="-1" strike="noStrike">
                <a:solidFill>
                  <a:srgbClr val="ffffff"/>
                </a:solidFill>
                <a:latin typeface="Tahoma"/>
              </a:rPr>
              <a:t>. Ez a megfelelő információnak a megfelelő időben való elérését, valamint a döntéshozatali folyamat eredményeinek a megfelelő helyre juttatását igényli. A döntéshozatal a vonatkozó üzleti folyamatok és azok tartalmának (információ, források, felelősség és hatáskör) világos és explicit tudását, valamint az alternatív megoldásokat és azok vállalati működésre való hatásainak analízisét igényli. Emiatt a jövő döntéstámogató rendszereinek elsődleges követelménye a lehetséges megoldások számítógépes szimulációja.</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döntéstámogatást nyújt a modern modelljeivel (a releváns információ azonosítása, az alternatív megoldások analízise és az igazolt döntések terjesztése), valamint a üzleti folyamatok egyszerű újratervezése révé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CEB0CA-A135-49B9-B3EC-1311D7AA704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253080" indent="-25308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parnak szüksége van egy olyan megvalósítási stratégiára, amellyel meglévő, részlegesen automatizált vállalatok lépésenként fejleszthetők CIM rendszereket alkalmazó, magas automatizáltságú vállalatokká. A gyártórendszernek folyamatosan kell a napi termelését folytatnia, de ugyanakkor be kell fogadnia változásokat az integráció és az automatizálás irányában egyaránt. Szabványokra van szükség, amelyek biztosítják a különböző forrásokból származó komponensek korrekt együttműködését.</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őkebefektetéseken túlmenően az egyik legfontosabb „vagyontárgy” egy vállalat tudása saját üzleti és műszaki folyamatairól, gyakran ez különbözteti meg piaci versenytársaitól.</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 működése belső és külső funkciók szerint elemezhető. A </a:t>
            </a:r>
            <a:r>
              <a:rPr b="0" i="1" lang="hu-HU" sz="1600" spc="-1" strike="noStrike">
                <a:solidFill>
                  <a:srgbClr val="ffffff"/>
                </a:solidFill>
                <a:latin typeface="Tahoma"/>
              </a:rPr>
              <a:t>belső</a:t>
            </a:r>
            <a:r>
              <a:rPr b="0" lang="hu-HU" sz="1600" spc="-1" strike="noStrike">
                <a:solidFill>
                  <a:srgbClr val="ffffff"/>
                </a:solidFill>
                <a:latin typeface="Tahoma"/>
              </a:rPr>
              <a:t> működés az üzleti folyamatban a piackutatás, fejlesztés, gyártás, elosztás, árusítás és magának a működésnek az adminisztrálása és menedzselése. A </a:t>
            </a:r>
            <a:r>
              <a:rPr b="0" i="1" lang="hu-HU" sz="1600" spc="-1" strike="noStrike">
                <a:solidFill>
                  <a:srgbClr val="ffffff"/>
                </a:solidFill>
                <a:latin typeface="Tahoma"/>
              </a:rPr>
              <a:t>külső </a:t>
            </a:r>
            <a:r>
              <a:rPr b="0" lang="hu-HU" sz="1600" spc="-1" strike="noStrike">
                <a:solidFill>
                  <a:srgbClr val="ffffff"/>
                </a:solidFill>
                <a:latin typeface="Tahoma"/>
              </a:rPr>
              <a:t>működés a belsőnek a kapcsolata szállítókhoz, vevőkhöz, pénzintézetekhez, kormányszervekhez, stb. Az vállalatintegrálás fő hangsúlya a belső környezeten van, de ugyanakkor a külső környezettel való viszony és annak hatása a belső működésre is látható kell, hogy legyen. Csak akkor lehet a változások hatását teljesen figyelembe venni, ha ezek az összefüggések ismertek és az üzleti modell részeivé válnak. A belső működésre részletesebb modellezés kell, mint a külsőre. Ugyanis a belső üzleti folyamatok irányító lefolyása az alternatívák szimulálására is szükséges, a külső viszonyok modellezésére pedig általában elég a közös információ az összefüggések azonosítás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9995C0-6FC2-4EA3-A6E0-6B48644B1C9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90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nformációtechnológia hardver-kínálata manapság már olyan nagy számítógépes hálózatok létesítését teszi lehetővé, amelyekkel szinte korlátlan teljesítmény és kapacitás érhető el. Ennek ellenére egy gyártórendszerben előforduló és szükséges nagy mennyiségű információ helyes kezelése a megfelelő időben és céllal, a megfelelő helyen még ma is nagy gond.</a:t>
            </a:r>
            <a:endParaRPr b="0" lang="en-US" sz="1600" spc="-1" strike="noStrike">
              <a:solidFill>
                <a:srgbClr val="ffffff"/>
              </a:solidFill>
              <a:latin typeface="Tahoma"/>
            </a:endParaRPr>
          </a:p>
          <a:p>
            <a:pPr lvl="1" marL="901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eszközöket ad a vállalat belső és külső működéséhez szükséges információ konzisztens leírására. Ezen túlmenően világosan szétválasztja a modell-készítést a modell-használattól, és definiál egy formális működési módot a rendszer életciklusára.</a:t>
            </a:r>
            <a:r>
              <a:rPr b="0" lang="hu-HU" sz="1800" spc="-1" strike="noStrike">
                <a:solidFill>
                  <a:srgbClr val="ffffff"/>
                </a:solidFill>
                <a:latin typeface="Tahoma"/>
              </a:rPr>
              <a:t> </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60C0A9-4715-4454-9F99-B629AE1880C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pic>
        <p:nvPicPr>
          <p:cNvPr id="419" name="" descr=""/>
          <p:cNvPicPr/>
          <p:nvPr/>
        </p:nvPicPr>
        <p:blipFill>
          <a:blip r:embed="rId1"/>
          <a:stretch/>
        </p:blipFill>
        <p:spPr>
          <a:xfrm>
            <a:off x="971640" y="1773360"/>
            <a:ext cx="6986520" cy="429876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281E656-9C24-45C3-A64E-CA08C0EA48A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88" name=""/>
          <p:cNvGraphicFramePr/>
          <p:nvPr/>
        </p:nvGraphicFramePr>
        <p:xfrm>
          <a:off x="1187280" y="1700280"/>
          <a:ext cx="6624720" cy="4209840"/>
        </p:xfrm>
        <a:graphic>
          <a:graphicData uri="http://schemas.openxmlformats.org/presentationml/2006/ole">
            <p:oleObj r:id="rId1" spid="">
              <p:embed/>
              <p:pic>
                <p:nvPicPr>
                  <p:cNvPr id="689" name="" descr=""/>
                  <p:cNvPicPr/>
                  <p:nvPr/>
                </p:nvPicPr>
                <p:blipFill>
                  <a:blip r:embed="rId2"/>
                  <a:stretch/>
                </p:blipFill>
                <p:spPr>
                  <a:xfrm>
                    <a:off x="1187280" y="1700280"/>
                    <a:ext cx="6624720" cy="42098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4BFFD3A-8BDA-44B5-B3FE-7F9EC0AB95D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integrálás azon funkciókra vonatkozik, amelyek az üzleti folyamatokat intézik, irányítják és figyelik. Ezek a funkciók segítenek a működési folyamatok ellenőrző irányításában és, ha kell, akkor felhasználói szinten koordinálják a tevékenységek napi végrehajtását. Az üzleti integrálás kulcsa az üzleti folyamatok és kapcsolataik modellezése és a modellek alkalmazása döntés- és működtetés-támogatáshoz.</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használó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lhasználói (alkalmazói) integrálás az alkalmazások irányítására és integrálására vonatkozik (az alkalmazásokat </a:t>
            </a:r>
            <a:r>
              <a:rPr b="0" i="1" lang="hu-HU" sz="1600" spc="-1" strike="noStrike">
                <a:solidFill>
                  <a:srgbClr val="ffffff"/>
                </a:solidFill>
                <a:latin typeface="Tahoma"/>
              </a:rPr>
              <a:t>adatfeldolgozás </a:t>
            </a:r>
            <a:r>
              <a:rPr b="0" lang="hu-HU" sz="1600" spc="-1" strike="noStrike">
                <a:solidFill>
                  <a:srgbClr val="ffffff"/>
                </a:solidFill>
                <a:latin typeface="Tahoma"/>
              </a:rPr>
              <a:t>szemszögéből nézve). Ez azt jelenti, hogy együttműködés szükséges a felhasználók (emberek és gépek egyaránt) és az alkalmazások között és biztosítandó az információ szolgáltatása és eltávolítása a rendszeren belül és rendszerek közötti kommunikációban. Az integrálást ezen a szinten egy megfelelő informatikai infrastruktúra (Information Technology Infrastructure = ITI) biztosítja, hogy a szükséges információ a teljes rendszeren elérhető legyen függetlenül attól, hogy hol van az adott adat.</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izikai rendszerintegráció</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integráció a gyártásautomatizálás és az adatfeldolgozó részek összeköttetését jelenti (azaz, CAD a CAM-hoz, rugalmas gyártórendszerekhez, gépesített ütemezéshez, stb.) oly módon, hogy az ún. automatizálási szigetek között lehetővé váljék az információcser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BC25271-57E5-499C-8579-721FBA0E85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2440" indent="-62244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tervezés és -működtetés </a:t>
            </a:r>
            <a:endParaRPr b="0" lang="en-US" sz="18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tervezését támogató, információtechnológia (IT) alapú integrálás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rányítás- és információigények üzleti folyamat-menetének meghatározása.</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vagyon (források és információ)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felelősségek és hatáskörök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üzleti modellek (módosítások és kiegészítések) karbantartása az üzleti felhasználó által.</a:t>
            </a:r>
            <a:endParaRPr b="0" lang="en-US" sz="14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végrehajtásának az IT alapú integrációs támogatása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tozások és az alternatív megoldások (modell szimuláció) hatásainak értékel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ell alapú működés-irányítás és ellenőrzés.</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993B9A1-F9B8-481C-A6BE-23577240DD4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üttélés az örökséggel </a:t>
            </a:r>
            <a:endParaRPr b="0" lang="en-US" sz="18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tudományos diszciplínák alapján újratervezett új rendszerkomponenseknek a modellezésben együtt kell működniük a vállalat működésében a meglévő részekkel. A nagyszámítógépes alkalmazások átlagos 12 éves élettartamát figyelembe véve sokéves ilyen együttélésre lehet számítani.</a:t>
            </a:r>
            <a:endParaRPr b="0" lang="en-US" sz="16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bármely módszertannak vagy technológiának, amelyet a vállalati működés javításához kívánnak felhasználni, eszközöket kell adnia a létező világgal való együttműködésre. Az összeférhetetlen rendszerek közötti együttműködés megvalósításának legígéretesebb megközelítése a rendszer különböző részei által közösen használt információs objektumok léte. Ezzel a megközelítéssel a közös reprezentációban csak akkor kell megegyezni, ha a partnerek ugyanazokat az objektumokat használják közösen. Ez lehetővé teszi, hogy az információs tárgyakat osztályokba sorolják a közös használat foka szerint, megkülönböztetve </a:t>
            </a:r>
            <a:r>
              <a:rPr b="0" i="1" lang="hu-HU" sz="1600" spc="-1" strike="noStrike">
                <a:solidFill>
                  <a:srgbClr val="ffffff"/>
                </a:solidFill>
                <a:latin typeface="Tahoma"/>
              </a:rPr>
              <a:t>magán, közös</a:t>
            </a:r>
            <a:r>
              <a:rPr b="0" lang="hu-HU" sz="1600" spc="-1" strike="noStrike">
                <a:solidFill>
                  <a:srgbClr val="ffffff"/>
                </a:solidFill>
                <a:latin typeface="Tahoma"/>
              </a:rPr>
              <a:t>, vagy </a:t>
            </a:r>
            <a:r>
              <a:rPr b="0" i="1" lang="hu-HU" sz="1600" spc="-1" strike="noStrike">
                <a:solidFill>
                  <a:srgbClr val="ffffff"/>
                </a:solidFill>
                <a:latin typeface="Tahoma"/>
              </a:rPr>
              <a:t>nyilvános</a:t>
            </a:r>
            <a:r>
              <a:rPr b="0" lang="hu-HU" sz="1600" spc="-1" strike="noStrike">
                <a:solidFill>
                  <a:srgbClr val="ffffff"/>
                </a:solidFill>
                <a:latin typeface="Tahoma"/>
              </a:rPr>
              <a:t> felhasználású objektumokat. Ugyanezt a megközelítést használják a mesterséges intelligencia szakemberei és az ontológiák (a valóság közös szempontjainak általános elméletei) fejlesztői.</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0F0946C-E2DE-41B7-9908-080FB957A57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7"/>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haszon</a:t>
            </a:r>
            <a:r>
              <a:rPr b="0" lang="en-US" sz="1800" spc="-1" strike="noStrike">
                <a:solidFill>
                  <a:srgbClr val="ffffff"/>
                </a:solidFill>
                <a:latin typeface="Tahoma"/>
              </a:rPr>
              <a:t> </a:t>
            </a:r>
            <a:endParaRPr b="0" lang="en-US" sz="18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0" i="1" lang="hu-HU" sz="1600" spc="-1" strike="noStrike">
                <a:solidFill>
                  <a:srgbClr val="ffffff"/>
                </a:solidFill>
                <a:latin typeface="Tahoma"/>
              </a:rPr>
              <a:t>vállalat-újratervezés</a:t>
            </a:r>
            <a:r>
              <a:rPr b="0" lang="hu-HU" sz="1600" spc="-1" strike="noStrike">
                <a:solidFill>
                  <a:srgbClr val="ffffff"/>
                </a:solidFill>
                <a:latin typeface="Tahoma"/>
              </a:rPr>
              <a:t> és a </a:t>
            </a:r>
            <a:r>
              <a:rPr b="0" i="1" lang="hu-HU" sz="1600" spc="-1" strike="noStrike">
                <a:solidFill>
                  <a:srgbClr val="ffffff"/>
                </a:solidFill>
                <a:latin typeface="Tahoma"/>
              </a:rPr>
              <a:t>folyamat-egyszerűsítés</a:t>
            </a:r>
            <a:r>
              <a:rPr b="0" lang="hu-HU" sz="1600" spc="-1" strike="noStrike">
                <a:solidFill>
                  <a:srgbClr val="ffffff"/>
                </a:solidFill>
                <a:latin typeface="Tahoma"/>
              </a:rPr>
              <a:t> azok a feladatok, amelyek koordinálják a vállalat fejlődését és javítják a vállalat általános teljesítményét. Az IT folyamatos fejlődése szavatolja, hogy a különböző üzleti területek között az információ cseréje gyorsul és a célszerűen tárolt információ, valamint a számítógépes szolgáltatások közös használata egyrészt csökkentik a működési költségeket, másrészt javítják a működési minőséget és a rugalmasságot. A megfelelő információ valós-idejű eljuttatása a döntéshozókhoz a piaci változásokra (javak, szolgáltatások, tudás, technológia és pénz piaca) való gyorsabb reakciót segíti. Abban is segít, hogy valódi tényekre és ne fikciókra alapozzák egy vállalat stratégiáit.</a:t>
            </a:r>
            <a:endParaRPr b="0" lang="en-US" sz="16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hasznot nyújt a vállalatoknak a következőkkel:</a:t>
            </a:r>
            <a:endParaRPr b="0" lang="en-US" sz="16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újratervezés és az üzleti folyamatok egyszerűsítése javítja a vállalat működési rugalmasságát és hatékonyságá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űködés szimulációjával kiértékelt alternatívák támogatják a változtatások menedzsmentjé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obb üzleti menedzsment (emberek, folyamatok, források, információ) révén javul a működési rugalmasság és hatékonyság és csökken a működési költség.</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gfelelő információ megosztása és újrafelhasználása, valamint az építőelemek és rendszerelemek modellezése révén csökkennek az átfutási idő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D8FD4F1-43F7-4DFE-BD21-39FF9786B91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572760" indent="-572760">
              <a:lnSpc>
                <a:spcPct val="80000"/>
              </a:lnSpc>
              <a:spcBef>
                <a:spcPts val="45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modellezés és követelményei</a:t>
            </a:r>
            <a:endParaRPr b="0" lang="en-US" sz="18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 üzleti modellezése a hatékony vállalatintegrálás előfeltétele. A vállalat működését jól meg kell érteni, és valósághűen le kell írni, hogy azonosíthassuk a következetlenségeket, majd az összeférhetetlenségeket és analizáljuk azok következményeit. Az alternatív megoldások modellezhetők és kiértékelhetők szimulációval. A vállalatmodellezésnek meg kell felelnie számos különböző felhasználó követelményeinek a napi használat során, emiatt az üzleti célokra kell alapozni és a működést a kapcsolódó funkciókkal és a dinamikus viselkedéssel kell leírni.</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uláris szerkezet biztosítja a lépésenkénti modellépítést és a modell karbantartását, de az ellentmondás-mentesség biztosítása végett minden modul egy közös modell része, abból van levezetve és ahhoz kapcsolódik. Ezek az al-modellek eleget tesznek annak a felhasználói igénynek, hogy a működés bizonyos szempontjait optimalizálják és strukturálják anélkül, hogy egy óriási modell használatára lennénk kényszerítve. Különböző absztrakciós szintekre van szükség, hogy támogassák a stratégiai, taktikai és működési tervezést és a döntéshozatalt. Ez esetben is az összes szintnek az alapszint absztrakciójának kell lennie.</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odellkészítés erős IT támogatást igényel, hogy jól karbantartható, konzisztens és kiterjeszthető modellek jöjjenek létre. A felhasználókat végig kell vezetni a modellkészítő folyamaton a rendszer számára már ismert, újrafelhasználható építőelemek azonosításával. A karbantartás egyszerűsége szükséges, hogy valós időben módosítsuk a modellt a belső és külső környezet változásaihoz, továbbá ki tudjuk értékelni az alternatívákat a meglévő helyzettel összehasonlítva (meglévő, ill. majdani modellek).</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ás megközelítésekkel ellentétben a CIM-OSA megengedi, hogy a felhasználó külön modellezze a vállalat egyes részeit és később integrálja azokat. A CIM-OSA egy moduláris megközelítést („</a:t>
            </a:r>
            <a:r>
              <a:rPr b="0" i="1" lang="hu-HU" sz="1400" spc="-1" strike="noStrike">
                <a:solidFill>
                  <a:srgbClr val="ffffff"/>
                </a:solidFill>
                <a:latin typeface="Tahoma"/>
              </a:rPr>
              <a:t>domain</a:t>
            </a:r>
            <a:r>
              <a:rPr b="0" lang="hu-HU" sz="1400" spc="-1" strike="noStrike">
                <a:solidFill>
                  <a:srgbClr val="ffffff"/>
                </a:solidFill>
                <a:latin typeface="Tahoma"/>
              </a:rPr>
              <a:t>” folyamat) biztosít az üzleti modellezésre a </a:t>
            </a:r>
            <a:r>
              <a:rPr b="0" i="1" lang="hu-HU" sz="1400" spc="-1" strike="noStrike">
                <a:solidFill>
                  <a:srgbClr val="ffffff"/>
                </a:solidFill>
                <a:latin typeface="Tahoma"/>
              </a:rPr>
              <a:t>három</a:t>
            </a:r>
            <a:r>
              <a:rPr b="0" lang="hu-HU" sz="1400" spc="-1" strike="noStrike">
                <a:solidFill>
                  <a:srgbClr val="ffffff"/>
                </a:solidFill>
                <a:latin typeface="Tahoma"/>
              </a:rPr>
              <a:t> modellezési szint (követelmény meghatározás, tervezés meghatározás és megvalósítás), valamint a </a:t>
            </a:r>
            <a:r>
              <a:rPr b="0" i="1" lang="hu-HU" sz="1400" spc="-1" strike="noStrike">
                <a:solidFill>
                  <a:srgbClr val="ffffff"/>
                </a:solidFill>
                <a:latin typeface="Tahoma"/>
              </a:rPr>
              <a:t>négy</a:t>
            </a:r>
            <a:r>
              <a:rPr b="0" lang="hu-HU" sz="1400" spc="-1" strike="noStrike">
                <a:solidFill>
                  <a:srgbClr val="ffffff"/>
                </a:solidFill>
                <a:latin typeface="Tahoma"/>
              </a:rPr>
              <a:t> nézőpont (funkció, információ, források, szervezet) révén, amelyek egy nyitott halmaz részei.</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0156A7-7ADE-4B1E-8C9E-1AEBEDD8068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01" name="PlaceHolder 2"/>
          <p:cNvSpPr>
            <a:spLocks noGrp="1"/>
          </p:cNvSpPr>
          <p:nvPr>
            <p:ph/>
          </p:nvPr>
        </p:nvSpPr>
        <p:spPr>
          <a:xfrm>
            <a:off x="301320" y="1599840"/>
            <a:ext cx="369396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Rendszer életciklus</a:t>
            </a:r>
            <a:r>
              <a:rPr b="0" lang="en-US" sz="1800" spc="-1" strike="noStrike">
                <a:solidFill>
                  <a:srgbClr val="ffffff"/>
                </a:solidFill>
                <a:latin typeface="Tahoma"/>
              </a:rPr>
              <a:t> </a:t>
            </a:r>
            <a:endParaRPr b="0" lang="en-US" sz="1800" spc="-1" strike="noStrike">
              <a:solidFill>
                <a:srgbClr val="ffffff"/>
              </a:solidFill>
              <a:latin typeface="Tahoma"/>
            </a:endParaRPr>
          </a:p>
          <a:p>
            <a:pPr lvl="1" marL="534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alahányszor szükség van egy új, vagy módosított folyamat tervezésére, amely a termék életciklus valamely részét támogatja, végre kell majd hajtani azokat a feladatokat, amelyek a rendszer-életciklus egy vagy több részéhez tartoznak. </a:t>
            </a:r>
            <a:r>
              <a:rPr b="0" i="1" lang="hu-HU" sz="1400" spc="-1" strike="noStrike">
                <a:solidFill>
                  <a:srgbClr val="ffffff"/>
                </a:solidFill>
                <a:latin typeface="Tahoma"/>
              </a:rPr>
              <a:t>A rendszer-életciklus működési fázisa magának a vonatkozó termék-életciklus fázisoknak a végrehajtása.</a:t>
            </a:r>
            <a:r>
              <a:rPr b="0" lang="hu-HU" sz="1400" spc="-1" strike="noStrike">
                <a:solidFill>
                  <a:srgbClr val="ffffff"/>
                </a:solidFill>
                <a:latin typeface="Tahoma"/>
              </a:rPr>
              <a:t> Így vállalati feladatokat rendelve az egyik vagy másik életciklushoz, mód van a vállalat munkájának vállalati tervezés és működtetés szerinti felosztására, hatékonyabbá téve a változások kezelését.</a:t>
            </a:r>
            <a:endParaRPr b="0" lang="en-US" sz="1400" spc="-1" strike="noStrike">
              <a:solidFill>
                <a:srgbClr val="ffffff"/>
              </a:solidFill>
              <a:latin typeface="Tahom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02" name=""/>
          <p:cNvSpPr/>
          <p:nvPr/>
        </p:nvSpPr>
        <p:spPr>
          <a:xfrm>
            <a:off x="0" y="20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3" name=""/>
          <p:cNvGraphicFramePr/>
          <p:nvPr/>
        </p:nvGraphicFramePr>
        <p:xfrm>
          <a:off x="3924360" y="2060640"/>
          <a:ext cx="4895640" cy="2593800"/>
        </p:xfrm>
        <a:graphic>
          <a:graphicData uri="http://schemas.openxmlformats.org/presentationml/2006/ole">
            <p:oleObj r:id="rId1" spid="">
              <p:embed/>
              <p:pic>
                <p:nvPicPr>
                  <p:cNvPr id="704" name="" descr=""/>
                  <p:cNvPicPr/>
                  <p:nvPr/>
                </p:nvPicPr>
                <p:blipFill>
                  <a:blip r:embed="rId2"/>
                  <a:stretch/>
                </p:blipFill>
                <p:spPr>
                  <a:xfrm>
                    <a:off x="3924360" y="2060640"/>
                    <a:ext cx="4895640" cy="25938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071D9E-12C9-4217-948E-3E104856FB3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modellezési megközelít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06"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7" name=""/>
          <p:cNvGraphicFramePr/>
          <p:nvPr/>
        </p:nvGraphicFramePr>
        <p:xfrm>
          <a:off x="395280" y="1989000"/>
          <a:ext cx="7848720" cy="3551400"/>
        </p:xfrm>
        <a:graphic>
          <a:graphicData uri="http://schemas.openxmlformats.org/presentationml/2006/ole">
            <p:oleObj r:id="rId1" spid="">
              <p:embed/>
              <p:pic>
                <p:nvPicPr>
                  <p:cNvPr id="708" name="" descr=""/>
                  <p:cNvPicPr/>
                  <p:nvPr/>
                </p:nvPicPr>
                <p:blipFill>
                  <a:blip r:embed="rId2"/>
                  <a:stretch/>
                </p:blipFill>
                <p:spPr>
                  <a:xfrm>
                    <a:off x="395280" y="1989000"/>
                    <a:ext cx="7848720" cy="35514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EA2A6C0-63F2-4C42-9E5B-05397EE73F2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architekturális keretrendszer áttekintés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10" name=""/>
          <p:cNvSpPr/>
          <p:nvPr/>
        </p:nvSpPr>
        <p:spPr>
          <a:xfrm>
            <a:off x="0" y="114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1" name=""/>
          <p:cNvGraphicFramePr/>
          <p:nvPr/>
        </p:nvGraphicFramePr>
        <p:xfrm>
          <a:off x="2195640" y="1484280"/>
          <a:ext cx="4600440" cy="4562640"/>
        </p:xfrm>
        <a:graphic>
          <a:graphicData uri="http://schemas.openxmlformats.org/presentationml/2006/ole">
            <p:oleObj r:id="rId1" spid="">
              <p:embed/>
              <p:pic>
                <p:nvPicPr>
                  <p:cNvPr id="712" name="" descr=""/>
                  <p:cNvPicPr/>
                  <p:nvPr/>
                </p:nvPicPr>
                <p:blipFill>
                  <a:blip r:embed="rId2"/>
                  <a:stretch/>
                </p:blipFill>
                <p:spPr>
                  <a:xfrm>
                    <a:off x="2195640" y="1484280"/>
                    <a:ext cx="4600440" cy="45626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673CA41-4192-4AB4-8107-8CAD02621EC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4600" indent="-444600">
              <a:lnSpc>
                <a:spcPct val="80000"/>
              </a:lnSpc>
              <a:spcBef>
                <a:spcPts val="451"/>
              </a:spcBef>
              <a:buClr>
                <a:srgbClr val="a3c145"/>
              </a:buClr>
              <a:buSzPct val="80000"/>
              <a:buFont typeface="Tahoma"/>
              <a:buAutoNum type="arabicPeriod" startAt="10"/>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életciklus és a környezet</a:t>
            </a:r>
            <a:r>
              <a:rPr b="0" lang="en-US" sz="1800" spc="-1" strike="noStrike">
                <a:solidFill>
                  <a:srgbClr val="ffffff"/>
                </a:solidFill>
                <a:latin typeface="Tahoma"/>
              </a:rPr>
              <a:t> </a:t>
            </a: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etciklus-feladatok dinamikus modellje folyamatok formájában.</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 a források, amelyek a fenti feladatok végrehajtásához szükséges funkcionalitásokat (működőképességet) tartalmazzák.</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a:t>
            </a:r>
            <a:r>
              <a:rPr b="0" lang="en-US" sz="1600" spc="-1" strike="noStrike">
                <a:solidFill>
                  <a:srgbClr val="ffffff"/>
                </a:solidFill>
                <a:latin typeface="Tahoma"/>
              </a:rPr>
              <a:t> </a:t>
            </a:r>
            <a:r>
              <a:rPr b="0" lang="hu-HU" sz="1600" spc="-1" strike="noStrike">
                <a:solidFill>
                  <a:srgbClr val="ffffff"/>
                </a:solidFill>
                <a:latin typeface="Tahoma"/>
              </a:rPr>
              <a:t>a közös szolgáltatások, amelyek a teljes rendszerben támogatják a folyamatok végrehajtását.</a:t>
            </a:r>
            <a:endParaRPr b="0" lang="en-US" sz="1600" spc="-1" strike="noStrike">
              <a:solidFill>
                <a:srgbClr val="ffffff"/>
              </a:solidFill>
              <a:latin typeface="Tahoma"/>
            </a:endParaRPr>
          </a:p>
          <a:p>
            <a:pPr marL="444600" indent="0">
              <a:lnSpc>
                <a:spcPct val="80000"/>
              </a:lnSpc>
              <a:spcBef>
                <a:spcPts val="451"/>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nnak érdekében, hogy lehetséges legyen a folyamatok tervezése, ill. változtatása egy feladatra a termék-életcikluson belül anélkül, hogy a folyó működési feladatokat zavarnánk, a CIM-OSA két, független, de kapcsolódó környezetet biztosít:</a:t>
            </a:r>
            <a:br>
              <a:rPr sz="1800"/>
            </a:b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működési</a:t>
            </a:r>
            <a:r>
              <a:rPr b="0" lang="hu-HU" sz="1600" spc="-1" strike="noStrike">
                <a:solidFill>
                  <a:srgbClr val="ffffff"/>
                </a:solidFill>
                <a:latin typeface="Tahoma"/>
              </a:rPr>
              <a:t> környezet, amelyben a termékeket fejlesztik, gyártják, kereskednek vele, megrendeléseket adnak és kapnak, számlákat fizetnek és küldenek ki a fogyasztókhoz, összhangban a vállalati termék életciklusokhoz meghatározott folyamatokkal.</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tervezési</a:t>
            </a:r>
            <a:r>
              <a:rPr b="0" lang="hu-HU" sz="1600" spc="-1" strike="noStrike">
                <a:solidFill>
                  <a:srgbClr val="ffffff"/>
                </a:solidFill>
                <a:latin typeface="Tahoma"/>
              </a:rPr>
              <a:t> (engineering) környezet, amelyben egyedi vállalati területeket modellezünk (beleértve a változatok szimulációját és kiértékelését is), ellenőrzünk és kibocsátjuk működésre, összhangban a vállalati életciklushoz tervezett folyamatokkal (kivéve a rendszerműködési fázis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9AFBB65-3726-427D-AE0A-3218693790F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GMP</a:t>
            </a:r>
            <a:r>
              <a:rPr b="0" lang="hu-HU" sz="2000" spc="-1" strike="noStrike">
                <a:solidFill>
                  <a:srgbClr val="ffffff"/>
                </a:solidFill>
                <a:latin typeface="Tahoma"/>
              </a:rPr>
              <a:t> (Good Manufacturing Practice)</a:t>
            </a:r>
            <a:r>
              <a:rPr b="0" i="1" lang="hu-HU" sz="2000" spc="-1" strike="noStrike">
                <a:solidFill>
                  <a:srgbClr val="ffffff"/>
                </a:solidFill>
                <a:latin typeface="Tahoma"/>
              </a:rPr>
              <a:t>:</a:t>
            </a:r>
            <a:r>
              <a:rPr b="0" lang="hu-HU" sz="2000" spc="-1" strike="noStrike">
                <a:solidFill>
                  <a:srgbClr val="ffffff"/>
                </a:solidFill>
                <a:latin typeface="Tahoma"/>
              </a:rPr>
              <a:t> A GMP (Jó gyártási gyakorlat) alkalmazása a gyógyszeriparban és az élelmiszeriparban terjedt el leginkább. A termékbiztonság és az egyenletes termékminőség érdekében alkalmazható módszerek általános gyűjteménye. Ezek közül az adott termékre, technológiára és körülményekre előre meg kell határozni az összes erőforrást, amelyeket a megfelelő helyen, megfelelő mennyiségben, minőségben, megfelelő időben és a megfelelő tervek szerint kell biztosítani. A GMP két fő eleme a hatékony gyártási műveletek és a hatékony ellenőrzés, melyek egymást kiegészítik, és egymásra hatással vannak. A GMP-hez szorosan kapcsolódik a GHP - Jó Higiéniai Gyakorlat, mely biztosítja a tisztasági követelmények betartását mikrobiológiai, kémiai, fizikai és egyéb szempontokból, valamint a GLP - Jó Laboratóriumi Gyakorlat, mely biztosítja a termeléstől független, átfogóan megtervezett és helyesen kivitelezett ellenőrző eljárásokat. A GMP, GHP, és GLP alkalmazása jó kiindulási alapot biztosít minőségirányítási rendszer kiépítéséhez.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4E25FE0-054E-45A3-8B4F-394BE00A64B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8" name=""/>
          <p:cNvGraphicFramePr/>
          <p:nvPr/>
        </p:nvGraphicFramePr>
        <p:xfrm>
          <a:off x="2484360" y="1989000"/>
          <a:ext cx="3971880" cy="4176720"/>
        </p:xfrm>
        <a:graphic>
          <a:graphicData uri="http://schemas.openxmlformats.org/presentationml/2006/ole">
            <p:oleObj r:id="rId1" spid="">
              <p:embed/>
              <p:pic>
                <p:nvPicPr>
                  <p:cNvPr id="719" name="" descr=""/>
                  <p:cNvPicPr/>
                  <p:nvPr/>
                </p:nvPicPr>
                <p:blipFill>
                  <a:blip r:embed="rId2"/>
                  <a:stretch/>
                </p:blipFill>
                <p:spPr>
                  <a:xfrm>
                    <a:off x="2484360" y="1989000"/>
                    <a:ext cx="3971880" cy="41767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C65BDA9-E41F-45FA-B92D-1D696A8C53D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p:txBody>
      </p:sp>
      <p:sp>
        <p:nvSpPr>
          <p:cNvPr id="722" name=""/>
          <p:cNvSpPr/>
          <p:nvPr/>
        </p:nvSpPr>
        <p:spPr>
          <a:xfrm>
            <a:off x="0" y="2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23" name=""/>
          <p:cNvGraphicFramePr/>
          <p:nvPr/>
        </p:nvGraphicFramePr>
        <p:xfrm>
          <a:off x="2843280" y="1989000"/>
          <a:ext cx="3863880" cy="4221360"/>
        </p:xfrm>
        <a:graphic>
          <a:graphicData uri="http://schemas.openxmlformats.org/presentationml/2006/ole">
            <p:oleObj r:id="rId1" spid="">
              <p:embed/>
              <p:pic>
                <p:nvPicPr>
                  <p:cNvPr id="724" name="" descr=""/>
                  <p:cNvPicPr/>
                  <p:nvPr/>
                </p:nvPicPr>
                <p:blipFill>
                  <a:blip r:embed="rId2"/>
                  <a:stretch/>
                </p:blipFill>
                <p:spPr>
                  <a:xfrm>
                    <a:off x="2843280" y="1989000"/>
                    <a:ext cx="3863880" cy="4221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F6D514B-BB1B-46AA-AEE6-303BF05D801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 vállalat megfelelő működése érdekében </a:t>
            </a:r>
            <a:r>
              <a:rPr b="0" i="1" lang="hu-HU" sz="1600" spc="-1" strike="noStrike">
                <a:solidFill>
                  <a:srgbClr val="ffffff"/>
                </a:solidFill>
                <a:latin typeface="Tahoma"/>
              </a:rPr>
              <a:t>három</a:t>
            </a:r>
            <a:r>
              <a:rPr b="0" lang="hu-HU" sz="1600" spc="-1" strike="noStrike">
                <a:solidFill>
                  <a:srgbClr val="ffffff"/>
                </a:solidFill>
                <a:latin typeface="Tahoma"/>
              </a:rPr>
              <a:t> menedzsment szolgáltatás lett meghatározva:</a:t>
            </a:r>
            <a:endParaRPr b="0" lang="en-US" sz="16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t>
            </a:r>
            <a:r>
              <a:rPr b="0" i="1" lang="hu-HU" sz="1400" spc="-1" strike="noStrike">
                <a:solidFill>
                  <a:srgbClr val="ffffff"/>
                </a:solidFill>
                <a:latin typeface="Tahoma"/>
              </a:rPr>
              <a:t>üzleti folyamat</a:t>
            </a:r>
            <a:r>
              <a:rPr b="0" lang="hu-HU" sz="1400" spc="-1" strike="noStrike">
                <a:solidFill>
                  <a:srgbClr val="ffffff"/>
                </a:solidFill>
                <a:latin typeface="Tahoma"/>
              </a:rPr>
              <a:t>-irányító szolgáltatások kezelik és irányítják az üzleti folyamatokat az egész vállalatra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tevékenység</a:t>
            </a:r>
            <a:r>
              <a:rPr b="0" lang="hu-HU" sz="1400" spc="-1" strike="noStrike">
                <a:solidFill>
                  <a:srgbClr val="ffffff"/>
                </a:solidFill>
                <a:latin typeface="Tahoma"/>
              </a:rPr>
              <a:t>-irányító szolgáltatások kezelik, azaz menedzselik és irányítják a vállalat tevékenységeinek végrehajtását az egész rendszerre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forráskezelő</a:t>
            </a:r>
            <a:r>
              <a:rPr b="0" lang="hu-HU" sz="1400" spc="-1" strike="noStrike">
                <a:solidFill>
                  <a:srgbClr val="ffffff"/>
                </a:solidFill>
                <a:latin typeface="Tahoma"/>
              </a:rPr>
              <a:t> szolgáltatások használják a létrehozott modell forrás-információit és az üzleti folyamatok megjelenítését a források és az üzleti folyamatok ütemezésére a teljes rendszerben. </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57F46FB-CE9A-4F4B-A820-FE96F6CC7AD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OSA integráló infrastruktúrája (IIS)</a:t>
            </a:r>
            <a:endParaRPr b="0" lang="en-US" sz="20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nformációhoz kapcsolódó szolgáltatások célja a teljes rendszer adatainak kezelése, tárolása, visszanyerése, úgy, hogy a felhasználó ne tudja, hogy hol, és hogyan tárolódnak az adatok. Ez a szolgáltatás biztosítja az adat-egységességet (ellentmondás-mentességet) és az információ értelmezést is.</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rendszerszintű adatszolgáltatás megadja az információ helyét, az adatok egységességét, a sémakonverziók kezelését és az adatkérések irányítását. Adattárolást és hozzáférést is biztosít az adatkezelés révén. A rendszerszintű adatszolgáltatások kezelik a felhasználók információ igényeit. Az adatkezelés kapcsolatban van a támogató funkcionális egységekkel (üzleti egységek, információ egységek, megjelenítési egységek, emberi és gépi egységek) az adattároláshoz és kereséshez, és ellátja a sémakonverziók további végrehajtását.</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kommunikációhoz kapcsolódó szolgáltatások célja, hogy a teljes rendszerben kommunikálhassanak egymással a megvalósított funkcionális egységek. Ezeknek az egységeknek nem kell tudniuk, hogy a többi egység hol van, és, hogy ezek a helyek hogyan kommunikálnak egymással a teljes rendszerben. Nincs különbség a belső és külső kommunikáció között a felhasználó szemszögéből.</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teljes rendszerre kiterjedő csere-szolgáltatások megfelelő szolgáltatást fognak biztosítani, hogy megvalósuljanak a hozzáférések, közvetítések és külső protokollok, amelyek az információval és a funkciókkal kapcsolatos szolgáltatásokban megjelennek, mialatt a szinkron kommunikáció kérdéseit is kezelik.</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égül, a kommunikációs menedzsmentnek csak egy felhasználója van, a teljes rendszerre kiterjedő csere-szolgáltatások. Kapcsolatban van a támogató, megvalósított egységekkel, hogy adatokat küldjön és fogadjon a nyílt rendszer összeköttetés (ISO 7498) alapelvei szerin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248880E-FF5D-4CF3-8C42-A6C530AC236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51"/>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felhasználása</a:t>
            </a:r>
            <a:endParaRPr b="0" lang="en-US" sz="1800" spc="-1" strike="noStrike">
              <a:solidFill>
                <a:srgbClr val="ffffff"/>
              </a:solidFill>
              <a:latin typeface="Tahoma"/>
            </a:endParaRPr>
          </a:p>
        </p:txBody>
      </p:sp>
      <p:sp>
        <p:nvSpPr>
          <p:cNvPr id="731" name=""/>
          <p:cNvSpPr/>
          <p:nvPr/>
        </p:nvSpPr>
        <p:spPr>
          <a:xfrm>
            <a:off x="0" y="121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2" name=""/>
          <p:cNvGraphicFramePr/>
          <p:nvPr/>
        </p:nvGraphicFramePr>
        <p:xfrm>
          <a:off x="2627280" y="1990800"/>
          <a:ext cx="4032360" cy="4016160"/>
        </p:xfrm>
        <a:graphic>
          <a:graphicData uri="http://schemas.openxmlformats.org/presentationml/2006/ole">
            <p:oleObj r:id="rId1" spid="">
              <p:embed/>
              <p:pic>
                <p:nvPicPr>
                  <p:cNvPr id="733" name="" descr=""/>
                  <p:cNvPicPr/>
                  <p:nvPr/>
                </p:nvPicPr>
                <p:blipFill>
                  <a:blip r:embed="rId2"/>
                  <a:stretch/>
                </p:blipFill>
                <p:spPr>
                  <a:xfrm>
                    <a:off x="2627280" y="1990800"/>
                    <a:ext cx="4032360" cy="40161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3955524-32AA-4A96-B79B-35C4147867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módszertan munkái már a 70-es években elkezdődtek a Bordeaux-i Egyetemen. </a:t>
            </a:r>
            <a:r>
              <a:rPr b="0" lang="en-US" sz="1800" spc="-1" strike="noStrike">
                <a:solidFill>
                  <a:srgbClr val="ffffff"/>
                </a:solidFill>
                <a:latin typeface="Tahoma"/>
              </a:rPr>
              <a:t>A</a:t>
            </a:r>
            <a:r>
              <a:rPr b="0" lang="hu-HU" sz="1800" spc="-1" strike="noStrike">
                <a:solidFill>
                  <a:srgbClr val="ffffff"/>
                </a:solidFill>
                <a:latin typeface="Tahoma"/>
              </a:rPr>
              <a:t> cél olyan gyártásmenedzsment-rendszer modellezése volt, amely pontosan meghatározta, hogy milyen specifikáció szükséges a számítógéppel segített gyártásmenedzsment (Computer Aided Production Management: CAPM) szoftverjeinek kiválasztásához.</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ső következtetésük az ipari kapcsolatok révén az volt, hogy az emberek túl sokat törődnek a számítógéppel segített oldallal és túl keveset a gyártásmenedzseléssel. Ezért az eredeti GRAI modell a tervezőt segítette gyártásmenedzselő rendszer modellezésébe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ésőbb kiterjesztették a modellt az egész CIM rendszerre, és a GRAI módszert továbbfejlesztették CIM tervezésre is. Ez lett a GIM (GRAI Integrated Methodology: GRAI integrált módszertan).</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célja a CIM rendszerek tervezőjének segítése, egyrészt, hogy kidolgozza az integrált gyártórendszer (IMS) modelljét, másrészt, hogy megkapja az adott CIM rendszer specifikációját. Az egyes komponenseket meg lehet vásárolni, vagy el lehet készíteni a vállalaton belül i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67925B-8C0A-4289-B4F6-D926B1DA8A4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9" name=""/>
          <p:cNvGraphicFramePr/>
          <p:nvPr/>
        </p:nvGraphicFramePr>
        <p:xfrm>
          <a:off x="1692360" y="2276640"/>
          <a:ext cx="5905440" cy="3000240"/>
        </p:xfrm>
        <a:graphic>
          <a:graphicData uri="http://schemas.openxmlformats.org/presentationml/2006/ole">
            <p:oleObj r:id="rId1" spid="">
              <p:embed/>
              <p:pic>
                <p:nvPicPr>
                  <p:cNvPr id="740" name="" descr=""/>
                  <p:cNvPicPr/>
                  <p:nvPr/>
                </p:nvPicPr>
                <p:blipFill>
                  <a:blip r:embed="rId2"/>
                  <a:stretch/>
                </p:blipFill>
                <p:spPr>
                  <a:xfrm>
                    <a:off x="1692360" y="2276640"/>
                    <a:ext cx="5905440" cy="30002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172747-EEE7-4BE5-80CF-947465334B9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hu-HU" sz="2000" spc="-1" strike="noStrike">
                <a:solidFill>
                  <a:srgbClr val="ffffff"/>
                </a:solidFill>
                <a:latin typeface="Tahoma"/>
              </a:rPr>
              <a:t>Az irányító rendszer is két részre bontható:</a:t>
            </a:r>
            <a:endParaRPr b="0" lang="en-US" sz="20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öntési rendszer;</a:t>
            </a:r>
            <a:endParaRPr b="0" lang="en-US" sz="14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formációs rendszer.</a:t>
            </a:r>
            <a:endParaRPr b="0" lang="en-US" sz="1400" spc="-1" strike="noStrike">
              <a:solidFill>
                <a:srgbClr val="ffffff"/>
              </a:solidFill>
              <a:latin typeface="Tahoma"/>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4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44" name=""/>
          <p:cNvGraphicFramePr/>
          <p:nvPr/>
        </p:nvGraphicFramePr>
        <p:xfrm>
          <a:off x="3995640" y="2708280"/>
          <a:ext cx="4638600" cy="2867040"/>
        </p:xfrm>
        <a:graphic>
          <a:graphicData uri="http://schemas.openxmlformats.org/presentationml/2006/ole">
            <p:oleObj r:id="rId1" spid="">
              <p:embed/>
              <p:pic>
                <p:nvPicPr>
                  <p:cNvPr id="745" name="" descr=""/>
                  <p:cNvPicPr/>
                  <p:nvPr/>
                </p:nvPicPr>
                <p:blipFill>
                  <a:blip r:embed="rId2"/>
                  <a:stretch/>
                </p:blipFill>
                <p:spPr>
                  <a:xfrm>
                    <a:off x="3995640" y="2708280"/>
                    <a:ext cx="4638600" cy="2867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A3954F7-A187-4F82-A90B-3EA6443DB99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7" name="PlaceHolder 2"/>
          <p:cNvSpPr>
            <a:spLocks noGrp="1"/>
          </p:cNvSpPr>
          <p:nvPr>
            <p:ph/>
          </p:nvPr>
        </p:nvSpPr>
        <p:spPr>
          <a:xfrm>
            <a:off x="301680" y="1599840"/>
            <a:ext cx="3549600" cy="4498920"/>
          </a:xfrm>
          <a:prstGeom prst="rect">
            <a:avLst/>
          </a:prstGeom>
          <a:noFill/>
          <a:ln w="0">
            <a:noFill/>
          </a:ln>
        </p:spPr>
        <p:txBody>
          <a:bodyPr lIns="90000" rIns="90000" tIns="46800" bIns="46800" anchor="t">
            <a:normAutofit/>
          </a:bodyPr>
          <a:p>
            <a:pPr marL="266760" indent="-26676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lobális modell</a:t>
            </a:r>
            <a:r>
              <a:rPr b="0" lang="en-US" sz="2000" spc="-1" strike="noStrike">
                <a:solidFill>
                  <a:srgbClr val="ffffff"/>
                </a:solidFill>
                <a:latin typeface="Tahoma"/>
              </a:rPr>
              <a:t> </a:t>
            </a:r>
            <a:endParaRPr b="0" lang="en-US" sz="2000" spc="-1" strike="noStrike">
              <a:solidFill>
                <a:srgbClr val="ffffff"/>
              </a:solidFill>
              <a:latin typeface="Tahoma"/>
            </a:endParaRPr>
          </a:p>
          <a:p>
            <a:pPr lvl="1" marL="44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gy rendszer eléggé összetett, akkor hatékonyan irányítható egy hierarchikus irányító rendszerrel. Célszerű </a:t>
            </a:r>
            <a:r>
              <a:rPr b="0" i="1" lang="hu-HU" sz="1800" spc="-1" strike="noStrike">
                <a:solidFill>
                  <a:srgbClr val="ffffff"/>
                </a:solidFill>
                <a:latin typeface="Tahoma"/>
              </a:rPr>
              <a:t>három</a:t>
            </a:r>
            <a:r>
              <a:rPr b="0" lang="hu-HU" sz="1800" spc="-1" strike="noStrike">
                <a:solidFill>
                  <a:srgbClr val="ffffff"/>
                </a:solidFill>
                <a:latin typeface="Tahoma"/>
              </a:rPr>
              <a:t> tipikus szint bevezetése, amelyek a </a:t>
            </a:r>
            <a:r>
              <a:rPr b="0" i="1" lang="hu-HU" sz="1800" spc="-1" strike="noStrike">
                <a:solidFill>
                  <a:srgbClr val="ffffff"/>
                </a:solidFill>
                <a:latin typeface="Tahoma"/>
              </a:rPr>
              <a:t>stratégiai, taktikai</a:t>
            </a:r>
            <a:r>
              <a:rPr b="0" lang="hu-HU" sz="1800" spc="-1" strike="noStrike">
                <a:solidFill>
                  <a:srgbClr val="ffffff"/>
                </a:solidFill>
                <a:latin typeface="Tahoma"/>
              </a:rPr>
              <a:t> és a </a:t>
            </a:r>
            <a:r>
              <a:rPr b="0" i="1" lang="hu-HU" sz="1800" spc="-1" strike="noStrike">
                <a:solidFill>
                  <a:srgbClr val="ffffff"/>
                </a:solidFill>
                <a:latin typeface="Tahoma"/>
              </a:rPr>
              <a:t>működési</a:t>
            </a:r>
            <a:r>
              <a:rPr b="0" lang="hu-HU" sz="1800" spc="-1" strike="noStrike">
                <a:solidFill>
                  <a:srgbClr val="ffffff"/>
                </a:solidFill>
                <a:latin typeface="Tahoma"/>
              </a:rPr>
              <a:t> szintnek felelnek meg</a:t>
            </a:r>
            <a:r>
              <a:rPr b="0" lang="en-US" sz="1800" spc="-1" strike="noStrike">
                <a:solidFill>
                  <a:srgbClr val="ffffff"/>
                </a:solidFill>
                <a:latin typeface="Tahoma"/>
              </a:rPr>
              <a:t>.</a:t>
            </a:r>
            <a:r>
              <a:rPr b="0" lang="hu-HU" sz="1800" spc="-1" strike="noStrike">
                <a:solidFill>
                  <a:srgbClr val="ffffff"/>
                </a:solidFill>
                <a:latin typeface="Tahoma"/>
              </a:rPr>
              <a:t>Egy ilyen rendszerben minden szintet a felette levő szint koordinál.</a:t>
            </a:r>
            <a:endParaRPr b="0" lang="en-US" sz="1800" spc="-1" strike="noStrike">
              <a:solidFill>
                <a:srgbClr val="ffffff"/>
              </a:solidFill>
              <a:latin typeface="Tahoma"/>
            </a:endParaRPr>
          </a:p>
        </p:txBody>
      </p:sp>
      <p:sp>
        <p:nvSpPr>
          <p:cNvPr id="748"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49"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0" name=""/>
          <p:cNvGraphicFramePr/>
          <p:nvPr/>
        </p:nvGraphicFramePr>
        <p:xfrm>
          <a:off x="3780000" y="1700280"/>
          <a:ext cx="5025960" cy="3556080"/>
        </p:xfrm>
        <a:graphic>
          <a:graphicData uri="http://schemas.openxmlformats.org/presentationml/2006/ole">
            <p:oleObj r:id="rId1" spid="">
              <p:embed/>
              <p:pic>
                <p:nvPicPr>
                  <p:cNvPr id="751" name="" descr=""/>
                  <p:cNvPicPr/>
                  <p:nvPr/>
                </p:nvPicPr>
                <p:blipFill>
                  <a:blip r:embed="rId2"/>
                  <a:stretch/>
                </p:blipFill>
                <p:spPr>
                  <a:xfrm>
                    <a:off x="3780000" y="1700280"/>
                    <a:ext cx="5025960" cy="355608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10A2626-1267-4BF5-8727-F02C770269B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u-HU" sz="2400" spc="-1" strike="noStrike">
                <a:solidFill>
                  <a:srgbClr val="ffffff"/>
                </a:solidFill>
                <a:latin typeface="Tahoma"/>
              </a:rPr>
              <a:t>Bármely gyártórendszer irányító rendszerének meghatározásakor a fenti megfontolások egy kétdimenziós dekomponálás javaslatához vezettek:</a:t>
            </a:r>
            <a:endParaRPr b="0" lang="en-US" sz="24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funkcionális dekomponálás (vertikális felosztás), ami egy rendszer összes fő részének a különböző funkcióit határozza meg.</a:t>
            </a:r>
            <a:endParaRPr b="0" lang="en-US" sz="20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ierarchikus lebontás (horizontális felosztás) a döntési szintek időkritériumaival összhangban. Ezeket az időhorizont elve jellemzi (az az időszak, ami alatt a döntések eredményei érvényesek, relevánsak), valamint az időszakasz elve (az az időszak, ami után a döntések eredményeit újra meg kell fontolni). Ez a jelölésrendszer a mindhárom klasszikus szintre alkalmazott jelölések kiterjeszt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45C89E-BF60-480A-97C0-224F386B19E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Katonai szabványok</a:t>
            </a:r>
            <a:r>
              <a:rPr b="0" lang="hu-HU" sz="1800" spc="-1" strike="noStrike">
                <a:solidFill>
                  <a:srgbClr val="ffffff"/>
                </a:solidFill>
                <a:latin typeface="Tahoma"/>
              </a:rPr>
              <a:t>: A második világháborút követő hidegháborús években az űr-, és a hadiipar gyors fejlődése miatt a maximális megbízhatóság és biztonság iránti elvárás került előtérbe. A hadiipar az anyagátvételi és komplex gyártásirányítási és ellenőrzési rendszert dolgozott ki. Az Egyesült Államok Védelmi Minisztériuma (DoD) MIL-Q-9858 és 9858A jelzésekkel ellátott minőségügyi programokat alakított ki már 1959-ben és 1963-ban, melyeket azóta hatályon kívül helyeztek. A NATO az AQAP-1 jelzéssel 1968-ban adta ki az ipari minőségszabályozási program követelményei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ISO 9000 szabványsorozat</a:t>
            </a:r>
            <a:r>
              <a:rPr b="0" i="1" lang="hu-HU" sz="1800" spc="-1" strike="noStrike">
                <a:solidFill>
                  <a:srgbClr val="ffffff"/>
                </a:solidFill>
                <a:latin typeface="Tahoma"/>
              </a:rPr>
              <a:t>: </a:t>
            </a:r>
            <a:r>
              <a:rPr b="0" lang="hu-HU" sz="1800" spc="-1" strike="noStrike">
                <a:solidFill>
                  <a:srgbClr val="ffffff"/>
                </a:solidFill>
                <a:latin typeface="Tahoma"/>
              </a:rPr>
              <a:t>A katonai szabványokra erősen támaszkodva Nagy-Britanniában dolgozták ki 1979-re a BS5750 szabvány első változatát, melyet a szállító és vevő közötti szerződéses kapcsolatokon kívül harmadik fél által regisztráltatni lehetett. A regisztrálást - ami a szabvány kiválasztott részének való megfelelést jelentette - minden tényleges vagy lehetséges vevő "nevében" a Brit Szabványosítási Intézet (BSI) végezte. 1987-re a Nemzetközi Szabványosítási Szervezet (ISO) által a BS5750 szabványt alapul véve és kiegészítve nemzeti információkkal kidolgozásra került az ISO 9000 szabványsorozat, mely jelenleg az ISO 9000, 9001, 9004 szabványokat tartalmazza. A szabványsorozat világszerte elfogadásra kerül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00D465B-4DFC-47D5-A87B-BEA256159E5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4" name=""/>
          <p:cNvSpPr/>
          <p:nvPr/>
        </p:nvSpPr>
        <p:spPr>
          <a:xfrm>
            <a:off x="0" y="74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5" name=""/>
          <p:cNvGraphicFramePr/>
          <p:nvPr/>
        </p:nvGraphicFramePr>
        <p:xfrm>
          <a:off x="2484360" y="333360"/>
          <a:ext cx="4486320" cy="5362560"/>
        </p:xfrm>
        <a:graphic>
          <a:graphicData uri="http://schemas.openxmlformats.org/presentationml/2006/ole">
            <p:oleObj r:id="rId1" spid="">
              <p:embed/>
              <p:pic>
                <p:nvPicPr>
                  <p:cNvPr id="756" name="" descr=""/>
                  <p:cNvPicPr/>
                  <p:nvPr/>
                </p:nvPicPr>
                <p:blipFill>
                  <a:blip r:embed="rId2"/>
                  <a:stretch/>
                </p:blipFill>
                <p:spPr>
                  <a:xfrm>
                    <a:off x="2484360" y="333360"/>
                    <a:ext cx="4486320" cy="5362560"/>
                  </a:xfrm>
                  <a:prstGeom prst="rect">
                    <a:avLst/>
                  </a:prstGeom>
                  <a:ln w="0">
                    <a:noFill/>
                  </a:ln>
                </p:spPr>
              </p:pic>
            </p:oleObj>
          </a:graphicData>
        </a:graphic>
      </p:graphicFrame>
      <p:sp>
        <p:nvSpPr>
          <p:cNvPr id="757" name=""/>
          <p:cNvSpPr/>
          <p:nvPr/>
        </p:nvSpPr>
        <p:spPr>
          <a:xfrm>
            <a:off x="2124000" y="5805360"/>
            <a:ext cx="51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általános model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C0C4CAA-2B75-4910-B8E1-498D4DA80B6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8"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9" name=""/>
          <p:cNvGraphicFramePr/>
          <p:nvPr/>
        </p:nvGraphicFramePr>
        <p:xfrm>
          <a:off x="1547640" y="692280"/>
          <a:ext cx="6158160" cy="4748040"/>
        </p:xfrm>
        <a:graphic>
          <a:graphicData uri="http://schemas.openxmlformats.org/presentationml/2006/ole">
            <p:oleObj r:id="rId1" spid="">
              <p:embed/>
              <p:pic>
                <p:nvPicPr>
                  <p:cNvPr id="760" name="" descr=""/>
                  <p:cNvPicPr/>
                  <p:nvPr/>
                </p:nvPicPr>
                <p:blipFill>
                  <a:blip r:embed="rId2"/>
                  <a:stretch/>
                </p:blipFill>
                <p:spPr>
                  <a:xfrm>
                    <a:off x="1547640" y="692280"/>
                    <a:ext cx="6158160" cy="4748040"/>
                  </a:xfrm>
                  <a:prstGeom prst="rect">
                    <a:avLst/>
                  </a:prstGeom>
                  <a:ln w="0">
                    <a:noFill/>
                  </a:ln>
                </p:spPr>
              </p:pic>
            </p:oleObj>
          </a:graphicData>
        </a:graphic>
      </p:graphicFrame>
      <p:sp>
        <p:nvSpPr>
          <p:cNvPr id="761" name=""/>
          <p:cNvSpPr/>
          <p:nvPr/>
        </p:nvSpPr>
        <p:spPr>
          <a:xfrm>
            <a:off x="1547640" y="573408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fizikai rendszer hierarchikus modellj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3FD29FC-E3AC-468D-9AC4-F122703351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2"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3" name=""/>
          <p:cNvGraphicFramePr/>
          <p:nvPr/>
        </p:nvGraphicFramePr>
        <p:xfrm>
          <a:off x="1476360" y="692280"/>
          <a:ext cx="6437160" cy="4089240"/>
        </p:xfrm>
        <a:graphic>
          <a:graphicData uri="http://schemas.openxmlformats.org/presentationml/2006/ole">
            <p:oleObj r:id="rId1" spid="">
              <p:embed/>
              <p:pic>
                <p:nvPicPr>
                  <p:cNvPr id="764" name="" descr=""/>
                  <p:cNvPicPr/>
                  <p:nvPr/>
                </p:nvPicPr>
                <p:blipFill>
                  <a:blip r:embed="rId2"/>
                  <a:stretch/>
                </p:blipFill>
                <p:spPr>
                  <a:xfrm>
                    <a:off x="1476360" y="692280"/>
                    <a:ext cx="6437160" cy="4089240"/>
                  </a:xfrm>
                  <a:prstGeom prst="rect">
                    <a:avLst/>
                  </a:prstGeom>
                  <a:ln w="0">
                    <a:noFill/>
                  </a:ln>
                </p:spPr>
              </p:pic>
            </p:oleObj>
          </a:graphicData>
        </a:graphic>
      </p:graphicFrame>
      <p:sp>
        <p:nvSpPr>
          <p:cNvPr id="765" name=""/>
          <p:cNvSpPr/>
          <p:nvPr/>
        </p:nvSpPr>
        <p:spPr>
          <a:xfrm>
            <a:off x="755640" y="5229360"/>
            <a:ext cx="806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pcsolat az irányító rendszer hierarchikus szerkezete és a fizikai rendszer hierarchikus modellje közöt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183D9F7-0EE4-4AE7-9983-F03F558B099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6"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7" name=""/>
          <p:cNvGraphicFramePr/>
          <p:nvPr/>
        </p:nvGraphicFramePr>
        <p:xfrm>
          <a:off x="1835280" y="981000"/>
          <a:ext cx="6048360" cy="3803760"/>
        </p:xfrm>
        <a:graphic>
          <a:graphicData uri="http://schemas.openxmlformats.org/presentationml/2006/ole">
            <p:oleObj r:id="rId1" spid="">
              <p:embed/>
              <p:pic>
                <p:nvPicPr>
                  <p:cNvPr id="768" name="" descr=""/>
                  <p:cNvPicPr/>
                  <p:nvPr/>
                </p:nvPicPr>
                <p:blipFill>
                  <a:blip r:embed="rId2"/>
                  <a:stretch/>
                </p:blipFill>
                <p:spPr>
                  <a:xfrm>
                    <a:off x="1835280" y="981000"/>
                    <a:ext cx="6048360" cy="3803760"/>
                  </a:xfrm>
                  <a:prstGeom prst="rect">
                    <a:avLst/>
                  </a:prstGeom>
                  <a:ln w="0">
                    <a:noFill/>
                  </a:ln>
                </p:spPr>
              </p:pic>
            </p:oleObj>
          </a:graphicData>
        </a:graphic>
      </p:graphicFrame>
      <p:sp>
        <p:nvSpPr>
          <p:cNvPr id="769" name=""/>
          <p:cNvSpPr/>
          <p:nvPr/>
        </p:nvSpPr>
        <p:spPr>
          <a:xfrm>
            <a:off x="1692360" y="5157720"/>
            <a:ext cx="65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dolgozható információ részletességének és a döntéshozatali terület nagyságának összefüggé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FB7F382-3CA2-4220-A402-35DCE6C2D18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1" name="PlaceHolder 2"/>
          <p:cNvSpPr>
            <a:spLocks noGrp="1"/>
          </p:cNvSpPr>
          <p:nvPr>
            <p:ph/>
          </p:nvPr>
        </p:nvSpPr>
        <p:spPr>
          <a:xfrm>
            <a:off x="301680" y="1600200"/>
            <a:ext cx="8540640" cy="388800"/>
          </a:xfrm>
          <a:prstGeom prst="rect">
            <a:avLst/>
          </a:prstGeom>
          <a:noFill/>
          <a:ln w="0">
            <a:noFill/>
          </a:ln>
        </p:spPr>
        <p:txBody>
          <a:bodyPr lIns="90000" rIns="90000" tIns="46800" bIns="46800" anchor="t">
            <a:normAutofit/>
          </a:bodyPr>
          <a:p>
            <a:pPr marL="444600" indent="-444600">
              <a:spcBef>
                <a:spcPts val="451"/>
              </a:spcBef>
              <a:buClr>
                <a:srgbClr val="a3c145"/>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öntésközpont modell</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772" name=""/>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73" name=""/>
          <p:cNvGraphicFramePr/>
          <p:nvPr/>
        </p:nvGraphicFramePr>
        <p:xfrm>
          <a:off x="2268360" y="2060640"/>
          <a:ext cx="4505400" cy="4032360"/>
        </p:xfrm>
        <a:graphic>
          <a:graphicData uri="http://schemas.openxmlformats.org/presentationml/2006/ole">
            <p:oleObj r:id="rId1" spid="">
              <p:embed/>
              <p:pic>
                <p:nvPicPr>
                  <p:cNvPr id="774" name="" descr=""/>
                  <p:cNvPicPr/>
                  <p:nvPr/>
                </p:nvPicPr>
                <p:blipFill>
                  <a:blip r:embed="rId2"/>
                  <a:stretch/>
                </p:blipFill>
                <p:spPr>
                  <a:xfrm>
                    <a:off x="2268360" y="2060640"/>
                    <a:ext cx="4505400" cy="4032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9625BAA-E738-4274-A730-69B555EEDE4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 alapelvei</a:t>
            </a:r>
            <a:r>
              <a:rPr b="0" lang="en-US" sz="2400" spc="-1" strike="noStrike">
                <a:solidFill>
                  <a:srgbClr val="ffffff"/>
                </a:solidFill>
                <a:latin typeface="Tahoma"/>
              </a:rPr>
              <a:t> </a:t>
            </a:r>
            <a:endParaRPr b="0" lang="en-US" sz="2400" spc="-1" strike="noStrike">
              <a:solidFill>
                <a:srgbClr val="ffffff"/>
              </a:solidFill>
              <a:latin typeface="Tahoma"/>
            </a:endParaRPr>
          </a:p>
          <a:p>
            <a:pPr lvl="1" marL="1359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ő cél a tervezendő gyártórendszer támogatása a teljes életciklusára. Két alapvető, parciális megközelítést  különböztetünk meg:</a:t>
            </a:r>
            <a:endParaRPr b="0" lang="en-US" sz="18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elhasználó-orientált</a:t>
            </a:r>
            <a:br>
              <a:rPr sz="1600"/>
            </a:br>
            <a:r>
              <a:rPr b="0" lang="hu-HU" sz="1600" spc="-1" strike="noStrike">
                <a:solidFill>
                  <a:srgbClr val="ffffff"/>
                </a:solidFill>
                <a:latin typeface="Tahoma"/>
              </a:rPr>
              <a:t>lehetővé teszi, hogy a felhasználó a saját rendszer-követelményeit leíró modellt készítsen. Ezek a modellek más felhasználó számára is érthetőek és </a:t>
            </a:r>
            <a:r>
              <a:rPr b="0" i="1" lang="hu-HU" sz="1600" spc="-1" strike="noStrike">
                <a:solidFill>
                  <a:srgbClr val="ffffff"/>
                </a:solidFill>
                <a:latin typeface="Tahoma"/>
              </a:rPr>
              <a:t>négy</a:t>
            </a:r>
            <a:r>
              <a:rPr b="0" lang="hu-HU" sz="1600" spc="-1" strike="noStrike">
                <a:solidFill>
                  <a:srgbClr val="ffffff"/>
                </a:solidFill>
                <a:latin typeface="Tahoma"/>
              </a:rPr>
              <a:t> nézőpont, nevezetesen </a:t>
            </a:r>
            <a:r>
              <a:rPr b="0" i="1" lang="hu-HU" sz="1600" spc="-1" strike="noStrike">
                <a:solidFill>
                  <a:srgbClr val="ffffff"/>
                </a:solidFill>
                <a:latin typeface="Tahoma"/>
              </a:rPr>
              <a:t>döntési, informatikai, fizikai </a:t>
            </a:r>
            <a:r>
              <a:rPr b="0" lang="hu-HU" sz="1600" spc="-1" strike="noStrike">
                <a:solidFill>
                  <a:srgbClr val="ffffff"/>
                </a:solidFill>
                <a:latin typeface="Tahoma"/>
              </a:rPr>
              <a:t>és</a:t>
            </a:r>
            <a:r>
              <a:rPr b="0" i="1" lang="hu-HU" sz="1600" spc="-1" strike="noStrike">
                <a:solidFill>
                  <a:srgbClr val="ffffff"/>
                </a:solidFill>
                <a:latin typeface="Tahoma"/>
              </a:rPr>
              <a:t> funkcionális</a:t>
            </a:r>
            <a:r>
              <a:rPr b="0" lang="hu-HU" sz="1600" spc="-1" strike="noStrike">
                <a:solidFill>
                  <a:srgbClr val="ffffff"/>
                </a:solidFill>
                <a:latin typeface="Tahoma"/>
              </a:rPr>
              <a:t> nézőpont szerint kifejezettek</a:t>
            </a:r>
            <a:r>
              <a:rPr b="0" lang="en-US" sz="1600" spc="-1" strike="noStrike">
                <a:solidFill>
                  <a:srgbClr val="ffffff"/>
                </a:solidFill>
                <a:latin typeface="Tahoma"/>
              </a:rPr>
              <a:t> </a:t>
            </a:r>
            <a:endParaRPr b="0" lang="en-US" sz="16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nézőpontú</a:t>
            </a:r>
            <a:br>
              <a:rPr sz="1600"/>
            </a:br>
            <a:r>
              <a:rPr b="0" lang="hu-HU" sz="1600" spc="-1" strike="noStrike">
                <a:solidFill>
                  <a:srgbClr val="ffffff"/>
                </a:solidFill>
                <a:latin typeface="Tahoma"/>
              </a:rPr>
              <a:t>a gyártórendszer műszaki modelljéhez vezet, amely a szervezet, az információs technológia és a gyártástechnológia leírása</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0963B7-CF84-4FDB-82E0-F8B58729E9E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RAI-GIM strukturált megközelítés alapelvei</a:t>
            </a:r>
            <a:endParaRPr b="0" lang="en-US" sz="2000" spc="-1" strike="noStrike">
              <a:solidFill>
                <a:srgbClr val="ffffff"/>
              </a:solidFill>
              <a:latin typeface="Tahoma"/>
            </a:endParaRPr>
          </a:p>
        </p:txBody>
      </p:sp>
      <p:sp>
        <p:nvSpPr>
          <p:cNvPr id="77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0" name=""/>
          <p:cNvGraphicFramePr/>
          <p:nvPr/>
        </p:nvGraphicFramePr>
        <p:xfrm>
          <a:off x="1042920" y="2205000"/>
          <a:ext cx="7201080" cy="3886200"/>
        </p:xfrm>
        <a:graphic>
          <a:graphicData uri="http://schemas.openxmlformats.org/presentationml/2006/ole">
            <p:oleObj r:id="rId1" spid="">
              <p:embed/>
              <p:pic>
                <p:nvPicPr>
                  <p:cNvPr id="781" name="" descr=""/>
                  <p:cNvPicPr/>
                  <p:nvPr/>
                </p:nvPicPr>
                <p:blipFill>
                  <a:blip r:embed="rId2"/>
                  <a:stretch/>
                </p:blipFill>
                <p:spPr>
                  <a:xfrm>
                    <a:off x="1042920" y="2205000"/>
                    <a:ext cx="7201080" cy="38862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A138DAF-9019-4FB1-BB0F-4C10CE7ABEE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ezési keretrendszer</a:t>
            </a:r>
            <a:endParaRPr b="0" lang="en-US" sz="24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unkcionális dekompozíció / lebontás</a:t>
            </a:r>
            <a:endParaRPr b="0" lang="en-US" sz="2000" spc="-1" strike="noStrike">
              <a:solidFill>
                <a:srgbClr val="ffffff"/>
              </a:solidFill>
              <a:latin typeface="Tahoma"/>
            </a:endParaRPr>
          </a:p>
          <a:p>
            <a:pPr lvl="2" marL="135756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 funkcionális nézet teszi lehetővé, hogy legyen egy egyszerű modellünk, amely egy gyártórendszer fő funkcióit és a mozgásokat mutatja ezek között a funkciók között. Ezen nézetek másik előnye, hogy pontosan megadják a vizsgálati területek határait.</a:t>
            </a:r>
            <a:r>
              <a:rPr b="0" lang="en-US" sz="1800" spc="-1" strike="noStrike">
                <a:solidFill>
                  <a:srgbClr val="ffffff"/>
                </a:solidFill>
                <a:latin typeface="Tahoma"/>
              </a:rPr>
              <a:t> </a:t>
            </a:r>
            <a:endParaRPr b="0" lang="en-US" sz="18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bsztrakciós szintek</a:t>
            </a:r>
            <a:endParaRPr b="0" lang="en-US" sz="20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ceptuális (elvi) szint. Ebben semmilyen műszaki vagy szervezési megfontolás nincs, ez a legállandóbb és célja a miért? megkérdezése.</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rukturális szint. Ez a szervezési szempontokat integrálja és a ki?, mikor? és hol? kérdéseket teszi fel.</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valósítható szint. Ez a legspeciálisabb szint, mivel a vizsgált eset műszaki megszorításait integrálja és a hogyan? kérdésre igyekszik válaszol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1803B2-A829-47C0-A227-C6A2C8992B5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00"/>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odellezési formalizmusok</a:t>
            </a:r>
            <a:r>
              <a:rPr b="0" lang="en-US" sz="1600" spc="-1" strike="noStrike">
                <a:solidFill>
                  <a:srgbClr val="ffff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információs modell</a:t>
            </a:r>
            <a:br>
              <a:rPr sz="1400"/>
            </a:br>
            <a:r>
              <a:rPr b="0" lang="hu-HU" sz="1400" spc="-1" strike="noStrike">
                <a:solidFill>
                  <a:srgbClr val="ffffff"/>
                </a:solidFill>
                <a:latin typeface="Tahoma"/>
              </a:rPr>
              <a:t>Ez a szervezet természetes, stabilis adatainak és attribútumainak és kapcsolatainak a leírása, erre az Entity Relationship (egységek, lényegek/entitások viszonyai) modell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információs modell</a:t>
            </a:r>
            <a:br>
              <a:rPr sz="1400"/>
            </a:br>
            <a:r>
              <a:rPr b="0" lang="hu-HU" sz="1400" spc="-1" strike="noStrike">
                <a:solidFill>
                  <a:srgbClr val="ffffff"/>
                </a:solidFill>
                <a:latin typeface="Tahoma"/>
              </a:rPr>
              <a:t>Ez írja le az adatstruktúrákat és az adatok gépi ill. manuális elosztását. Itt is a fenti Entity Relationship modellt (egységek viszonyai)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cionális döntésmodell</a:t>
            </a:r>
            <a:br>
              <a:rPr sz="1400"/>
            </a:br>
            <a:r>
              <a:rPr b="0" lang="hu-HU" sz="1400" spc="-1" strike="noStrike">
                <a:solidFill>
                  <a:srgbClr val="ffffff"/>
                </a:solidFill>
                <a:latin typeface="Tahoma"/>
              </a:rPr>
              <a:t>Ez a döntéshozatal szerkezetének leírása, valamint a döntési szintek közötti kapcsolatoknak a leirása. Ehhez tartozik a kapcsolatok és a korlátozások analízise, az alkalmazott döntési változók leírása is. Itt az általános szinten a GRAI-rácsot, a részletes szinten a GRAI-háló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döntésmodell</a:t>
            </a:r>
            <a:br>
              <a:rPr sz="1400"/>
            </a:br>
            <a:r>
              <a:rPr b="0" lang="hu-HU" sz="1400" spc="-1" strike="noStrike">
                <a:solidFill>
                  <a:srgbClr val="ffffff"/>
                </a:solidFill>
                <a:latin typeface="Tahoma"/>
              </a:rPr>
              <a:t>Ez a döntéshozók azonosítását végzi az ő felelősségükkel és hatásköreikkel együtt. Összekapcsolja a döntéshozókat a döntéshozatali folyamattal, Az általános szinten GRAI-rácsot, a részletek szintjén GRAI-háló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fizikai modell</a:t>
            </a:r>
            <a:br>
              <a:rPr sz="1400"/>
            </a:br>
            <a:r>
              <a:rPr b="0" lang="hu-HU" sz="1400" spc="-1" strike="noStrike">
                <a:solidFill>
                  <a:srgbClr val="ffffff"/>
                </a:solidFill>
                <a:latin typeface="Tahoma"/>
              </a:rPr>
              <a:t>Ez a működéskor használt folyamatok és utak leírása. Ennek formalizmusára IDEF0 aktigrammoka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fizikai modell</a:t>
            </a:r>
            <a:br>
              <a:rPr sz="1400"/>
            </a:br>
            <a:r>
              <a:rPr b="0" lang="hu-HU" sz="1400" spc="-1" strike="noStrike">
                <a:solidFill>
                  <a:srgbClr val="ffffff"/>
                </a:solidFill>
                <a:latin typeface="Tahoma"/>
              </a:rPr>
              <a:t>Ez ad információt az időről, a megmunkáló központokról és az operátorokról. Elemeket tartalmaz a kapcsolatokról és a szinkronizációról, megjelöli, hogy ki mit tesz. Itt is az IDEF0 aktigrammokat használjá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870E1F9-0E15-4337-80F4-BDD47142C46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7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r>
              <a:rPr b="0" lang="hu-HU" sz="3200" spc="-1" strike="noStrike">
                <a:solidFill>
                  <a:srgbClr val="ffffff"/>
                </a:solidFill>
                <a:latin typeface="Tahoma"/>
              </a:rPr>
              <a:t> </a:t>
            </a:r>
            <a:endParaRPr b="0" lang="en-US" sz="3200" spc="-1" strike="noStrike">
              <a:solidFill>
                <a:srgbClr val="ffffff"/>
              </a:solidFill>
              <a:latin typeface="Tahoma"/>
            </a:endParaRPr>
          </a:p>
        </p:txBody>
      </p:sp>
      <p:sp>
        <p:nvSpPr>
          <p:cNvPr id="788"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9" name=""/>
          <p:cNvGraphicFramePr/>
          <p:nvPr/>
        </p:nvGraphicFramePr>
        <p:xfrm>
          <a:off x="826920" y="2565360"/>
          <a:ext cx="7380360" cy="2576520"/>
        </p:xfrm>
        <a:graphic>
          <a:graphicData uri="http://schemas.openxmlformats.org/presentationml/2006/ole">
            <p:oleObj r:id="rId1" spid="">
              <p:embed/>
              <p:pic>
                <p:nvPicPr>
                  <p:cNvPr id="790" name="" descr=""/>
                  <p:cNvPicPr/>
                  <p:nvPr/>
                </p:nvPicPr>
                <p:blipFill>
                  <a:blip r:embed="rId2"/>
                  <a:stretch/>
                </p:blipFill>
                <p:spPr>
                  <a:xfrm>
                    <a:off x="826920" y="2565360"/>
                    <a:ext cx="7380360" cy="2576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9FD0AAE-E82E-4479-A5F5-5C6E3A5F419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ISO 9000 szabványsorozat kiegészítésekkel</a:t>
            </a:r>
            <a:r>
              <a:rPr b="0" i="1" lang="hu-HU" sz="2000" spc="-1" strike="noStrike">
                <a:solidFill>
                  <a:srgbClr val="ffffff"/>
                </a:solidFill>
                <a:latin typeface="Tahoma"/>
              </a:rPr>
              <a:t>: </a:t>
            </a:r>
            <a:r>
              <a:rPr b="0" lang="hu-HU" sz="2000" spc="-1" strike="noStrike">
                <a:solidFill>
                  <a:srgbClr val="ffffff"/>
                </a:solidFill>
                <a:latin typeface="Tahoma"/>
              </a:rPr>
              <a:t>Az ISO 9000 szabványsorozat népszerűségét és fontosságát igazolja, hogy az elkészülte óta egyre több iparág szakmai testülete adott ki irányelveket a szabvány alkalmazásához. Számos kapcsolódó szabvány került kiadásra, amely elősegíti, teljesebbé teszi az ISO 9000 szabványsorozatot és megkönnyíti alkalmazását. A teljesség igénye nélkül ezek közül a legfontosabbak: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3:1991 szabvány irányelveket fogalmaz meg az ISO 9001 szabvány alkalmazásához a szoftverfejlesztés, -szállítás, -karbantartás feladataihoz.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2:1991 szabvány a szolgáltatási tevékenység minőségügyi vonatkozásainak hatékonyabb irányításának irányelveit tartalmazza.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3:1993 szabvány a feldolgozott anyagokhoz ad meg irányelveket a minőségirányítás szempontjáb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MSZ EN 45001 és az MSZ EN 45002 jelzésű szabványok foglalkoznak a mérőlaborok tevékenységével és a labor minősítésének (akkreditáció) általános feltételeivel.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AD0BDEE-26D2-437F-95AF-0BE1B686D4C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endParaRPr b="0" lang="en-US" sz="1800" spc="-1" strike="noStrike">
              <a:solidFill>
                <a:srgbClr val="ffffff"/>
              </a:solidFill>
              <a:latin typeface="Tahoma"/>
            </a:endParaRPr>
          </a:p>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modellek adatokkal kötődnek egymáshoz.</a:t>
            </a:r>
            <a:endParaRPr b="0" lang="en-US" sz="18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döntési alrendszer döntéseket hoz és adatokat dolgoz fel.</a:t>
            </a:r>
            <a:endParaRPr b="0" lang="en-US" sz="16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alrendszer célja a fizikai folyamatok végrehajtása, de az információs és a döntési alrendszereknek adatforrásként is működik.</a:t>
            </a:r>
            <a:endParaRPr b="0" lang="en-US" sz="1600" spc="-1" strike="noStrike">
              <a:solidFill>
                <a:srgbClr val="ffffff"/>
              </a:solidFill>
              <a:latin typeface="Tahoma"/>
            </a:endParaRPr>
          </a:p>
        </p:txBody>
      </p:sp>
      <p:sp>
        <p:nvSpPr>
          <p:cNvPr id="793"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4" name=""/>
          <p:cNvGraphicFramePr/>
          <p:nvPr/>
        </p:nvGraphicFramePr>
        <p:xfrm>
          <a:off x="684360" y="3573360"/>
          <a:ext cx="7200720" cy="1811520"/>
        </p:xfrm>
        <a:graphic>
          <a:graphicData uri="http://schemas.openxmlformats.org/presentationml/2006/ole">
            <p:oleObj r:id="rId1" spid="">
              <p:embed/>
              <p:pic>
                <p:nvPicPr>
                  <p:cNvPr id="795" name="" descr=""/>
                  <p:cNvPicPr/>
                  <p:nvPr/>
                </p:nvPicPr>
                <p:blipFill>
                  <a:blip r:embed="rId2"/>
                  <a:stretch/>
                </p:blipFill>
                <p:spPr>
                  <a:xfrm>
                    <a:off x="684360" y="3573360"/>
                    <a:ext cx="7200720" cy="1811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31D94F-A8BF-44A6-89C3-817216F61D9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6"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7" name=""/>
          <p:cNvGraphicFramePr/>
          <p:nvPr/>
        </p:nvGraphicFramePr>
        <p:xfrm>
          <a:off x="1619280" y="333360"/>
          <a:ext cx="5977080" cy="5322960"/>
        </p:xfrm>
        <a:graphic>
          <a:graphicData uri="http://schemas.openxmlformats.org/presentationml/2006/ole">
            <p:oleObj r:id="rId1" spid="">
              <p:embed/>
              <p:pic>
                <p:nvPicPr>
                  <p:cNvPr id="798" name="" descr=""/>
                  <p:cNvPicPr/>
                  <p:nvPr/>
                </p:nvPicPr>
                <p:blipFill>
                  <a:blip r:embed="rId2"/>
                  <a:stretch/>
                </p:blipFill>
                <p:spPr>
                  <a:xfrm>
                    <a:off x="1619280" y="333360"/>
                    <a:ext cx="5977080" cy="5322960"/>
                  </a:xfrm>
                  <a:prstGeom prst="rect">
                    <a:avLst/>
                  </a:prstGeom>
                  <a:ln w="0">
                    <a:noFill/>
                  </a:ln>
                </p:spPr>
              </p:pic>
            </p:oleObj>
          </a:graphicData>
        </a:graphic>
      </p:graphicFrame>
      <p:sp>
        <p:nvSpPr>
          <p:cNvPr id="799" name=""/>
          <p:cNvSpPr/>
          <p:nvPr/>
        </p:nvSpPr>
        <p:spPr>
          <a:xfrm>
            <a:off x="1403280" y="5661000"/>
            <a:ext cx="640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konceptuális döntési modell és a fizikai konceptuális modell közötti validására adatok segítségéve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9EA973EE-5611-4C0F-AF45-53621528A38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strukturált megközelítés</a:t>
            </a:r>
            <a:r>
              <a:rPr b="0" lang="en-US" sz="2400" spc="-1" strike="noStrike">
                <a:solidFill>
                  <a:srgbClr val="ffffff"/>
                </a:solidFill>
                <a:latin typeface="Tahoma"/>
              </a:rPr>
              <a:t> </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övendő rendszer felhasználói követelményrendszere szerint a GRAI-GIM célja a rendszerspecifikáció a szervezés, IT és gyártás fogalmai szerint, olymódon, hogy annak alapján a felhasználó felépíthesse az így meghatározott új rendszert.</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zen módszer által javasolt strukturált megközelítésnek </a:t>
            </a:r>
            <a:r>
              <a:rPr b="0" i="1" lang="hu-HU" sz="2000" spc="-1" strike="noStrike">
                <a:solidFill>
                  <a:srgbClr val="ffffff"/>
                </a:solidFill>
                <a:latin typeface="Tahoma"/>
              </a:rPr>
              <a:t>négy</a:t>
            </a:r>
            <a:r>
              <a:rPr b="0" lang="hu-HU" sz="2000" spc="-1" strike="noStrike">
                <a:solidFill>
                  <a:srgbClr val="ffffff"/>
                </a:solidFill>
                <a:latin typeface="Tahoma"/>
              </a:rPr>
              <a:t> alapvető fázisa van: </a:t>
            </a:r>
            <a:endParaRPr b="0" lang="en-US" sz="20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kezdeményez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nalízi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vezés 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gvalósítás. </a:t>
            </a:r>
            <a:endParaRPr b="0" lang="en-US" sz="16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 egyik fő előnye az, hogy a tervezés fázisát két alfázisra bontja: felhasználó-orientált és műszakilag orientált tervezés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FFA544C-AE8A-4094-881E-4857AC85B2A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2987640" y="189000"/>
            <a:ext cx="4151520" cy="5984640"/>
          </a:xfrm>
          <a:prstGeom prst="rect">
            <a:avLst/>
          </a:prstGeom>
          <a:ln w="0">
            <a:noFill/>
          </a:ln>
        </p:spPr>
      </p:pic>
      <p:sp>
        <p:nvSpPr>
          <p:cNvPr id="803" name=""/>
          <p:cNvSpPr/>
          <p:nvPr/>
        </p:nvSpPr>
        <p:spPr>
          <a:xfrm>
            <a:off x="395280" y="537372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4C45245-2A0E-4C94-AB87-F2648111E8F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90000"/>
              </a:lnSpc>
              <a:spcBef>
                <a:spcPts val="700"/>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kezdeményezési fázis</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nyolc fő lépése van:</a:t>
            </a:r>
            <a:endParaRPr b="0" lang="en-US" sz="28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llalat általános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bemutatása a vállalatvezetőknek</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a területéne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ózis</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ezdeményezési mérföldkő</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ában résztvevő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észtvevők oktat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kező fázis tervei és forrása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E55CC85-AA61-4E22-AD38-03804721EE6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fázis</a:t>
            </a:r>
            <a:endParaRPr b="0" lang="en-US" sz="28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bben határozzuk meg a rendszer fő jellemzőit, valamint az interfészeket más funkciókkal, mint pl. a kereskedelmi vagy pénzügyi részlegekkel.</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alízis elsősorban a négy nézőpont szerinti modellezést jelenti. Ezek </a:t>
            </a:r>
            <a:r>
              <a:rPr b="0" i="1" lang="hu-HU" sz="2400" spc="-1" strike="noStrike">
                <a:solidFill>
                  <a:srgbClr val="ffffff"/>
                </a:solidFill>
                <a:latin typeface="Tahoma"/>
              </a:rPr>
              <a:t>a funkcionális, döntési, információs</a:t>
            </a:r>
            <a:r>
              <a:rPr b="0" lang="hu-HU" sz="2400" spc="-1" strike="noStrike">
                <a:solidFill>
                  <a:srgbClr val="ffffff"/>
                </a:solidFill>
                <a:latin typeface="Tahoma"/>
              </a:rPr>
              <a:t> és a </a:t>
            </a:r>
            <a:r>
              <a:rPr b="0" i="1" lang="hu-HU" sz="2400" spc="-1" strike="noStrike">
                <a:solidFill>
                  <a:srgbClr val="ffffff"/>
                </a:solidFill>
                <a:latin typeface="Tahoma"/>
              </a:rPr>
              <a:t>fizikai</a:t>
            </a:r>
            <a:r>
              <a:rPr b="0" lang="hu-HU" sz="2400" spc="-1" strike="noStrike">
                <a:solidFill>
                  <a:srgbClr val="ffffff"/>
                </a:solidFill>
                <a:latin typeface="Tahoma"/>
              </a:rPr>
              <a:t> nézetek. Az előzőekben megadott modellezési eszközöket alkalmazzuk, mint az IDEF0, a GRAI-háló, a GRAI-rács, és az Entity relationship eszközök.</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CB4880-3EC5-463F-AC45-03E1B7A8C2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601"/>
              </a:spcBef>
              <a:buClr>
                <a:srgbClr val="a3c145"/>
              </a:buClr>
              <a:buSzPct val="80000"/>
              <a:buFont typeface="Tahoma"/>
              <a:buAutoNum type="arabicPeriod" startAt="10"/>
              <a:tabLst>
                <a:tab algn="l" pos="990720"/>
                <a:tab algn="l" pos="1079640"/>
                <a:tab algn="l" pos="2158920"/>
                <a:tab algn="l" pos="3238560"/>
                <a:tab algn="l" pos="4317840"/>
                <a:tab algn="l" pos="5397480"/>
                <a:tab algn="l" pos="6477120"/>
                <a:tab algn="l" pos="7556400"/>
                <a:tab algn="l" pos="8636040"/>
                <a:tab algn="l" pos="9715680"/>
                <a:tab algn="l" pos="10794960"/>
              </a:tabLst>
            </a:pPr>
            <a:r>
              <a:rPr b="0" lang="hu-HU" sz="2400" spc="-1" strike="noStrike">
                <a:solidFill>
                  <a:srgbClr val="ffffff"/>
                </a:solidFill>
                <a:latin typeface="Tahoma"/>
              </a:rPr>
              <a:t>Tervezési fázis</a:t>
            </a:r>
            <a:endParaRPr b="0" lang="en-US" sz="24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analízis után és a műszaki tervezés megkezdése előtt az erre ható összes bemenetet újra kell fogalmazni.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Ha már formalizáltuk a rendszert, felfedtük az esetleges ellentmondásokat és tudjuk a vállalat céljait, akkor kezdődhet a két részre bontott tervezés.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első rész a négy szempont szerinti felhasználó orientált tervezés, aminek validáljuk az eredményeit, és az eredmény a felhasználó orientált specifikáció.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 gyártás, szervezés és IT szakemberei ennek alapján kezdik a műszaki tervezést, aminek eredménye az új rendszer műszaki specifikációja, amire alapozva már lehet komponenseket válogatni (gépek, számítógépek, szoftver csomagok, adatbázisok, emberi erőforrások, stb.) a piacon, vagy saját fejlesztésben, és ezután lehet a rendszert implementáln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70AAC5C-30E7-41D2-BCA3-D4CF0B161D9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mplementációs fázis</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Ez három alfeladatra bontható:</a:t>
            </a:r>
            <a:endParaRPr b="0" lang="en-US" sz="24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források felállítása és a felhasználók oktatás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készületek az új rendszer indításár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rendszer teljes működtetése.</a:t>
            </a:r>
            <a:endParaRPr b="0" lang="en-US" sz="16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Nagy gond a jó átmenet biztosítása az esetleges meglévő régi rendszerről, amelynek működését csak a minimális mértékben szabad zavar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4E0E37-8DB8-4B19-9EE9-4C2E417A714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ERA módszertan</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A</a:t>
            </a:r>
            <a:r>
              <a:rPr b="0" lang="en-US" sz="2800" spc="-1" strike="noStrike">
                <a:solidFill>
                  <a:srgbClr val="ffffff"/>
                </a:solidFill>
                <a:latin typeface="Tahoma"/>
              </a:rPr>
              <a:t> - Purdue Enterprise Reference Architecture.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urdue referencia architektúra szerkezete</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cepció és a definíciós rétegek, vagy fázisok leírása</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mplementációs kézikönyv</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0919C16-C565-497C-B360-E16C64CD308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4"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5" name=""/>
          <p:cNvGraphicFramePr/>
          <p:nvPr/>
        </p:nvGraphicFramePr>
        <p:xfrm>
          <a:off x="1835280" y="476280"/>
          <a:ext cx="5499000" cy="5308560"/>
        </p:xfrm>
        <a:graphic>
          <a:graphicData uri="http://schemas.openxmlformats.org/presentationml/2006/ole">
            <p:oleObj r:id="rId1" spid="">
              <p:embed/>
              <p:pic>
                <p:nvPicPr>
                  <p:cNvPr id="816" name="" descr=""/>
                  <p:cNvPicPr/>
                  <p:nvPr/>
                </p:nvPicPr>
                <p:blipFill>
                  <a:blip r:embed="rId2"/>
                  <a:stretch/>
                </p:blipFill>
                <p:spPr>
                  <a:xfrm>
                    <a:off x="1835280" y="476280"/>
                    <a:ext cx="5499000" cy="5308560"/>
                  </a:xfrm>
                  <a:prstGeom prst="rect">
                    <a:avLst/>
                  </a:prstGeom>
                  <a:ln w="0">
                    <a:noFill/>
                  </a:ln>
                </p:spPr>
              </p:pic>
            </p:oleObj>
          </a:graphicData>
        </a:graphic>
      </p:graphicFrame>
      <p:sp>
        <p:nvSpPr>
          <p:cNvPr id="817" name=""/>
          <p:cNvSpPr/>
          <p:nvPr/>
        </p:nvSpPr>
        <p:spPr>
          <a:xfrm>
            <a:off x="1763640" y="5805360"/>
            <a:ext cx="56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urdue referencia architektúra szerkezet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18023FD-E9BC-4F1C-BA23-62DD51CCFEF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HACCP rendszer:</a:t>
            </a:r>
            <a:r>
              <a:rPr b="0" lang="hu-HU" sz="1600" spc="-1" strike="noStrike">
                <a:solidFill>
                  <a:srgbClr val="ffffff"/>
                </a:solidFill>
                <a:latin typeface="Tahoma"/>
              </a:rPr>
              <a:t> Az élelmiszeriparban a termékbiztonság az elsődleges követelmény, ennek maximalizálására dolgozták ki a HACCP (Hazard Analysis Control Point, magyarul Veszélyelemzés, Kritikus Szabályozási Pont) módszert. E módszer hét alapelvre épül, hogy egy olyan szisztematikus vezetési módszert adjon annak érdekében, hogy az élelmiszerek és/vagy az előállítási technológia biztonságát folyamatosan és megelőző jelleggel biztosítani lehessen. A HACCP strukturált megelőző rendszer a termékbiztonság érdekében a veszélyek azonosítására, értékelésére és kezelésére.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QS 9000 előírás rendszer :</a:t>
            </a:r>
            <a:r>
              <a:rPr b="0" i="1" lang="hu-HU" sz="1600" spc="-1" strike="noStrike">
                <a:solidFill>
                  <a:srgbClr val="ffffff"/>
                </a:solidFill>
                <a:latin typeface="Tahoma"/>
              </a:rPr>
              <a:t> </a:t>
            </a:r>
            <a:r>
              <a:rPr b="0" lang="hu-HU" sz="1600" spc="-1" strike="noStrike">
                <a:solidFill>
                  <a:srgbClr val="ffffff"/>
                </a:solidFill>
                <a:latin typeface="Tahoma"/>
              </a:rPr>
              <a:t>A három nagy amerikai autógyár - General Motors, Ford, Chrysler - által az ISO 9000 szabványsorozat alapján kifejlesztett előírás rendszer, melyet az első szintű beszállítóiknak kell kiépíteni. Az előírás-rendszer alapvető célja olyan minőségügyi rendszer kiépítése, amelynek alapvető céljai a gyártási folyamatok folyamatos javítása, kiemelten a selejt és a szórás csökkentése a teljes termelői láncban.</a:t>
            </a:r>
            <a:br>
              <a:rPr sz="1600"/>
            </a:br>
            <a:r>
              <a:rPr b="0" lang="hu-HU" sz="1600" spc="-1" strike="noStrike">
                <a:solidFill>
                  <a:srgbClr val="ffffff"/>
                </a:solidFill>
                <a:latin typeface="Tahoma"/>
              </a:rPr>
              <a:t>A szabvány három fő részből áll. Az első részben az ISO 9000 szabványra alapuló követelmények találhatók speciális kiegészítésekkel. E rész sok konkrét előírást tartalmaz az alkalmazó minőségügyi rendszerére vonatkozóan. A QS 9000 szabvány nagymértékben támaszkodik adatokra, és az adatokból levont következtetésekre, döntésekre, melyekhez a statisztikai módszerek széles tárháza kerül felhasználásra. A második rész az autóiparra vonatkozó szektor specifikus kiegészítéseket tartalmazza. A szabvány harmadik része a vevő (vásárló) specifikus rész. Itt vevőnként kell más-más előírásokat figyelembe ven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1EEC0A4-CFA3-45CC-957A-14FD5596EE2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8" name=""/>
          <p:cNvSpPr/>
          <p:nvPr/>
        </p:nvSpPr>
        <p:spPr>
          <a:xfrm>
            <a:off x="0" y="9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9" name=""/>
          <p:cNvGraphicFramePr/>
          <p:nvPr/>
        </p:nvGraphicFramePr>
        <p:xfrm>
          <a:off x="1692360" y="260280"/>
          <a:ext cx="5859360" cy="5329440"/>
        </p:xfrm>
        <a:graphic>
          <a:graphicData uri="http://schemas.openxmlformats.org/presentationml/2006/ole">
            <p:oleObj r:id="rId1" spid="">
              <p:embed/>
              <p:pic>
                <p:nvPicPr>
                  <p:cNvPr id="820" name="" descr=""/>
                  <p:cNvPicPr/>
                  <p:nvPr/>
                </p:nvPicPr>
                <p:blipFill>
                  <a:blip r:embed="rId2"/>
                  <a:stretch/>
                </p:blipFill>
                <p:spPr>
                  <a:xfrm>
                    <a:off x="1692360" y="260280"/>
                    <a:ext cx="5859360" cy="5329440"/>
                  </a:xfrm>
                  <a:prstGeom prst="rect">
                    <a:avLst/>
                  </a:prstGeom>
                  <a:ln w="0">
                    <a:noFill/>
                  </a:ln>
                </p:spPr>
              </p:pic>
            </p:oleObj>
          </a:graphicData>
        </a:graphic>
      </p:graphicFrame>
      <p:sp>
        <p:nvSpPr>
          <p:cNvPr id="821" name=""/>
          <p:cNvSpPr/>
          <p:nvPr/>
        </p:nvSpPr>
        <p:spPr>
          <a:xfrm>
            <a:off x="1692360" y="573408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efiníciós rétegek komponensei és koncepciói</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CAFD54A7-D242-4A05-AF98-543F139371B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RAM</a:t>
            </a:r>
            <a:r>
              <a:rPr b="0" lang="en-US" sz="2400" spc="-1" strike="noStrike">
                <a:solidFill>
                  <a:srgbClr val="ffffff"/>
                </a:solidFill>
                <a:latin typeface="Tahoma"/>
              </a:rPr>
              <a:t>: Generalised Enterprise Reference Architecture and Methodology </a:t>
            </a:r>
            <a:endParaRPr b="0" lang="en-US" sz="24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RAM nem egy konkurens rendszer az előzőekhez képest, hanem egy olyan közös, általános referencia keretrendszer, amelyen mindegyik előző architektúra és modellezési rendszer használható, ha azokat ennek megfelelően módosítják, kiegészíti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rendszer fejlesztői komoly erőfeszítésekkel bizonyították, hogy rendszerük megfelel a GERAM követelményeine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emzetközi szabványszervezet, az ISO tervezi a GERAM-nak, mint vállalati referencia modell architektúrának a szabvánnyá tételét (a GERAM v1.6.2 verzióját beterjesztették az ISO 15704, „Vállalati referencia architektúrák és metodológiák követelményei” c.  szabvány függelékeké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D0BCD3-A0A5-4EA2-A541-C839CD57E76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endParaRPr b="0" lang="en-US" sz="4000" spc="-1" strike="noStrike">
              <a:solidFill>
                <a:srgbClr val="ffffcc"/>
              </a:solidFill>
              <a:latin typeface="Tahoma"/>
            </a:endParaRPr>
          </a:p>
        </p:txBody>
      </p:sp>
      <p:sp>
        <p:nvSpPr>
          <p:cNvPr id="8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i referencia architektúra (GERA)</a:t>
            </a:r>
            <a:br>
              <a:rPr sz="1600"/>
            </a:br>
            <a:r>
              <a:rPr b="0" lang="hu-HU" sz="1600" spc="-1" strike="noStrike">
                <a:solidFill>
                  <a:srgbClr val="ffffff"/>
                </a:solidFill>
                <a:latin typeface="Tahoma"/>
              </a:rPr>
              <a:t>Ez egy olyan leírás, amely összegyűjti és rendszerezi mindazon elveket, amelyek szükségesek, hogy megadjuk egy gép/berendezés, rendszer vagy vállalat szerkezetét, elemeit, összefüggéseit és fontos tulajdonságait. A GERA elsősorban  a vállalat életciklusára koncentrá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 tervezési módszertan (GEEM)</a:t>
            </a:r>
            <a:br>
              <a:rPr sz="1600"/>
            </a:br>
            <a:r>
              <a:rPr b="0" lang="hu-HU" sz="1600" spc="-1" strike="noStrike">
                <a:solidFill>
                  <a:srgbClr val="ffffff"/>
                </a:solidFill>
                <a:latin typeface="Tahoma"/>
              </a:rPr>
              <a:t>Ez a vállalatintegrálás általános leírására szolgáló részletes folyamatmodell utasításokkal az integráló projekt minden lépésére. Egyidejűleg számos vetélkedő vagy speciális módszertan tartozhat a GEEM-b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modellező eszközök és nyelvek (GEMT&amp;L)</a:t>
            </a:r>
            <a:br>
              <a:rPr sz="1600"/>
            </a:br>
            <a:r>
              <a:rPr b="0" lang="hu-HU" sz="1600" spc="-1" strike="noStrike">
                <a:solidFill>
                  <a:srgbClr val="ffffff"/>
                </a:solidFill>
                <a:latin typeface="Tahoma"/>
              </a:rPr>
              <a:t>Általában egy vállalat leírására több modellezési nyelvre, többfajta modellre van szükség az integrált vállalat bonyolultsága és multidiszciplinaritása miat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modell-építés tesztelt komponensei</a:t>
            </a:r>
            <a:br>
              <a:rPr sz="1600"/>
            </a:br>
            <a:r>
              <a:rPr b="0" lang="hu-HU" sz="1600" spc="-1" strike="noStrike">
                <a:solidFill>
                  <a:srgbClr val="ffffff"/>
                </a:solidFill>
                <a:latin typeface="Tahoma"/>
              </a:rPr>
              <a:t>Ezeknek két fő kategóriája van:</a:t>
            </a:r>
            <a:endParaRPr b="0" lang="en-US" sz="16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modellek (GEM), ill. vállalatmodellek (EM)</a:t>
            </a:r>
            <a:br>
              <a:rPr sz="1400"/>
            </a:br>
            <a:r>
              <a:rPr b="0" lang="hu-HU" sz="1400" spc="-1" strike="noStrike">
                <a:solidFill>
                  <a:srgbClr val="ffffff"/>
                </a:solidFill>
                <a:latin typeface="Tahoma"/>
              </a:rPr>
              <a:t>Ezek az összes vállalatra nézve közös elveket tartalmazzák, emiatt a tervezésben mint újrafelhasználás jelentkeznek. Ide tartoznak még az ontológiai elméletek, amelyek modellezési elveket írnak le a vállalatok alapvető elveivel és tulajdonságaival kapcsolatban.</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 modulok (GM)</a:t>
            </a:r>
            <a:br>
              <a:rPr sz="1400"/>
            </a:br>
            <a:r>
              <a:rPr b="0" lang="hu-HU" sz="1400" spc="-1" strike="noStrike">
                <a:solidFill>
                  <a:srgbClr val="ffffff"/>
                </a:solidFill>
                <a:latin typeface="Tahoma"/>
              </a:rPr>
              <a:t>Ezek a vállalatintegrálásban használható termékek, amelyeket vagy az integrációs projekt, vagy maga a vállalat használ fel. Az egyedi vállalati igények az általános modulok megfelelő konfigurációjával létesíthetők.</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35B760-33C3-40FC-B31F-40A6A1E9142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4360" y="1557360"/>
            <a:ext cx="7772400" cy="2597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terméktervezés minőségalkotási stratégiája és módszerei</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E4120636-4EF5-4505-AAEC-8D2C39B7A55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 tartalmi lényege és megvalósulási formá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vezés</a:t>
            </a:r>
            <a:r>
              <a:rPr b="0" lang="hu-HU" sz="2000" spc="-1" strike="noStrike">
                <a:solidFill>
                  <a:srgbClr val="ffffff"/>
                </a:solidFill>
                <a:latin typeface="Tahoma"/>
              </a:rPr>
              <a:t> szó a magyar nyelvben nagy gyakorisággal használ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a:t>
            </a:r>
            <a:r>
              <a:rPr b="0" i="1" lang="hu-HU" sz="2000" spc="-1" strike="noStrike">
                <a:solidFill>
                  <a:srgbClr val="ffffff"/>
                </a:solidFill>
                <a:latin typeface="Tahoma"/>
              </a:rPr>
              <a:t>rendeltetése alapján</a:t>
            </a:r>
            <a:r>
              <a:rPr b="0" lang="hu-HU" sz="2000" spc="-1" strike="noStrike">
                <a:solidFill>
                  <a:srgbClr val="ffffff"/>
                </a:solidFill>
                <a:latin typeface="Tahoma"/>
              </a:rPr>
              <a:t> olyan kreatív tevékenység-együttes, amely - általános értelmezésben - lehetővé teszi a társadalmi vagy egyéni igény-kielégítés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Ismeretelméleti megközelítésben</a:t>
            </a:r>
            <a:r>
              <a:rPr b="0" lang="hu-HU" sz="2000" spc="-1" strike="noStrike">
                <a:solidFill>
                  <a:srgbClr val="ffffff"/>
                </a:solidFill>
                <a:latin typeface="Tahoma"/>
              </a:rPr>
              <a:t> a tervezés </a:t>
            </a:r>
            <a:r>
              <a:rPr b="0" i="1" lang="hu-HU" sz="2000" spc="-1" strike="noStrike">
                <a:solidFill>
                  <a:srgbClr val="ffffff"/>
                </a:solidFill>
                <a:latin typeface="Tahoma"/>
              </a:rPr>
              <a:t>tudományos alapokra támaszkodó, </a:t>
            </a:r>
            <a:r>
              <a:rPr b="0" lang="hu-HU" sz="2000" spc="-1" strike="noStrike">
                <a:solidFill>
                  <a:srgbClr val="ffffff"/>
                </a:solidFill>
                <a:latin typeface="Tahoma"/>
              </a:rPr>
              <a:t>ugyanakkor alapvetően</a:t>
            </a:r>
            <a:r>
              <a:rPr b="0" i="1" lang="hu-HU" sz="2000" spc="-1" strike="noStrike">
                <a:solidFill>
                  <a:srgbClr val="ffffff"/>
                </a:solidFill>
                <a:latin typeface="Tahoma"/>
              </a:rPr>
              <a:t> technológiai ismérvekkel és jellemzőkkel rendelkező </a:t>
            </a:r>
            <a:r>
              <a:rPr b="0" lang="hu-HU" sz="2000" spc="-1" strike="noStrike">
                <a:solidFill>
                  <a:srgbClr val="ffffff"/>
                </a:solidFill>
                <a:latin typeface="Tahoma"/>
              </a:rPr>
              <a:t>folyam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Technológia-orientált</a:t>
            </a:r>
            <a:r>
              <a:rPr b="0" lang="hu-HU" sz="2000" spc="-1" strike="noStrike">
                <a:solidFill>
                  <a:srgbClr val="ffffff"/>
                </a:solidFill>
                <a:latin typeface="Tahoma"/>
              </a:rPr>
              <a:t> felfogás szerint a tervezés, hasonlóan az egyéb technológiákhoz, </a:t>
            </a:r>
            <a:r>
              <a:rPr b="0" i="1" lang="hu-HU" sz="2000" spc="-1" strike="noStrike">
                <a:solidFill>
                  <a:srgbClr val="ffffff"/>
                </a:solidFill>
                <a:latin typeface="Tahoma"/>
              </a:rPr>
              <a:t>adott szubsztanciát</a:t>
            </a:r>
            <a:r>
              <a:rPr b="0" lang="hu-HU" sz="2000" spc="-1" strike="noStrike">
                <a:solidFill>
                  <a:srgbClr val="ffffff"/>
                </a:solidFill>
                <a:latin typeface="Tahoma"/>
              </a:rPr>
              <a:t> (ismeretet, illetve információt) </a:t>
            </a:r>
            <a:r>
              <a:rPr b="0" i="1" lang="hu-HU" sz="2000" spc="-1" strike="noStrike">
                <a:solidFill>
                  <a:srgbClr val="ffffff"/>
                </a:solidFill>
                <a:latin typeface="Tahoma"/>
              </a:rPr>
              <a:t>specifikus erőforrások</a:t>
            </a:r>
            <a:r>
              <a:rPr b="0" lang="hu-HU" sz="2000" spc="-1" strike="noStrike">
                <a:solidFill>
                  <a:srgbClr val="ffffff"/>
                </a:solidFill>
                <a:latin typeface="Tahoma"/>
              </a:rPr>
              <a:t> (emberi és tárgyi) és </a:t>
            </a:r>
            <a:r>
              <a:rPr b="0" i="1" lang="hu-HU" sz="2000" spc="-1" strike="noStrike">
                <a:solidFill>
                  <a:srgbClr val="ffffff"/>
                </a:solidFill>
                <a:latin typeface="Tahoma"/>
              </a:rPr>
              <a:t>célorientált módszertan</a:t>
            </a:r>
            <a:r>
              <a:rPr b="0" lang="hu-HU" sz="2000" spc="-1" strike="noStrike">
                <a:solidFill>
                  <a:srgbClr val="ffffff"/>
                </a:solidFill>
                <a:latin typeface="Tahoma"/>
              </a:rPr>
              <a:t> (tervezésmódszertan) alkalmazásával dolgoz fel. Technológiai felfogásban a tervezés erős hasonlóságot mutat az egyéb anyag-, energia- és információ-feldolgozásra irányuló technológiákka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lényegét alkalmazási területe és irányultsága is kifejezi, pl.: gépészeti, villamos, elektronikai, építészet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580542-8ED5-4C1F-AFAF-14B93A5BE9A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épészeti tervezés irányultsági terület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0" name=""/>
          <p:cNvSpPr/>
          <p:nvPr/>
        </p:nvSpPr>
        <p:spPr>
          <a:xfrm>
            <a:off x="0" y="18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31" name=""/>
          <p:cNvGraphicFramePr/>
          <p:nvPr/>
        </p:nvGraphicFramePr>
        <p:xfrm>
          <a:off x="1763640" y="1484280"/>
          <a:ext cx="5472360" cy="4649760"/>
        </p:xfrm>
        <a:graphic>
          <a:graphicData uri="http://schemas.openxmlformats.org/presentationml/2006/ole">
            <p:oleObj r:id="rId1" spid="">
              <p:embed/>
              <p:pic>
                <p:nvPicPr>
                  <p:cNvPr id="832" name="" descr=""/>
                  <p:cNvPicPr/>
                  <p:nvPr/>
                </p:nvPicPr>
                <p:blipFill>
                  <a:blip r:embed="rId2"/>
                  <a:stretch/>
                </p:blipFill>
                <p:spPr>
                  <a:xfrm>
                    <a:off x="1763640" y="1484280"/>
                    <a:ext cx="5472360" cy="4649760"/>
                  </a:xfrm>
                  <a:prstGeom prst="rect">
                    <a:avLst/>
                  </a:prstGeom>
                  <a:ln w="0">
                    <a:noFill/>
                  </a:ln>
                </p:spPr>
              </p:pic>
            </p:oleObj>
          </a:graphicData>
        </a:graphic>
      </p:graphicFrame>
      <p:sp>
        <p:nvSpPr>
          <p:cNvPr id="833" name=""/>
          <p:cNvSpPr/>
          <p:nvPr/>
        </p:nvSpPr>
        <p:spPr>
          <a:xfrm>
            <a:off x="0" y="504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07DD648-A25B-402B-9D33-B47644B539D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ezen belül a terméktervezés, a társadalmi igény-kielégítési folyamat egyik tényezőj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lehetővé teszi a fogyasztást kielégítő termelés megvalósítását, vállalkozásra alapozott gazdasági tevékenységek formájába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a:t>
            </a:r>
            <a:r>
              <a:rPr b="0" i="1" lang="hu-HU" sz="1800" spc="-1" strike="noStrike">
                <a:solidFill>
                  <a:srgbClr val="ffffff"/>
                </a:solidFill>
                <a:latin typeface="Tahoma"/>
              </a:rPr>
              <a:t>innováció</a:t>
            </a:r>
            <a:r>
              <a:rPr b="0" lang="hu-HU" sz="1800" spc="-1" strike="noStrike">
                <a:solidFill>
                  <a:srgbClr val="ffffff"/>
                </a:solidFill>
                <a:latin typeface="Tahoma"/>
              </a:rPr>
              <a:t>t valósít meg azon keresztül, hogy új fogyasztási és beruházási termékeket hoz létre, illetve ehhez új módszereket, eszközöket, eljárásokat dolgoz k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keretében megvalósuló innováció a fejlesztésen keresztül a minőség megvalósításának stratégiai eszköze, egyben a gazdasági siker feltéte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tervezésnek a teljes társadalmi igény-kielégítési folyamatot kell figyelembe venni, azaz a termék termelési folyamatának és fogyasztási folyamatának kölcsönhatásában kell a termékleíró információkat megragadn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leíró információk megragadásának eszköze a </a:t>
            </a:r>
            <a:r>
              <a:rPr b="0" i="1" lang="hu-HU" sz="1800" spc="-1" strike="noStrike">
                <a:solidFill>
                  <a:srgbClr val="ffffff"/>
                </a:solidFill>
                <a:latin typeface="Tahoma"/>
              </a:rPr>
              <a:t>termékmodell</a:t>
            </a:r>
            <a:r>
              <a:rPr b="0" lang="hu-HU" sz="1800" spc="-1" strike="noStrike">
                <a:solidFill>
                  <a:srgbClr val="ffffff"/>
                </a:solidFill>
                <a:latin typeface="Tahoma"/>
              </a:rPr>
              <a:t>, amely a termék életpályája minőségügyi feltételeinek kielégítését szolgáló informatikai koncepció.</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B9161D0-6D01-4FCB-8FF2-AB0E819D275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endParaRPr b="0" lang="en-US" sz="4000" spc="-1" strike="noStrike">
              <a:solidFill>
                <a:srgbClr val="ffffcc"/>
              </a:solidFill>
              <a:latin typeface="Tahoma"/>
            </a:endParaRPr>
          </a:p>
        </p:txBody>
      </p:sp>
      <p:sp>
        <p:nvSpPr>
          <p:cNvPr id="8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minőség tervezésének három lényeges általános eleme van:</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koncepciók funkcionális szempontú fejlesztéséne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gazdasági érték szempontú fejlesztésének, 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i használati igények figyelembevétele fejlesztésének stratégiája. </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 minőségtervezése összekapcsolódik a technológia, a termelőrendszer, valamint a termelőrendszer létesítésének minőségtervezésével. </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minőségbiztosítása a tervezési technológia legmagasabb formájának alkalmazását tételezi f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37655A-315B-4BE0-9853-6C8B62DA815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 hozzájárulása a megfelelőséghez és a minőséghez</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létrejötte és megtartása érdekében erőfeszítéseket kell tenni</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lasszikus értelmezésben a minőségügy feladatának a </a:t>
            </a:r>
            <a:r>
              <a:rPr b="0" i="1" lang="hu-HU" sz="2000" spc="-1" strike="noStrike">
                <a:solidFill>
                  <a:srgbClr val="ffffff"/>
                </a:solidFill>
                <a:latin typeface="Tahoma"/>
              </a:rPr>
              <a:t>minőség biztosítását</a:t>
            </a:r>
            <a:r>
              <a:rPr b="0" lang="hu-HU" sz="2000" spc="-1" strike="noStrike">
                <a:solidFill>
                  <a:srgbClr val="ffffff"/>
                </a:solidFill>
                <a:latin typeface="Tahoma"/>
              </a:rPr>
              <a:t>, vagyis a nem minőségi termékek kibocsátásának megakadályozását, és a minőség-elérés normatív eszközökkel befolyásolható feltételrendszerének megteremtését és alkalmazását, a </a:t>
            </a:r>
            <a:r>
              <a:rPr b="0" i="1" lang="hu-HU" sz="2000" spc="-1" strike="noStrike">
                <a:solidFill>
                  <a:srgbClr val="ffffff"/>
                </a:solidFill>
                <a:latin typeface="Tahoma"/>
              </a:rPr>
              <a:t>minőségszabályozást</a:t>
            </a:r>
            <a:r>
              <a:rPr b="0" lang="hu-HU" sz="2000" spc="-1" strike="noStrike">
                <a:solidFill>
                  <a:srgbClr val="ffffff"/>
                </a:solidFill>
                <a:latin typeface="Tahoma"/>
              </a:rPr>
              <a:t> tekintik.</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t </a:t>
            </a:r>
            <a:r>
              <a:rPr b="0" i="1" lang="hu-HU" sz="2000" spc="-1" strike="noStrike">
                <a:solidFill>
                  <a:srgbClr val="ffffff"/>
                </a:solidFill>
                <a:latin typeface="Tahoma"/>
              </a:rPr>
              <a:t>minőségalkotó tevékenységnek</a:t>
            </a:r>
            <a:r>
              <a:rPr b="0" lang="hu-HU" sz="2000" spc="-1" strike="noStrike">
                <a:solidFill>
                  <a:srgbClr val="ffffff"/>
                </a:solidFill>
                <a:latin typeface="Tahoma"/>
              </a:rPr>
              <a:t> nevezzük, és ennek kapcsán a korábbi fogalmak mellett szükségszerű</a:t>
            </a:r>
            <a:r>
              <a:rPr b="0" i="1" lang="hu-HU" sz="2000" spc="-1" strike="noStrike">
                <a:solidFill>
                  <a:srgbClr val="ffffff"/>
                </a:solidFill>
                <a:latin typeface="Tahoma"/>
              </a:rPr>
              <a:t> minőségalkotásról</a:t>
            </a:r>
            <a:r>
              <a:rPr b="0" lang="hu-HU" sz="2000" spc="-1" strike="noStrike">
                <a:solidFill>
                  <a:srgbClr val="ffffff"/>
                </a:solidFill>
                <a:latin typeface="Tahoma"/>
              </a:rPr>
              <a:t> beszél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és -szabályozás </a:t>
            </a:r>
            <a:r>
              <a:rPr b="0" i="1" lang="hu-HU" sz="2000" spc="-1" strike="noStrike">
                <a:solidFill>
                  <a:srgbClr val="ffffff"/>
                </a:solidFill>
                <a:latin typeface="Tahoma"/>
              </a:rPr>
              <a:t>minőségmegtartási</a:t>
            </a:r>
            <a:r>
              <a:rPr b="0" lang="hu-HU" sz="2000" spc="-1" strike="noStrike">
                <a:solidFill>
                  <a:srgbClr val="ffffff"/>
                </a:solidFill>
                <a:latin typeface="Tahoma"/>
              </a:rPr>
              <a:t> céljait csak akkor képes megvalósítani, ha a minőségalkotási folyamat során a termékbe ténylegesen beépültek a minőséget biztosító tulajdonságok.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4EC758D-404E-4DFE-840A-448011AB3EC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alkotás</a:t>
            </a:r>
            <a:endParaRPr b="0" lang="en-US" sz="4400" spc="-1" strike="noStrike">
              <a:solidFill>
                <a:srgbClr val="ffffcc"/>
              </a:solidFill>
              <a:latin typeface="Tahoma"/>
            </a:endParaRPr>
          </a:p>
        </p:txBody>
      </p:sp>
      <p:sp>
        <p:nvSpPr>
          <p:cNvPr id="8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alkotásnak azon </a:t>
            </a:r>
            <a:r>
              <a:rPr b="0" i="1" lang="hu-HU" sz="2000" spc="-1" strike="noStrike">
                <a:solidFill>
                  <a:srgbClr val="ffffff"/>
                </a:solidFill>
                <a:latin typeface="Tahoma"/>
              </a:rPr>
              <a:t>kreatív tevékenységek együttesét</a:t>
            </a:r>
            <a:r>
              <a:rPr b="0" lang="hu-HU" sz="2000" spc="-1" strike="noStrike">
                <a:solidFill>
                  <a:srgbClr val="ffffff"/>
                </a:solidFill>
                <a:latin typeface="Tahoma"/>
              </a:rPr>
              <a:t> nevezzük, amelyek a tervezési tevékenységekben, vagy az azokhoz kapcsolódó, módszertanilag rokon tevékenységekben öltenek testet, és feladatuk a termék minőségi tulajdonságainak meghatározása, azoknak a konstrukción keresztül való érvényre juttatása, és a minőségjegyeknek a termék kivitelezése során való megtartásához szükséges feltételek megállapítása. </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a termék olyan minőségi tulajdonságainak fokozását irányozza elő, mint például a</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onális terjedelem bővít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óteljesítés nagyobb biztonság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mberrel és a környezettel való kapcsolat optimalizáltsága a teljes életciklusban,</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őállítási,  üzemeltetési és a fenntartási költségek csökken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iségi elvárásokhoz való adaptálódás,</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árversenyben vezető szerep diktálás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szerű termelési koncepciók megvalós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05F2E91-1039-4EE5-9F59-18322ECCC4C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VDA 6.1.:</a:t>
            </a:r>
            <a:r>
              <a:rPr b="0" i="1" lang="hu-HU" sz="1600" spc="-1" strike="noStrike">
                <a:solidFill>
                  <a:srgbClr val="ffffff"/>
                </a:solidFill>
                <a:latin typeface="Tahoma"/>
              </a:rPr>
              <a:t> </a:t>
            </a:r>
            <a:r>
              <a:rPr b="0" lang="hu-HU" sz="1600" spc="-1" strike="noStrike">
                <a:solidFill>
                  <a:srgbClr val="ffffff"/>
                </a:solidFill>
                <a:latin typeface="Tahoma"/>
              </a:rPr>
              <a:t>A QS 9000 minőségügyi előírás rendszer német megfelelője. Hasonlóan az autóipari beszállítókkal kapcsolatos jórészt konkrét előírásokat fogalmazza meg. A későbbi kiadása következtében egyes elemeiben már korszerűbb, mint a QS 9000.</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S 9000 szabvány:</a:t>
            </a:r>
            <a:r>
              <a:rPr b="0" lang="hu-HU" sz="1600" spc="-1" strike="noStrike">
                <a:solidFill>
                  <a:srgbClr val="ffffff"/>
                </a:solidFill>
                <a:latin typeface="Tahoma"/>
              </a:rPr>
              <a:t> Néhány iparágnak - köztük a repülőgépiparnak - az egyik legfontosabb a biztonság, ezért ennek megfelelő, szigorú minőségbiztosítási rendszert igényel. Az AS 9000-t az Amerikai Légügyi Minőség Társulás fejlesztette ki. A szabvány a nemzetközi minőséget, biztonságot és műszaki előírásokat tartalmazza a légi működés minden területére. Alapja az ISO 9000 szabványsorozat, melyből a repülőgépipar teljes körű és egyedi igényei alapján vettek át előírásokat a kereskedelmi célú repüléstől a hadiipari alkalmazásokig.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ISO 14000 szabványsorozat:</a:t>
            </a:r>
            <a:r>
              <a:rPr b="0" lang="hu-HU" sz="1600" spc="-1" strike="noStrike">
                <a:solidFill>
                  <a:srgbClr val="ffffff"/>
                </a:solidFill>
                <a:latin typeface="Tahoma"/>
              </a:rPr>
              <a:t> Az ISO 14000-es szabványsorozat, amely a BS7750 alapján készült, tartalmazza a környezeti menedzsment rendszerek specifikációit, az alapelvekre, rendszerekre és támogató technikákra vonatkozó útmutatókat, továbbá az audittal, a védjegyhasználattal kapcsolatos előírásokat, valamint szakszótárat. Külön szabványok foglalkoznak a környezeti teljesítmény értékelésével, a termék életciklusának környezeti hatásaival, a termékszabványokban megjelenítendő környezeti szempontokk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AA3B58-98DC-4859-8CF8-C67E740A8B5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a:t>
            </a:r>
            <a:r>
              <a:rPr b="0" lang="hu-HU" sz="4400" spc="-1" strike="noStrike">
                <a:solidFill>
                  <a:srgbClr val="ffffcc"/>
                </a:solidFill>
                <a:latin typeface="Tahoma"/>
              </a:rPr>
              <a:t>tervezés nehézsége</a:t>
            </a:r>
            <a:r>
              <a:rPr b="0" lang="en-US" sz="4400" spc="-1" strike="noStrike">
                <a:solidFill>
                  <a:srgbClr val="ffffcc"/>
                </a:solidFill>
                <a:latin typeface="Tahoma"/>
              </a:rPr>
              <a:t>i</a:t>
            </a:r>
            <a:endParaRPr b="0" lang="en-US" sz="4400" spc="-1" strike="noStrike">
              <a:solidFill>
                <a:srgbClr val="ffffcc"/>
              </a:solidFill>
              <a:latin typeface="Tahoma"/>
            </a:endParaRPr>
          </a:p>
        </p:txBody>
      </p:sp>
      <p:sp>
        <p:nvSpPr>
          <p:cNvPr id="8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ben nehézséget általában két dolog okoz:</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ok esetben a termékkel szembeni minőségi követelmények egyértelműen nem behatároltak, és a teljeskörű meghatározásra nincs is mó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 követelmények rendkívül nagyszámú aspektust (mint pl. a biztonságot, a látványt, a használhatóságot, a sokoldalúságot, az olcsóságot) fednek le, amelyek összehangolása, következetessé és ellentmondásmentessé tétele csak kompromisszumos megoldással érhető 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E087E0F-A71E-4035-831C-F66525DC317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szabályozás egyik legelterjedtebb módszere a teljeskörű minőség menedzsment</a:t>
            </a:r>
            <a:r>
              <a:rPr b="0" lang="en-US" sz="2400" spc="-1" strike="noStrike">
                <a:solidFill>
                  <a:srgbClr val="ffffff"/>
                </a:solidFill>
                <a:latin typeface="Tahoma"/>
              </a:rPr>
              <a:t> (</a:t>
            </a:r>
            <a:r>
              <a:rPr b="0" lang="hu-HU" sz="2400" spc="-1" strike="noStrike">
                <a:solidFill>
                  <a:srgbClr val="ffffff"/>
                </a:solidFill>
                <a:latin typeface="Tahoma"/>
              </a:rPr>
              <a:t>Total Quality Management, TQM</a:t>
            </a:r>
            <a:r>
              <a:rPr b="0" lang="en-US" sz="2400" spc="-1" strike="noStrike">
                <a:solidFill>
                  <a:srgbClr val="ffffff"/>
                </a:solidFill>
                <a:latin typeface="Tahoma"/>
              </a:rPr>
              <a: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galmat az USA védelmi minisztériuma vezette be annak érdekében, hogy minden olyan szempontot lefedjen, ami a különböző szintű menedzsmentek felé a minőségbiztosítás érdekében támasztható.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hu-HU" sz="2400" spc="-1" strike="noStrike">
                <a:solidFill>
                  <a:srgbClr val="ffffff"/>
                </a:solidFill>
                <a:latin typeface="Tahoma"/>
              </a:rPr>
              <a:t> megközelítés lényegét az adja, hogy mind a termék, mind az azt létrehozó vállalat minőségi szempontjait igyekszik lefedni.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ljes minőség menedzsment megvalósításában az embereknek - egyénileg, illetve a szervezetben tevékenykedő, adott felelősségi körrel rendelkező személyként - kiemelt szerep ju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68EACE-8C93-4FB9-A745-CEF5E4BD648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QM módszertant több jelentős japán autógyár alkalmazta. </a:t>
            </a:r>
            <a:endParaRPr b="0" lang="en-US" sz="28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60 %-ra csökkentek egy új termék beindítási költségei</a:t>
            </a:r>
            <a:endParaRPr b="0" lang="en-US" sz="24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 kibocsátásához szükséges idő viszont egyharmadával csökkent. </a:t>
            </a:r>
            <a:endParaRPr b="0" lang="en-US" sz="2400" spc="-1" strike="noStrike">
              <a:solidFill>
                <a:srgbClr val="ffffff"/>
              </a:solidFill>
              <a:latin typeface="Tahoma"/>
            </a:endParaRPr>
          </a:p>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hu-HU" sz="2800" spc="-1" strike="noStrike">
                <a:solidFill>
                  <a:srgbClr val="ffffff"/>
                </a:solidFill>
                <a:latin typeface="Tahoma"/>
              </a:rPr>
              <a:t> módszertan négy alapkoncepciój</a:t>
            </a:r>
            <a:r>
              <a:rPr b="0" lang="en-US" sz="2800" spc="-1" strike="noStrike">
                <a:solidFill>
                  <a:srgbClr val="ffffff"/>
                </a:solidFill>
                <a:latin typeface="Tahoma"/>
              </a:rPr>
              <a:t>a</a:t>
            </a:r>
            <a:r>
              <a:rPr b="0" lang="hu-HU" sz="2800" spc="-1" strike="noStrike">
                <a:solidFill>
                  <a:srgbClr val="ffffff"/>
                </a:solidFill>
                <a:latin typeface="Tahoma"/>
              </a:rPr>
              <a:t>: </a:t>
            </a:r>
            <a:endParaRPr b="0" lang="en-US" sz="28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sárlói igények megállapítása,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s tökéletesíté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re megfelelő megvalósítá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ndszerszemléletű megközelíté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F63AEE2-000B-4538-91E2-843652D12D5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QM-nek a tervezést nagymértékben érintő főbb koncepciói a követke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ngsúly áthelyezése a meghibásodások kijavításáról a meghibásodások megelőzésér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fokozatos minőségjavítása az adott minőség elfogad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minőség konstrukción keresztül való megalkotása vagy fokozása, valamint a megtartás az intenzív ellenőrzés megvalósít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elyesen definiált követelményeknek való megfelelőség biztosítása és a zavarások kiküszöbölés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ptimális élettartamra vetített költségek előnybe helyezése a legalacsonyabb előállítási költségge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érték, a használati érték és a gazdasági érték kiegyenlítettségének hangsúlyozása a minőség, a költség  és az átfutási idő önmagukban, egyedileg való kezelése helyet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4E6032-86B2-4BA6-9AF9-8A96CEAFBD6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QM sikeres gyakorlati megvalósítása érdekében figyelembe kell venni a következő irányelveket :</a:t>
            </a:r>
            <a:endParaRPr b="0" lang="en-US" sz="18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 fokozásának a nagyobb nyereségben és az alacsonyabb költségben is meg kell jelennie.</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ban a minőségi problémák mintegy 85 %-ának az alkalmazott folyamat, vagy maga a gyártórendszer egésze az ok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termelőrendszer minőségorientált feljavítását kizárólag csak a vezetés kezdeményezése alapján lehet végrehajta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ár az alkalmazottak elkövethetnek hibákat, azonban azok következményeit nem engedhetik tovább a gyártási folyamatb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beszállítókat a fejlesztő csoport vagy - ha a "beszállítás" nem kifejezetten szellemi termék, akkor - a vállalat </a:t>
            </a:r>
            <a:r>
              <a:rPr b="0" i="1" lang="hu-HU" sz="1600" spc="-1" strike="noStrike">
                <a:solidFill>
                  <a:srgbClr val="ffffff"/>
                </a:solidFill>
                <a:latin typeface="Tahoma"/>
              </a:rPr>
              <a:t>egyforma felelősséget viselő tagjaként</a:t>
            </a:r>
            <a:r>
              <a:rPr b="0" lang="hu-HU" sz="1600" spc="-1" strike="noStrike">
                <a:solidFill>
                  <a:srgbClr val="ffffff"/>
                </a:solidFill>
                <a:latin typeface="Tahoma"/>
              </a:rPr>
              <a:t> kell kezelni, és a megbízhatóság. illetve a minőség tekintetében egyenlő elbírálásban kell részesíte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nak bizonyos mértékben ismernie kell a statisztikus minőségszabályozás elvét.</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unkaerő számszerű minősítését, a vezetés számára előírt statisztikai célokat és a gyártórendszer évenkénti minősítését és elbírálását lehetőleg ki kell küszöböl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ra nézve be kell vezetni egy szigorú oktatási és önképzési techniká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B6AC09E-6224-470D-8DD4-4D3A507ABB4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űszaki minőség értékfokozásának szempontjai közül kiemelendő: </a:t>
            </a:r>
            <a:endParaRPr b="0" lang="en-US" sz="28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iaci és termékinformáció gyűjtést és feldolgozás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fogó számítógépi modellezést és alkalmazásai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cepcionális tervezé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eometriai alakad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yagminőség megválasztás optimalizál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strukcióelemzés és optimalizál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adat-kezelés számítógépi támogatását, és</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vitelezéssel és a felhasználással való kapcsolat számítógépi támogatá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0915050-FF4F-4C84-8986-5E9DEC654CF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sárlói igények megállap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ersenytárs termékek elemz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fejlesztési terv meghatároz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pecifiku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megvalósíthatósági vizsgála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költségelemzés végrehaj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követelmények véglegesít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mékkoncepció fejlesztési projekt megindítása.</a:t>
            </a:r>
            <a:endParaRPr b="0" lang="en-US" sz="1600" spc="-1" strike="noStrike">
              <a:solidFill>
                <a:srgbClr val="ffffff"/>
              </a:solidFill>
              <a:latin typeface="Tahoma"/>
            </a:endParaRPr>
          </a:p>
        </p:txBody>
      </p:sp>
      <p:sp>
        <p:nvSpPr>
          <p:cNvPr id="8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57" name=""/>
          <p:cNvGraphicFramePr/>
          <p:nvPr/>
        </p:nvGraphicFramePr>
        <p:xfrm>
          <a:off x="5651640" y="1628640"/>
          <a:ext cx="2301840" cy="4272120"/>
        </p:xfrm>
        <a:graphic>
          <a:graphicData uri="http://schemas.openxmlformats.org/presentationml/2006/ole">
            <p:oleObj r:id="rId1" spid="">
              <p:embed/>
              <p:pic>
                <p:nvPicPr>
                  <p:cNvPr id="858" name="" descr=""/>
                  <p:cNvPicPr/>
                  <p:nvPr/>
                </p:nvPicPr>
                <p:blipFill>
                  <a:blip r:embed="rId2"/>
                  <a:stretch/>
                </p:blipFill>
                <p:spPr>
                  <a:xfrm>
                    <a:off x="5651640" y="1628640"/>
                    <a:ext cx="2301840" cy="4272120"/>
                  </a:xfrm>
                  <a:prstGeom prst="rect">
                    <a:avLst/>
                  </a:prstGeom>
                  <a:ln w="0">
                    <a:noFill/>
                  </a:ln>
                </p:spPr>
              </p:pic>
            </p:oleObj>
          </a:graphicData>
        </a:graphic>
      </p:graphicFrame>
      <p:sp>
        <p:nvSpPr>
          <p:cNvPr id="859" name=""/>
          <p:cNvSpPr/>
          <p:nvPr/>
        </p:nvSpPr>
        <p:spPr>
          <a:xfrm>
            <a:off x="0" y="35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19C1B0-4354-4771-AC85-798F2E66CB2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lmazott információfeldolgozási módszertannak teljesíteni kell a következő elvárásokat:</a:t>
            </a: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termékfejlesztést ténylegesen alátámasztó fogyasztói igényleírás jöjjön létr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lapítsa meg a látens, vagy rejtett követelményeket az explicit igényekkel együt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on a termékekre vonatkozó specifikáció igazolására alkalmas példát is.</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Hozzon létre olyan időrendi nyilvántartást, amely tükrözi a követelmények felmerülésének helyét és ok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kritikus fogyasztói igényeket ne elhanyagolják el, vagy ne menjenek feledésb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Érje el a fogyasztói követelmények egymáshoz viszonyított súlyának meghatározását, ellentmondás-mentességük biztosítás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egítse elő a fejlesztői csoport tagjai tekintetében a felhasználói igények egységes megítélését és értelmezésé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mennyiben szükséges, az üzemeltetőktől információ beszerzésével támogassa a termék életciklusa használati szakaszának tervezői lefedésé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7B73562-5CB6-4200-A25D-BAAF1B8EEEF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ámítógépi modellezés</a:t>
            </a:r>
            <a:endParaRPr b="0" lang="en-US" sz="4400" spc="-1" strike="noStrike">
              <a:solidFill>
                <a:srgbClr val="ffffcc"/>
              </a:solidFill>
              <a:latin typeface="Tahoma"/>
            </a:endParaRPr>
          </a:p>
        </p:txBody>
      </p:sp>
      <p:sp>
        <p:nvSpPr>
          <p:cNvPr id="863" name="PlaceHolder 2"/>
          <p:cNvSpPr>
            <a:spLocks noGrp="1"/>
          </p:cNvSpPr>
          <p:nvPr>
            <p:ph/>
          </p:nvPr>
        </p:nvSpPr>
        <p:spPr>
          <a:xfrm>
            <a:off x="301680" y="1557000"/>
            <a:ext cx="8540640" cy="4498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űszaki minőség értékfokozása számítógépi modellezéssel</a:t>
            </a:r>
            <a:r>
              <a:rPr b="0" lang="en-US"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a valós objektum vagy folyamat különféle modelljeinek létrehozására irányul.</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a:t>
            </a:r>
            <a:r>
              <a:rPr b="0" lang="hu-HU" sz="1600" spc="-1" strike="noStrike">
                <a:solidFill>
                  <a:srgbClr val="ffffff"/>
                </a:solidFill>
                <a:latin typeface="Tahoma"/>
              </a:rPr>
              <a:t> valóság megragadása végtelen számú információt (adatot) igényelne,</a:t>
            </a:r>
            <a:r>
              <a:rPr b="0" lang="en-US" sz="1600" spc="-1" strike="noStrike">
                <a:solidFill>
                  <a:srgbClr val="ffffff"/>
                </a:solidFill>
                <a:latin typeface="Tahoma"/>
              </a:rPr>
              <a:t> ez</a:t>
            </a:r>
            <a:r>
              <a:rPr b="0" lang="hu-HU" sz="1600" spc="-1" strike="noStrike">
                <a:solidFill>
                  <a:srgbClr val="ffffff"/>
                </a:solidFill>
                <a:latin typeface="Tahoma"/>
              </a:rPr>
              <a:t>ért a terméktervezésben a modellezés mindig szűkített információkészlettel valósul meg.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hagyományos tervezési eszközök és módszerek csak korlátozott mértékben és szemléltetés orientáltan teszik lehetővé kifinomult tervezői modellek létrehozását. A modellezés megbízhatósága viszont befolyásolja a termékbe betervezhető minősége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eredményessége szempontjából lényeges, hogy a modellezést a lehető legkorábbi fázisban megvalósítsák.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 átfogó modelljét funkcionális részmodellek összességeként célszerű létrehozni.</a:t>
            </a:r>
            <a:br>
              <a:rPr sz="1600"/>
            </a:br>
            <a:r>
              <a:rPr b="0" lang="hu-HU" sz="1600" spc="-1" strike="noStrike">
                <a:solidFill>
                  <a:srgbClr val="ffffff"/>
                </a:solidFill>
                <a:latin typeface="Tahoma"/>
              </a:rPr>
              <a:t>A funkcionális részmodellek lehetővé teszik az alternatív megoldásokban való gondolkozást, ami elősegíti a magas minőséget képviselő termékek kifejlesztését. A valóság modellezésére a tervezési folyamat során különböző modellféleségeket alkalmaznak. A hagyományos tervezőmérnöki gyakorlatban megkülönböztetünk:</a:t>
            </a:r>
            <a:endParaRPr b="0" lang="en-US" sz="16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ntális vagy heuriszt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atematikai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lgoritm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életlen szimulációs modelleket,</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folytonos vagy diszkrét szimulációs modelleke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7171E1-964F-43E5-B236-E776F459123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odellezés elvi folyamat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65" name=""/>
          <p:cNvSpPr/>
          <p:nvPr/>
        </p:nvSpPr>
        <p:spPr>
          <a:xfrm>
            <a:off x="0" y="147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66" name=""/>
          <p:cNvGraphicFramePr/>
          <p:nvPr/>
        </p:nvGraphicFramePr>
        <p:xfrm>
          <a:off x="3635280" y="1341360"/>
          <a:ext cx="1787760" cy="4608720"/>
        </p:xfrm>
        <a:graphic>
          <a:graphicData uri="http://schemas.openxmlformats.org/presentationml/2006/ole">
            <p:oleObj r:id="rId1" spid="">
              <p:embed/>
              <p:pic>
                <p:nvPicPr>
                  <p:cNvPr id="867" name="" descr=""/>
                  <p:cNvPicPr/>
                  <p:nvPr/>
                </p:nvPicPr>
                <p:blipFill>
                  <a:blip r:embed="rId2"/>
                  <a:stretch/>
                </p:blipFill>
                <p:spPr>
                  <a:xfrm>
                    <a:off x="3635280" y="1341360"/>
                    <a:ext cx="1787760" cy="4608720"/>
                  </a:xfrm>
                  <a:prstGeom prst="rect">
                    <a:avLst/>
                  </a:prstGeom>
                  <a:ln w="0">
                    <a:noFill/>
                  </a:ln>
                </p:spPr>
              </p:pic>
            </p:oleObj>
          </a:graphicData>
        </a:graphic>
      </p:graphicFrame>
      <p:sp>
        <p:nvSpPr>
          <p:cNvPr id="868" name=""/>
          <p:cNvSpPr/>
          <p:nvPr/>
        </p:nvSpPr>
        <p:spPr>
          <a:xfrm>
            <a:off x="0" y="538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6924735-ED36-4783-80D4-C254D2DCD9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galmazzunk meg és tegyük nyilvánossá valamennyi munkatárs számára a cég vagy egyéb szervezet céljait és törekvéseit tartalmazó nyilatkozatot. A menedzsmentnek folyamatosan bizonyítania kell az e nyilatkozat iránti elkötelezett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uljuk meg az új filozófiát, a felső menedzsment, de mindenki más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tsük meg az ellenőrzés célját a folyamat javítása és a költségek csökkentése érdek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ssünk véget annak a gyakorlatnak, mely az üzletet kizárólag az árcédula nyomán jutalmazz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suk állandóan és szüntelenül a termékek- és szolgáltatások rendszer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zessük be a (készségeket nyújtó) képzés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ítsuk és intézményesítsük a vezető szerepet.</a:t>
            </a:r>
            <a:endParaRPr b="0" lang="en-US" sz="2000" spc="-1" strike="noStrike">
              <a:solidFill>
                <a:srgbClr val="ffffff"/>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92DF9F-D7B9-4E79-B4D2-E8A21605BD8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cepcionális tervezé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a terméktervezésnek a marketinget követő és a termék konstrukciótervezését megelőző szakasz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első fázisában a formalizáltan meghatározott fogyasztói igényeket műszaki tartalmú termékspecifikációkká kell átalakítani. Nehézsége, hogy a megfogalmazott fogyasztói igények rendszerint függetlenek bármiféle terméktől, vagy termékmegoldástól és nem szükségszerűen utalnak valamiféle olyan megoldási koncepcióra, ami a műszaki specifikáció kidolgozásánál felhasználhat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aci információkat feldolgozó tervezői csoportnak a fogyasztói igényeket a konkrét megvalósításra vonatkozó elképzelés nélkül kell a termék specifikációjába beépíteni. Nehézsége, hogy a műszaki specifikációk mindig függenek attól, hogy milyen koncepciót választunk, vagyis az adott termékre vonatkozó specifikációt befolyásolja, hogy milyen konkrét műszaki megoldásokat alakítunk ki és a fejlesztendő termék milyen gazdasági vonzatokkal jár.</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5E6551-6EEF-490D-90C0-8428D8065A5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1"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2" name=""/>
          <p:cNvGraphicFramePr/>
          <p:nvPr/>
        </p:nvGraphicFramePr>
        <p:xfrm>
          <a:off x="2195640" y="1484280"/>
          <a:ext cx="4539960" cy="4753080"/>
        </p:xfrm>
        <a:graphic>
          <a:graphicData uri="http://schemas.openxmlformats.org/presentationml/2006/ole">
            <p:oleObj r:id="rId1" spid="">
              <p:embed/>
              <p:pic>
                <p:nvPicPr>
                  <p:cNvPr id="873" name="" descr=""/>
                  <p:cNvPicPr/>
                  <p:nvPr/>
                </p:nvPicPr>
                <p:blipFill>
                  <a:blip r:embed="rId2"/>
                  <a:stretch/>
                </p:blipFill>
                <p:spPr>
                  <a:xfrm>
                    <a:off x="2195640" y="1484280"/>
                    <a:ext cx="4539960" cy="4753080"/>
                  </a:xfrm>
                  <a:prstGeom prst="rect">
                    <a:avLst/>
                  </a:prstGeom>
                  <a:ln w="0">
                    <a:noFill/>
                  </a:ln>
                </p:spPr>
              </p:pic>
            </p:oleObj>
          </a:graphicData>
        </a:graphic>
      </p:graphicFrame>
      <p:sp>
        <p:nvSpPr>
          <p:cNvPr id="874" name=""/>
          <p:cNvSpPr/>
          <p:nvPr/>
        </p:nvSpPr>
        <p:spPr>
          <a:xfrm>
            <a:off x="0" y="501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8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kapcsolat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2A055B2-8713-46C0-A7AC-6DDA421D042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folyamata</a:t>
            </a:r>
            <a:endParaRPr b="0" lang="en-US" sz="4000" spc="-1" strike="noStrike">
              <a:solidFill>
                <a:srgbClr val="ffffcc"/>
              </a:solidFill>
              <a:latin typeface="Tahoma"/>
            </a:endParaRPr>
          </a:p>
        </p:txBody>
      </p:sp>
      <p:sp>
        <p:nvSpPr>
          <p:cNvPr id="877" name=""/>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8" name=""/>
          <p:cNvGraphicFramePr/>
          <p:nvPr/>
        </p:nvGraphicFramePr>
        <p:xfrm>
          <a:off x="2700360" y="1268280"/>
          <a:ext cx="3714840" cy="4897440"/>
        </p:xfrm>
        <a:graphic>
          <a:graphicData uri="http://schemas.openxmlformats.org/presentationml/2006/ole">
            <p:oleObj r:id="rId1" spid="">
              <p:embed/>
              <p:pic>
                <p:nvPicPr>
                  <p:cNvPr id="879" name="" descr=""/>
                  <p:cNvPicPr/>
                  <p:nvPr/>
                </p:nvPicPr>
                <p:blipFill>
                  <a:blip r:embed="rId2"/>
                  <a:stretch/>
                </p:blipFill>
                <p:spPr>
                  <a:xfrm>
                    <a:off x="2700360" y="1268280"/>
                    <a:ext cx="3714840" cy="4897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B281137-815F-4710-8149-2EBDB524DC6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eknek koncepcionális modelljei </a:t>
            </a:r>
            <a:endParaRPr b="0" lang="en-US" sz="4000" spc="-1" strike="noStrike">
              <a:solidFill>
                <a:srgbClr val="ffffcc"/>
              </a:solidFill>
              <a:latin typeface="Tahoma"/>
            </a:endParaRPr>
          </a:p>
        </p:txBody>
      </p:sp>
      <p:sp>
        <p:nvSpPr>
          <p:cNvPr id="8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bsztrakt működési (funkcionáli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ői nyelvtanokon alapuló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li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n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imbolikus struktúra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őzetes geometriai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szorítás alapú parametriku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lapú koncepcionális modelle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778CFD-4A49-4300-9D9E-67ADDEA5693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eometriai alakadá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ometriai alakadás a terméktervezés egyik kritikus lépése, ami erős befolyással van a minőségalkotásra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gyományosan az alakadás szemléltetésére és dokumentálására műszaki rajzokat alkalmazt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elősegítése érdekében ma már alapfeltételnek lehet tekinteni a számítógépi geometriai modellező módszerek alkalmazását.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alakiságának tervezésében és szemléltetésében alkalmazható módszereket az alakjellemző információk megragadásának teljessége alapján lehet osztályozni. Ebből a szempontból a módszerek teljesértékűek vagy nem teljesértékűek lehetnek. A modellezési módszerek teljességük alapján: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zalváz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et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lást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stmodellezé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AE0B78-D527-487B-8309-156FCC373F0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4" name=""/>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85" name=""/>
          <p:cNvGraphicFramePr/>
          <p:nvPr/>
        </p:nvGraphicFramePr>
        <p:xfrm>
          <a:off x="1258920" y="260280"/>
          <a:ext cx="6480000" cy="5886360"/>
        </p:xfrm>
        <a:graphic>
          <a:graphicData uri="http://schemas.openxmlformats.org/presentationml/2006/ole">
            <p:oleObj r:id="rId1" spid="">
              <p:embed/>
              <p:pic>
                <p:nvPicPr>
                  <p:cNvPr id="886" name="" descr=""/>
                  <p:cNvPicPr/>
                  <p:nvPr/>
                </p:nvPicPr>
                <p:blipFill>
                  <a:blip r:embed="rId2"/>
                  <a:stretch/>
                </p:blipFill>
                <p:spPr>
                  <a:xfrm>
                    <a:off x="1258920" y="260280"/>
                    <a:ext cx="6480000" cy="5886360"/>
                  </a:xfrm>
                  <a:prstGeom prst="rect">
                    <a:avLst/>
                  </a:prstGeom>
                  <a:ln w="0">
                    <a:noFill/>
                  </a:ln>
                </p:spPr>
              </p:pic>
            </p:oleObj>
          </a:graphicData>
        </a:graphic>
      </p:graphicFrame>
      <p:sp>
        <p:nvSpPr>
          <p:cNvPr id="887" name=""/>
          <p:cNvSpPr/>
          <p:nvPr/>
        </p:nvSpPr>
        <p:spPr>
          <a:xfrm>
            <a:off x="0" y="598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D58B3C5-9045-4E99-9081-805CE0463D4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yagválasztásban a következő lényegi befolyásoló tényezőket lehet megállapítani: </a:t>
            </a:r>
            <a:endParaRPr b="0" lang="en-US" sz="28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jellemzők és követelmény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lőállítást befolyásoló tényező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elhasználó-orientált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rnyezetvédelem</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ivonható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üttjáró költség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sztétikai szemponto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elkezésre áll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7E6467-529B-42CF-8114-0973BDE06FA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Statikus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lárdság (szakítószilárdság, folyáshatár, nyíráshatár)</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keny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ugalmassági modulu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úlási jellemzők (Poisson tényező)</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keménység és szívósság</a:t>
            </a:r>
            <a:endParaRPr b="0" lang="en-US" sz="2000" spc="-1" strike="noStrike">
              <a:solidFill>
                <a:srgbClr val="ffffff"/>
              </a:solidFill>
              <a:latin typeface="Tahoma"/>
            </a:endParaRPr>
          </a:p>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ifáradási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róziós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szültségleng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 lengő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llandó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pektrális terhelhető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éssel beállított kifáradási szilárd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E0DAB71-29EE-4BB5-9F40-2DE42A0522A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örési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si rugalmas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plékeny megfolyás terjedése</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pedési instabilitás.</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ikus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ineáris hőtágulási együtt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lvadási vagy cseppenéspont</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átvitel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ajh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vezetés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mikus rezgésálló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elnyelé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759BFF-9385-4A66-A7C1-D873E2B3CDE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Gyárthatósági jellemzők:</a:t>
            </a:r>
            <a:endParaRPr b="0" lang="en-US" sz="24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munkál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n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gesz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l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dz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imális elemméret</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kzáró kapcsolatok kialakíthatósága</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hatás érzékenység.</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Csillapítási jellemző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nizotrópia</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42FD17-356F-4BD1-9525-963659526CD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áműzzük a félelmet, teremtsünk bizalmat, teremtsünk újításokra ösztönző légkör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ptimalizáljuk a teamek, csoportok, személyzet erőfeszítéseit a cég céljainak és törekvéseinek valóra váltására.</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szöböljük ki a munkaerő buzdításá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szöböljük ki a termelés számszerű kvótáit. Helyettük tanuljuk meg és intézményesítsük a javítás módszereit. </a:t>
            </a:r>
            <a:br>
              <a:rPr sz="2000"/>
            </a:br>
            <a:r>
              <a:rPr b="0" lang="hu-HU" sz="2000" spc="-1" strike="noStrike">
                <a:solidFill>
                  <a:srgbClr val="ffffff"/>
                </a:solidFill>
                <a:latin typeface="Tahoma"/>
              </a:rPr>
              <a:t>(b.) Küszöböljük ki a célkitűzések segítségével történő menedzselést. Helyettük ismerjék meg a folyamatokban rejlő lehetőségeket és azt, hogy hogyan javítsunk azokon.</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volítsuk el a korlátokat, melyek megfosztják az embereket a kézműves munka okozta büszkeségtől.</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átorítsuk mindenkinél a tanulást és az önfejlesztés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selekedjünk a változások végrehajtása érdekéb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233FCAA-92A1-4EDF-AA0E-F8F38B6F379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örnyezeti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dvessé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mérséklet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av- és lú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ókiválasztás</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mónia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rogén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ukleáris érzékenység.</a:t>
            </a:r>
            <a:endParaRPr b="0" lang="en-US" sz="20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észetes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ektromos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éb fizikai jellemzők (pl. súrlódás, kopás, rezgésvezetés, stb.)</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miai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gneses jellemző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D9763A-D1B8-4ACE-9DEF-878D4549C36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strukcióelemzés és optimalizálás</a:t>
            </a:r>
            <a:endParaRPr b="0" lang="en-US" sz="4000" spc="-1" strike="noStrike">
              <a:solidFill>
                <a:srgbClr val="ffffcc"/>
              </a:solidFill>
              <a:latin typeface="Tahoma"/>
            </a:endParaRPr>
          </a:p>
        </p:txBody>
      </p:sp>
      <p:sp>
        <p:nvSpPr>
          <p:cNvPr id="8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pel segített géptervezés numerikus módszerei olyan tervezési feladatok közelítő megoldást teszik lehetővé, amelyekre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ismertek vagy nem léteznek zárt alakú megoldáso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ugyan létezik analitikus formában leírható megoldás, de annak előállítása manuális eszközökkel nem hajtható végre.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orientált numerikus módszerek nagyon sokfélék lehetnek, a szintézis és analízis végrehajtását egyaránt támogathatják. Az analízis jellegű numerikus módszerek a következő csoportokba sorolhatók:</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nos numerikus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érnöki mennyiség számító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iszkrét elemekre bontáson alapuló elemzési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umerikus működés</a:t>
            </a:r>
            <a:r>
              <a:rPr b="0" lang="en-US" sz="1800" spc="-1" strike="noStrike">
                <a:solidFill>
                  <a:srgbClr val="ffffff"/>
                </a:solidFill>
                <a:latin typeface="Tahoma"/>
              </a:rPr>
              <a:t>-</a:t>
            </a:r>
            <a:r>
              <a:rPr b="0" lang="hu-HU" sz="1800" spc="-1" strike="noStrike">
                <a:solidFill>
                  <a:srgbClr val="ffffff"/>
                </a:solidFill>
                <a:latin typeface="Tahoma"/>
              </a:rPr>
              <a:t>szimuláció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optimum számító numeriku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peciális numerikus elemző módszere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7AF0300-F95E-442D-A788-33A4A39AF41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ámítógépi erőforrások fejlődése és a kifejlesztett modellezési módszerek választékának bővülése lehetőséget teremtett arra, hogy a modellezésbe a termék egészét, sőt a tervezés folyamatát is bevonják.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épészeti termékek számítógépi modellezésének célja olyan komplex, többfunkciós, a benne foglalt adatsémák tekintetében integrált </a:t>
            </a:r>
            <a:r>
              <a:rPr b="0" i="1" lang="hu-HU" sz="1800" spc="-1" strike="noStrike">
                <a:solidFill>
                  <a:srgbClr val="ffffff"/>
                </a:solidFill>
                <a:latin typeface="Tahoma"/>
              </a:rPr>
              <a:t>termékmodell</a:t>
            </a:r>
            <a:r>
              <a:rPr b="0" lang="hu-HU" sz="1800" spc="-1" strike="noStrike">
                <a:solidFill>
                  <a:srgbClr val="ffffff"/>
                </a:solidFill>
                <a:latin typeface="Tahoma"/>
              </a:rPr>
              <a:t>ek létrehozása, amelyek a gépészeti termékeket a létezésük különféle szakaszaiban a lehető legteljesebb formában ragadják meg.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datfeldolgozási szempontból a termékmodell a termékhez kapcsolódó műszaki és gazdasági adatok létrehozásának, feldolgozásának, tárolásának és szemléltetésének eszköze. A termékmodell megvalósításában két elvet lehet azonosítani: (a) a </a:t>
            </a:r>
            <a:r>
              <a:rPr b="0" i="1" lang="hu-HU" sz="1800" spc="-1" strike="noStrike">
                <a:solidFill>
                  <a:srgbClr val="ffffff"/>
                </a:solidFill>
                <a:latin typeface="Tahoma"/>
              </a:rPr>
              <a:t>közös adatbázisra épülés</a:t>
            </a:r>
            <a:r>
              <a:rPr b="0" lang="hu-HU" sz="1800" spc="-1" strike="noStrike">
                <a:solidFill>
                  <a:srgbClr val="ffffff"/>
                </a:solidFill>
                <a:latin typeface="Tahoma"/>
              </a:rPr>
              <a:t> elvét, és (b) a </a:t>
            </a:r>
            <a:r>
              <a:rPr b="0" i="1" lang="hu-HU" sz="1800" spc="-1" strike="noStrike">
                <a:solidFill>
                  <a:srgbClr val="ffffff"/>
                </a:solidFill>
                <a:latin typeface="Tahoma"/>
              </a:rPr>
              <a:t>tranzitív adat-átalakítások</a:t>
            </a:r>
            <a:r>
              <a:rPr b="0" lang="hu-HU" sz="1800" spc="-1" strike="noStrike">
                <a:solidFill>
                  <a:srgbClr val="ffffff"/>
                </a:solidFill>
                <a:latin typeface="Tahoma"/>
              </a:rPr>
              <a:t> elvét. Ennek alapján megkülönböztetünk </a:t>
            </a:r>
            <a:r>
              <a:rPr b="0" i="1" lang="hu-HU" sz="1800" spc="-1" strike="noStrike">
                <a:solidFill>
                  <a:srgbClr val="ffffff"/>
                </a:solidFill>
                <a:latin typeface="Tahoma"/>
              </a:rPr>
              <a:t>integrált</a:t>
            </a:r>
            <a:r>
              <a:rPr b="0" lang="hu-HU" sz="1800" spc="-1" strike="noStrike">
                <a:solidFill>
                  <a:srgbClr val="ffffff"/>
                </a:solidFill>
                <a:latin typeface="Tahoma"/>
              </a:rPr>
              <a:t> és </a:t>
            </a:r>
            <a:r>
              <a:rPr b="0" i="1" lang="hu-HU" sz="1800" spc="-1" strike="noStrike">
                <a:solidFill>
                  <a:srgbClr val="ffffff"/>
                </a:solidFill>
                <a:latin typeface="Tahoma"/>
              </a:rPr>
              <a:t>tranzitív</a:t>
            </a:r>
            <a:r>
              <a:rPr b="0" lang="hu-HU" sz="1800" spc="-1" strike="noStrike">
                <a:solidFill>
                  <a:srgbClr val="ffffff"/>
                </a:solidFill>
                <a:latin typeface="Tahoma"/>
              </a:rPr>
              <a:t> termékmodelleket.</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modell nem egyetlen megbonthatatlan (monolitikus) egység, hanem a modell által lefedett </a:t>
            </a:r>
            <a:r>
              <a:rPr b="0" i="1" lang="hu-HU" sz="1800" spc="-1" strike="noStrike">
                <a:solidFill>
                  <a:srgbClr val="ffffff"/>
                </a:solidFill>
                <a:latin typeface="Tahoma"/>
              </a:rPr>
              <a:t>életszakasz</a:t>
            </a:r>
            <a:r>
              <a:rPr b="0" lang="hu-HU" sz="1800" spc="-1" strike="noStrike">
                <a:solidFill>
                  <a:srgbClr val="ffffff"/>
                </a:solidFill>
                <a:latin typeface="Tahoma"/>
              </a:rPr>
              <a:t>oknak és az azokban igényelt és lehetséges </a:t>
            </a:r>
            <a:r>
              <a:rPr b="0" i="1" lang="hu-HU" sz="1800" spc="-1" strike="noStrike">
                <a:solidFill>
                  <a:srgbClr val="ffffff"/>
                </a:solidFill>
                <a:latin typeface="Tahoma"/>
              </a:rPr>
              <a:t>feldolgozások</a:t>
            </a:r>
            <a:r>
              <a:rPr b="0" lang="hu-HU" sz="1800" spc="-1" strike="noStrike">
                <a:solidFill>
                  <a:srgbClr val="ffffff"/>
                </a:solidFill>
                <a:latin typeface="Tahoma"/>
              </a:rPr>
              <a:t>nak megfelelően részekre tagolt. Emiatt beszélhetünk particionált termékmodellről. A termékmodell életszakasztól és a feldolgozástól függő részeit </a:t>
            </a:r>
            <a:r>
              <a:rPr b="0" i="1" lang="hu-HU" sz="1800" spc="-1" strike="noStrike">
                <a:solidFill>
                  <a:srgbClr val="ffffff"/>
                </a:solidFill>
                <a:latin typeface="Tahoma"/>
              </a:rPr>
              <a:t>nézőpont-modellek</a:t>
            </a:r>
            <a:r>
              <a:rPr b="0" lang="hu-HU" sz="1800" spc="-1" strike="noStrike">
                <a:solidFill>
                  <a:srgbClr val="ffffff"/>
                </a:solidFill>
                <a:latin typeface="Tahoma"/>
              </a:rPr>
              <a:t>nek nevezzük. Jóllehet a nézőpont-modellek önmagukban is teljesek, egymáshoz szervesen kapcsolódnak és így alkotják az integrált termékmodell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35143E-FACF-47E7-B11D-F5EF3034BAD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2" name=""/>
          <p:cNvSpPr txBox="1"/>
          <p:nvPr/>
        </p:nvSpPr>
        <p:spPr>
          <a:xfrm>
            <a:off x="301680" y="228600"/>
            <a:ext cx="854064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3"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04" name=""/>
          <p:cNvGraphicFramePr/>
          <p:nvPr/>
        </p:nvGraphicFramePr>
        <p:xfrm>
          <a:off x="468360" y="1916280"/>
          <a:ext cx="8496360" cy="3990960"/>
        </p:xfrm>
        <a:graphic>
          <a:graphicData uri="http://schemas.openxmlformats.org/presentationml/2006/ole">
            <p:oleObj r:id="rId1" spid="">
              <p:embed/>
              <p:pic>
                <p:nvPicPr>
                  <p:cNvPr id="905" name="" descr=""/>
                  <p:cNvPicPr/>
                  <p:nvPr/>
                </p:nvPicPr>
                <p:blipFill>
                  <a:blip r:embed="rId2"/>
                  <a:stretch/>
                </p:blipFill>
                <p:spPr>
                  <a:xfrm>
                    <a:off x="468360" y="1916280"/>
                    <a:ext cx="8496360" cy="3990960"/>
                  </a:xfrm>
                  <a:prstGeom prst="rect">
                    <a:avLst/>
                  </a:prstGeom>
                  <a:ln w="0">
                    <a:noFill/>
                  </a:ln>
                </p:spPr>
              </p:pic>
            </p:oleObj>
          </a:graphicData>
        </a:graphic>
      </p:graphicFrame>
      <p:sp>
        <p:nvSpPr>
          <p:cNvPr id="906" name=""/>
          <p:cNvSpPr/>
          <p:nvPr/>
        </p:nvSpPr>
        <p:spPr>
          <a:xfrm>
            <a:off x="0" y="47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5BD3A21-95E6-4A8C-B8CF-27413397BDB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és folyamatok menedzsmentjéhez tartozó információk négy csoportba osztható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 műszaki tartalmát</a:t>
            </a:r>
            <a:r>
              <a:rPr b="0" lang="hu-HU" sz="2000" spc="-1" strike="noStrike">
                <a:solidFill>
                  <a:srgbClr val="ffffff"/>
                </a:solidFill>
                <a:latin typeface="Tahoma"/>
              </a:rPr>
              <a:t> leíró adatok, amelyek lényegében a termékmodellbe foglalt információkat ragadják meg. Ezek a legkülönfélébb formában jelenhetnek meg, mint például követelményjegyzékek, műszaki specifikációk, vázlatrajzok, CAD alkatrészmodellek, összeállítási modellek, elemzési mod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a:t>
            </a:r>
            <a:r>
              <a:rPr b="0" i="1" lang="hu-HU" sz="2000" spc="-1" strike="noStrike">
                <a:solidFill>
                  <a:srgbClr val="ffffff"/>
                </a:solidFill>
                <a:latin typeface="Tahoma"/>
              </a:rPr>
              <a:t> termelő környezetet</a:t>
            </a:r>
            <a:r>
              <a:rPr b="0" lang="hu-HU" sz="2000" spc="-1" strike="noStrike">
                <a:solidFill>
                  <a:srgbClr val="ffffff"/>
                </a:solidFill>
                <a:latin typeface="Tahoma"/>
              </a:rPr>
              <a:t>, ezen belül a kivitelezési környezetet, valamint a kivitelezési folyamatot és e folyamat elemeit leíró protokollokba foglalt adat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előállítás tárgyi feltételeit</a:t>
            </a:r>
            <a:r>
              <a:rPr b="0" lang="hu-HU" sz="2000" spc="-1" strike="noStrike">
                <a:solidFill>
                  <a:srgbClr val="ffffff"/>
                </a:solidFill>
                <a:latin typeface="Tahoma"/>
              </a:rPr>
              <a:t> leíró adatok, például beszállítói katalógusok, korábbi konstrukciók műszaki dokumentációi, anyag adatbázisok, félkész termék adatbázisok, szabvány katalógus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fejlesztési folyamat menedzsment információi</a:t>
            </a:r>
            <a:r>
              <a:rPr b="0" lang="hu-HU" sz="2000" spc="-1" strike="noStrike">
                <a:solidFill>
                  <a:srgbClr val="ffffff"/>
                </a:solidFill>
                <a:latin typeface="Tahoma"/>
              </a:rPr>
              <a:t>, például költségvetések, átfutási tervek, kapacitás lekötési tervek, tervezési modelle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0BCE309-5F21-4552-AB22-E6D73E7FD3C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10" name="PlaceHolder 2"/>
          <p:cNvSpPr>
            <a:spLocks noGrp="1"/>
          </p:cNvSpPr>
          <p:nvPr>
            <p:ph/>
          </p:nvPr>
        </p:nvSpPr>
        <p:spPr>
          <a:xfrm>
            <a:off x="301320" y="1599840"/>
            <a:ext cx="412596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fésze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GE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T, VDA/FS, </a:t>
            </a:r>
            <a:br>
              <a:rPr sz="3200"/>
            </a:br>
            <a:r>
              <a:rPr b="0" lang="hu-HU" sz="3200" spc="-1" strike="noStrike">
                <a:solidFill>
                  <a:srgbClr val="ffffff"/>
                </a:solidFill>
                <a:latin typeface="Tahoma"/>
              </a:rPr>
              <a:t>IGES 2.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DES, STEP</a:t>
            </a:r>
            <a:endParaRPr b="0" lang="en-US" sz="3200" spc="-1" strike="noStrike">
              <a:solidFill>
                <a:srgbClr val="ffffff"/>
              </a:solidFill>
              <a:latin typeface="Tahoma"/>
            </a:endParaRPr>
          </a:p>
        </p:txBody>
      </p:sp>
      <p:sp>
        <p:nvSpPr>
          <p:cNvPr id="911" name=""/>
          <p:cNvSpPr/>
          <p:nvPr/>
        </p:nvSpPr>
        <p:spPr>
          <a:xfrm>
            <a:off x="0" y="11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12" name=""/>
          <p:cNvGraphicFramePr/>
          <p:nvPr/>
        </p:nvGraphicFramePr>
        <p:xfrm>
          <a:off x="4643280" y="1484280"/>
          <a:ext cx="3924360" cy="4600440"/>
        </p:xfrm>
        <a:graphic>
          <a:graphicData uri="http://schemas.openxmlformats.org/presentationml/2006/ole">
            <p:oleObj r:id="rId1" spid="">
              <p:embed/>
              <p:pic>
                <p:nvPicPr>
                  <p:cNvPr id="913" name="" descr=""/>
                  <p:cNvPicPr/>
                  <p:nvPr/>
                </p:nvPicPr>
                <p:blipFill>
                  <a:blip r:embed="rId2"/>
                  <a:stretch/>
                </p:blipFill>
                <p:spPr>
                  <a:xfrm>
                    <a:off x="4643280" y="1484280"/>
                    <a:ext cx="3924360" cy="4600440"/>
                  </a:xfrm>
                  <a:prstGeom prst="rect">
                    <a:avLst/>
                  </a:prstGeom>
                  <a:ln w="0">
                    <a:noFill/>
                  </a:ln>
                </p:spPr>
              </p:pic>
            </p:oleObj>
          </a:graphicData>
        </a:graphic>
      </p:graphicFrame>
      <p:sp>
        <p:nvSpPr>
          <p:cNvPr id="914" name=""/>
          <p:cNvSpPr/>
          <p:nvPr/>
        </p:nvSpPr>
        <p:spPr>
          <a:xfrm>
            <a:off x="0" y="572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39A4509-397A-4611-B429-313ECCCCC82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nek a  használati minőség értékét növelő módszer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sználati tulajdonságok közül az alábbiak tekinthetők a legnagyobb befolyásúnak:</a:t>
            </a:r>
            <a:endParaRPr b="0" lang="en-US" sz="28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tagolt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osztizál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fen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arba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javí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bízhatóság, és</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iztonságosság.</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BD25B0-7199-4C2F-80C1-E0A9156BA41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et tapasztalt vagy feltételezett fogyasztói igények kielégítésére hozzuk lét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funkcionális terjedelmének meg kell felelnie a működések tartalmára és választékára vonatkozó követelményeknek. </a:t>
            </a:r>
            <a:br>
              <a:rPr sz="2000"/>
            </a:br>
            <a:r>
              <a:rPr b="0" i="1" lang="hu-HU" sz="2000" spc="-1" strike="noStrike">
                <a:solidFill>
                  <a:srgbClr val="ffffff"/>
                </a:solidFill>
                <a:latin typeface="Tahoma"/>
              </a:rPr>
              <a:t>Funkció</a:t>
            </a:r>
            <a:r>
              <a:rPr b="0" lang="hu-HU" sz="2000" spc="-1" strike="noStrike">
                <a:solidFill>
                  <a:srgbClr val="ffffff"/>
                </a:solidFill>
                <a:latin typeface="Tahoma"/>
              </a:rPr>
              <a:t>nak a termékek potenciális működését, illetve az arra való képességet nevezzük.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árom kategóriába sorolható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alapkövetelmények</a:t>
            </a:r>
            <a:br>
              <a:rPr sz="1800"/>
            </a:br>
            <a:r>
              <a:rPr b="0" lang="hu-HU" sz="1800" spc="-1" strike="noStrike">
                <a:solidFill>
                  <a:srgbClr val="ffffff"/>
                </a:solidFill>
                <a:latin typeface="Tahoma"/>
              </a:rPr>
              <a:t>Ezek a termék rendeltetés szerinti célját határozzák meg, vagyis nem-teljesülésük esetén a termék nem, vagy nem kielégítő formában ad választ a legalapvetőbb működési kívánalmakra. Az alapkövetelmények tehát a termékek alapfunkcióit határozzák meg. Az alapfunkciók teljesítése önmagában nem jelent minőségalkotást, mivel teljesítésük előfeltétele az adott termék piaci méltányolásá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EEE751-DC02-432F-BBCA-4A5DD1C2C48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kiegészítő követelmények</a:t>
            </a:r>
            <a:br>
              <a:rPr sz="1800"/>
            </a:br>
            <a:r>
              <a:rPr b="0" lang="hu-HU" sz="1800" spc="-1" strike="noStrike">
                <a:solidFill>
                  <a:srgbClr val="ffffff"/>
                </a:solidFill>
                <a:latin typeface="Tahoma"/>
              </a:rPr>
              <a:t>E követelmények az alapkövetelményekre szuperponálódva további működési elvárásokat fogalmaznak meg, vagyis kiterjesztik a termék funkcionális terjedelmét. A kiegészítő követelmények nem módosítják az alapkövetelményeket, hanem további igények megfogalmazásával teljesítésük színvonalát finomítják. A kiegészítő követelmények által behatárolt funkciók bár hozzásegítenek a minőségalkotáshoz, annak csak műszaki minőség értékfejlesztéséhez kapcsolódnak, vagyis használati funkciókat nem fogalmaznak meg. A műszaki kiegészítő követelmények teljesítése nagymértékben hozzájárul a termék árának fogyasztói elfogadásához.</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500D253-3F5A-4C1E-9C76-7EB46179647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lvl="1" marL="705600" indent="-2714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használati kiegészítő követelmények</a:t>
            </a:r>
            <a:br>
              <a:rPr sz="1800"/>
            </a:br>
            <a:r>
              <a:rPr b="0" lang="hu-HU" sz="1800" spc="-1" strike="noStrike">
                <a:solidFill>
                  <a:srgbClr val="ffffff"/>
                </a:solidFill>
                <a:latin typeface="Tahoma"/>
              </a:rPr>
              <a:t>A fogyasztói igények ezen csoportja alapvetően nem a műszaki jellegű működéssel szembeni kívánalmakat fogalmazza meg, hanem a termék és felhasználója között kialakuló viszony feltételeit. A használati viszony kettős arculatú, ugyanis egyrészt a felhasználó egyedi kívánalmai és termékhasználati szokásai, másrészt a terméknek a használati élettartama során a felhasználótól elvárt tevékenységek összessége jelennek,  meg benne. Az előnyös használati funkciók növelik a felhasználói megelégedettséget. </a:t>
            </a:r>
            <a:br>
              <a:rPr sz="1800"/>
            </a:br>
            <a:r>
              <a:rPr b="0" lang="hu-HU" sz="1800" spc="-1" strike="noStrike">
                <a:solidFill>
                  <a:srgbClr val="ffffff"/>
                </a:solidFill>
                <a:latin typeface="Tahoma"/>
              </a:rPr>
              <a:t>A lehetséges sokféle igény csak kompromisszumok árán teljesíthető. A tervezőknek azonban a termékválaszték specifikálásánál és a termék kiszolgáltatás előkészítésében figyelembe kell venniük az egyedi igények lehetséges legnagyobb mértékű kielégítését. A </a:t>
            </a:r>
            <a:r>
              <a:rPr b="0" i="1" lang="hu-HU" sz="1800" spc="-1" strike="noStrike">
                <a:solidFill>
                  <a:srgbClr val="ffffff"/>
                </a:solidFill>
                <a:latin typeface="Tahoma"/>
              </a:rPr>
              <a:t>funkcionális tagoltság</a:t>
            </a:r>
            <a:r>
              <a:rPr b="0" lang="hu-HU" sz="1800" spc="-1" strike="noStrike">
                <a:solidFill>
                  <a:srgbClr val="ffffff"/>
                </a:solidFill>
                <a:latin typeface="Tahoma"/>
              </a:rPr>
              <a:t> fogalma e felfogás és megközelítés eredményét fedi le. A funkcionális tagoltság egy termék használati minőségének egyik lényeges megítélési szempontja, ami elsődlegesen a felhasználótól eredő használati kívánalmakra adott válasz megfelelőségét fejezi ki. Az ilyen jellegű igények teljesítése ismételten aláhúzza a piaci információ-feltárásnak, a fogyasztókkal való kapcsolattartásnak, a termék felhasználói tesztelésének fontosságát, a kivételeket kezelni tudó termék-előállítási módszertannal együt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79B37C-6C02-4CAA-968C-86F58384387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és informatika</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őségbiztosítás informatikáj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formatika minőségbiztosítás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rd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oft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nformatikai termékek és folyamatok </a:t>
            </a:r>
            <a:r>
              <a:rPr b="0" i="1" lang="hu-HU" sz="2800" spc="-1" strike="noStrike">
                <a:solidFill>
                  <a:srgbClr val="ffffff"/>
                </a:solidFill>
                <a:latin typeface="Tahoma"/>
              </a:rPr>
              <a:t>megbízhatósága</a:t>
            </a:r>
            <a:r>
              <a:rPr b="0" lang="hu-HU" sz="2800" spc="-1" strike="noStrike">
                <a:solidFill>
                  <a:srgbClr val="ffffff"/>
                </a:solidFill>
                <a:latin typeface="Tahoma"/>
              </a:rPr>
              <a:t>, </a:t>
            </a:r>
            <a:r>
              <a:rPr b="0" i="1" lang="hu-HU" sz="2800" spc="-1" strike="noStrike">
                <a:solidFill>
                  <a:srgbClr val="ffffff"/>
                </a:solidFill>
                <a:latin typeface="Tahoma"/>
              </a:rPr>
              <a:t>biztonsága </a:t>
            </a:r>
            <a:r>
              <a:rPr b="0" lang="hu-HU" sz="2800" spc="-1" strike="noStrike">
                <a:solidFill>
                  <a:srgbClr val="ffffff"/>
                </a:solidFill>
                <a:latin typeface="Tahoma"/>
              </a:rPr>
              <a:t>és </a:t>
            </a:r>
            <a:r>
              <a:rPr b="0" i="1" lang="hu-HU" sz="2800" spc="-1" strike="noStrike">
                <a:solidFill>
                  <a:srgbClr val="ffffff"/>
                </a:solidFill>
                <a:latin typeface="Tahoma"/>
              </a:rPr>
              <a:t>védelme</a:t>
            </a:r>
            <a:r>
              <a:rPr b="0" lang="hu-HU"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A5E0E5E-D450-47E1-949D-CEC30C5F14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Juran 10 pontja a minőségjavításhoz</a:t>
            </a:r>
            <a:endParaRPr b="0" lang="en-US" sz="4000" spc="-1" strike="noStrike">
              <a:solidFill>
                <a:srgbClr val="ffffcc"/>
              </a:solidFill>
              <a:latin typeface="Tahoma"/>
            </a:endParaRPr>
          </a:p>
        </p:txBody>
      </p:sp>
      <p:sp>
        <p:nvSpPr>
          <p:cNvPr id="435" name="PlaceHolder 2"/>
          <p:cNvSpPr>
            <a:spLocks noGrp="1"/>
          </p:cNvSpPr>
          <p:nvPr>
            <p:ph/>
          </p:nvPr>
        </p:nvSpPr>
        <p:spPr>
          <a:xfrm>
            <a:off x="301320" y="1599840"/>
            <a:ext cx="8591400" cy="4498920"/>
          </a:xfrm>
          <a:prstGeom prst="rect">
            <a:avLst/>
          </a:prstGeom>
          <a:noFill/>
          <a:ln w="0">
            <a:noFill/>
          </a:ln>
        </p:spPr>
        <p:txBody>
          <a:bodyPr lIns="90000" rIns="90000" tIns="46800" bIns="46800" anchor="t">
            <a:normAutofit/>
          </a:bodyPr>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udatosítsuk a javítás szükségességét és lehetőség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űzzük ki a javítás céljai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zervezzük úgy a munkánkat, hogy a célokat elérjük</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artsunk képzé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problémák megoldására indítsunk projekt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és jelentsük az előrehaladá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Ismerjük el a teljesítmény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együk közzé az eredmény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a célok elérés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folyamatjavítás legyen a szervezet éves </a:t>
            </a:r>
            <a:r>
              <a:rPr b="0" lang="en-US" sz="2400" spc="-1" strike="noStrike">
                <a:solidFill>
                  <a:srgbClr val="ffffff"/>
                </a:solidFill>
                <a:latin typeface="Tahoma"/>
              </a:rPr>
              <a:t>     </a:t>
            </a:r>
            <a:r>
              <a:rPr b="0" lang="en-US" sz="2400" spc="-1" strike="noStrike">
                <a:solidFill>
                  <a:srgbClr val="ffffff"/>
                </a:solidFill>
                <a:latin typeface="Tahoma"/>
              </a:rPr>
              <a:t>	</a:t>
            </a:r>
            <a:r>
              <a:rPr b="0" lang="hu-HU" sz="2400" spc="-1" strike="noStrike">
                <a:solidFill>
                  <a:srgbClr val="ffffff"/>
                </a:solidFill>
                <a:latin typeface="Tahoma"/>
              </a:rPr>
              <a:t>tevékenységének állandó ré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81987E8-9537-4030-BD6F-7BA63341102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Diagnosztizálhatóság: </a:t>
            </a:r>
            <a:r>
              <a:rPr b="0" lang="hu-HU" sz="1800" spc="-1" strike="noStrike">
                <a:solidFill>
                  <a:srgbClr val="ffffff"/>
                </a:solidFill>
                <a:latin typeface="Tahoma"/>
              </a:rPr>
              <a:t>milyen lehetőség van a helytelen működés okának meghatározására, illetve a termék funkcióteljesítésének biztosításához szükséges karbantartási tevékenységsorozat meghatározására. Ez a termékek jelenlegi fejlettségi szintjén általában nem felhasználói feladat.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Például gépjárművek elektronikai rendszerei és a számítógéppel vezérelt motorok problémáinak diagnosztizálására olyan berendezéseket használnak, amelyek a működés egészének vizsgálata alapján lokálisan azonosítják a problémákat. A diagnosztizáló berendezések a gépjárművek számítógépeihez csatlakoztathatók, és így a motorhibákra, vagy az elektronikus rendszer helytelen működéseire az előzmény-adatok alapján következtetnek. A hagyományos gépészeti rendszerek esetében azonban a diagnosztizálás sokkal komplikáltabb. Először - rendszerint csak a felhasználó panaszai alapján - meg kell határozni, hogy a mechanikus szerkezet melyik részrendszere okozza a problémát. Ha a hiba okára nincs jelzés, akkor a szakembereknek próbálkozással kell a hibaforrást megállapítani. A korszerű elektromechanikai termékek tervezésnél például emiatt az alkatrészeket különálló funkcionális csoportokba rendezik és lehetővé teszik, hogy a diagnosztizálást végző személy a helytelen működés területét ennek alapján gyorsan be tudja határolni. Már a tervezés során gondolni kell arra, hogy az esetleg egyidejűleg helytelenül működő részrendszerek egymásra csak minimális hatást gyakoroljanak, mert ez a diagnosztizálás mellett a karbantarthatóságot is előnyösen befolyásolja. A diagnosztizálhatóság kérdése összefügg a meghibásodási módozat elemzéss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E1406D-9775-4B19-A4D0-06AAB5BC808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Passzív szemléletű diagnosztizálás</a:t>
            </a:r>
            <a:r>
              <a:rPr b="0" lang="hu-HU" sz="2000" spc="-1" strike="noStrike">
                <a:solidFill>
                  <a:srgbClr val="ffffff"/>
                </a:solidFill>
                <a:latin typeface="Tahoma"/>
              </a:rPr>
              <a:t> - a korábbi termékek alkatrészeire és részrendszereire vonatkozó adatok továbbvitele alapján ad lehetőséget a konstrukciók jövőben várható megbízhatóságának előrejelezésér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ktív jellegű diagnosztizálás</a:t>
            </a:r>
            <a:r>
              <a:rPr b="0" lang="hu-HU" sz="2000" spc="-1" strike="noStrike">
                <a:solidFill>
                  <a:srgbClr val="ffffff"/>
                </a:solidFill>
                <a:latin typeface="Tahoma"/>
              </a:rPr>
              <a:t> a működés helyességének vagy rendellenességeinek feltárásában a diagnosztizálást elősegítő konstrukciós elemeket betervezés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ásik lényeges eleme a </a:t>
            </a:r>
            <a:r>
              <a:rPr b="0" i="1" lang="hu-HU" sz="2000" spc="-1" strike="noStrike">
                <a:solidFill>
                  <a:srgbClr val="ffffff"/>
                </a:solidFill>
                <a:latin typeface="Tahoma"/>
              </a:rPr>
              <a:t>műszeres vizsgálhatóság</a:t>
            </a:r>
            <a:r>
              <a:rPr b="0" lang="hu-HU" sz="2000" spc="-1" strike="noStrike">
                <a:solidFill>
                  <a:srgbClr val="ffffff"/>
                </a:solidFill>
                <a:latin typeface="Tahoma"/>
              </a:rPr>
              <a:t>. A vizsgálhatóság olyan konstrukciós jellemző, ami lehetővé teszi, hogy a működő, működésen kívüli, vagy meghibásodott alkatrészek, alkatrész csoportok közvetlenül - szétszerelés nélkül - vizsgálhatók legyenek. A kopás, a repedés, az alaktorzulás, a törés vizsgálatok automatizálása kiemelt kutatási területe a diagnosztizálhatóság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A2DA4A-91B3-4772-A887-A9A14C1DA7D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0" i="1" lang="hu-HU" sz="1600" spc="-1" strike="noStrike">
                <a:solidFill>
                  <a:srgbClr val="ffffff"/>
                </a:solidFill>
                <a:latin typeface="Tahoma"/>
              </a:rPr>
              <a:t>állapotfenntartás</a:t>
            </a:r>
            <a:r>
              <a:rPr b="0" lang="hu-HU" sz="1600" spc="-1" strike="noStrike">
                <a:solidFill>
                  <a:srgbClr val="ffffff"/>
                </a:solidFill>
                <a:latin typeface="Tahoma"/>
              </a:rPr>
              <a:t> a rendszeres, vagy rutinjellegű állapotmegőrző és meghibásodás megelőző karbantartás végrehajtásához kapcsolódó fogalom. </a:t>
            </a:r>
            <a:endParaRPr b="0" lang="en-US" sz="1600" spc="-1" strike="noStrike">
              <a:solidFill>
                <a:srgbClr val="ffffff"/>
              </a:solidFill>
              <a:latin typeface="Tahoma"/>
            </a:endParaRPr>
          </a:p>
          <a:p>
            <a:pPr lvl="1" marL="820800" indent="0">
              <a:lnSpc>
                <a:spcPct val="80000"/>
              </a:lnSpc>
              <a:spcBef>
                <a:spcPts val="3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árműgépészet esetében ilyen állapotfenntartási tevékenység pl. az olajszint-ellenőrzés és -feltöltés, a fagyálló folyadék ellenőrzés és feltöltés, a  hűtővíz-ellenőrzés és -feltöltés, vagy éppen az akkumulátorok feltöltöttségének ellenőrzése. </a:t>
            </a:r>
            <a:endParaRPr b="0" lang="en-US" sz="1400" spc="-1" strike="noStrike">
              <a:solidFill>
                <a:srgbClr val="ffffff"/>
              </a:solidFill>
              <a:latin typeface="Tahoma"/>
            </a:endParaRPr>
          </a:p>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állapotfenntartás lényeges eleme az alkatrészekhez való hozzáférés, valamint az állapotfenntartáshoz szükséges tevékenységek nyilvánvalósága és biztonságossága. A tervezés folyamán az állapotfenntartási tevékenységeket támogató eszközöket egyrészt meg kell tervezni, másrészt úgy kell beépíteni a szerkezetbe, hogy azok jól láthatóak, vagy jól jelölhetők legyenek. Meg kell akadályozni mindenféle összetévesztés lehetőségét és lehetővé kell tenni, hogy a rutinjellegű tevékenységeket maguk a felhasználók végezzék el. Ebből következően magas szintű szakértelmet általában nem célszerű feltételezni. A tervezésnél arra is gondot kell fordítani, hogy az ellenőrzést lehetőleg egyetlen pozícióban végre lehessen hajtani. A csoportba rendezés, a címkézés, színkódolás nagymértékben segít az  állapotfenntartás végrehajtásában. Bizonyos esetekben a felhasználói ismeretek nem elégségesek az állapot fenntartásához, ezért a szükséges speciális eszközkészletet és speciális ismeretszintet már a tervezés során meg kell határozni. Gondoljunk arra, hogy az olajcserét végrehajthatják a felhasználók, de a kipufogógáz kibocsátás állapotfenntartása, illetve annak ellenőrzése speciális vizsgálóberendezést igény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565317-0623-4BD5-B318-9DCEE0B4A51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rányultságú tervezés szükségességét az is indokolja, hogy napjainkban a konstrukciókat nem csak a működési igények kielégítésére kell megtervezni, hanem minden olyan feltételnek meg kell felelni, ami a termék az életciklusa során előadódh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int a minőséget befolyásoló kategória, annak a képességnek a mértékét fejezi ki, hogy egy adott szerkezeti elem igényelt működése milyen mértékben tartható fenn, vagy állítható vissza különböző beavatkozásokon keresztü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génye a hadiiparban jelent meg, ahol a funkcionalitás teljesítése mellett a műszaki minőség is meghatározó tényező.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numerikus minősítésére különböző jellemzőket alakítottak ki, mint pl. a meghibásodások között eltelt idő, vagy a rendszer átlagos üzemenkívüliségének idej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58F754-EFDC-44D5-84C6-8CD03585E51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arbantarthatóságra  irányuló tervezés</a:t>
            </a:r>
            <a:endParaRPr b="0" lang="en-US" sz="4000" spc="-1" strike="noStrike">
              <a:solidFill>
                <a:srgbClr val="ffffcc"/>
              </a:solidFill>
              <a:latin typeface="Tahoma"/>
            </a:endParaRPr>
          </a:p>
        </p:txBody>
      </p:sp>
      <p:sp>
        <p:nvSpPr>
          <p:cNvPr id="9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karbantarthatóság</a:t>
            </a:r>
            <a:r>
              <a:rPr b="0" lang="hu-HU" sz="2000" spc="-1" strike="noStrike">
                <a:solidFill>
                  <a:srgbClr val="ffffff"/>
                </a:solidFill>
                <a:latin typeface="Tahoma"/>
              </a:rPr>
              <a:t> fogalmával azt fejezzük ki, hogy a berendezések működőképességének helyreállításához kapcsolódó tevékenységek milyen formában és ráfordításokkal hajthatók végre.</a:t>
            </a:r>
            <a:br>
              <a:rPr sz="2000"/>
            </a:br>
            <a:r>
              <a:rPr b="0" lang="hu-HU" sz="2000" spc="-1" strike="noStrike">
                <a:solidFill>
                  <a:srgbClr val="ffffff"/>
                </a:solidFill>
                <a:latin typeface="Tahoma"/>
              </a:rPr>
              <a:t>A karbantarthatóságot főleg a következő tényezők befolyásolják:</a:t>
            </a:r>
            <a:endParaRPr b="0" lang="en-US" sz="20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és részrendszerek megbízhatóság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i munka köl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észlet-nyilvántartási költség</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igénylő komponensekhez való hozzáférés lehető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alkatrészek, szerszámok, segédanyagok és eszközök biztosítás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végző személyek képzet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referenciá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arancia időbeli és lefedési terjedelm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speciális eszközök és javító-berendezése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serealkatrészek gyártásának, vagy beszerzésének lehetőség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9EBCDB-9592-4EAB-8E78-13FA1154D8B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hibásodási módozatok és hatásuk elemzése</a:t>
            </a:r>
            <a:endParaRPr b="0" lang="en-US" sz="4000" spc="-1" strike="noStrike">
              <a:solidFill>
                <a:srgbClr val="ffffcc"/>
              </a:solidFill>
              <a:latin typeface="Tahoma"/>
            </a:endParaRPr>
          </a:p>
        </p:txBody>
      </p:sp>
      <p:sp>
        <p:nvSpPr>
          <p:cNvPr id="9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ik legfontosabb minőségbiztosítási eljárás </a:t>
            </a:r>
            <a:r>
              <a:rPr b="0" i="1" lang="hu-HU" sz="1800" spc="-1" strike="noStrike">
                <a:solidFill>
                  <a:srgbClr val="ffffff"/>
                </a:solidFill>
                <a:latin typeface="Tahoma"/>
              </a:rPr>
              <a:t>a meghibásodási módozat és hatáselemzési módszer</a:t>
            </a:r>
            <a:r>
              <a:rPr b="0" lang="hu-HU" sz="1800" spc="-1" strike="noStrike">
                <a:solidFill>
                  <a:srgbClr val="ffffff"/>
                </a:solidFill>
                <a:latin typeface="Tahoma"/>
              </a:rPr>
              <a:t> (</a:t>
            </a:r>
            <a:r>
              <a:rPr b="1" lang="hu-HU" sz="1800" spc="-1" strike="noStrike">
                <a:solidFill>
                  <a:srgbClr val="ffffff"/>
                </a:solidFill>
                <a:latin typeface="Tahoma"/>
              </a:rPr>
              <a:t>F</a:t>
            </a:r>
            <a:r>
              <a:rPr b="0" lang="hu-HU" sz="1800" spc="-1" strike="noStrike">
                <a:solidFill>
                  <a:srgbClr val="ffffff"/>
                </a:solidFill>
                <a:latin typeface="Tahoma"/>
              </a:rPr>
              <a:t>ailure </a:t>
            </a:r>
            <a:r>
              <a:rPr b="1" lang="hu-HU" sz="1800" spc="-1" strike="noStrike">
                <a:solidFill>
                  <a:srgbClr val="ffffff"/>
                </a:solidFill>
                <a:latin typeface="Tahoma"/>
              </a:rPr>
              <a:t>M</a:t>
            </a:r>
            <a:r>
              <a:rPr b="0" lang="hu-HU" sz="1800" spc="-1" strike="noStrike">
                <a:solidFill>
                  <a:srgbClr val="ffffff"/>
                </a:solidFill>
                <a:latin typeface="Tahoma"/>
              </a:rPr>
              <a:t>ode and </a:t>
            </a:r>
            <a:r>
              <a:rPr b="1" lang="hu-HU" sz="1800" spc="-1" strike="noStrike">
                <a:solidFill>
                  <a:srgbClr val="ffffff"/>
                </a:solidFill>
                <a:latin typeface="Tahoma"/>
              </a:rPr>
              <a:t>E</a:t>
            </a:r>
            <a:r>
              <a:rPr b="0" lang="hu-HU" sz="1800" spc="-1" strike="noStrike">
                <a:solidFill>
                  <a:srgbClr val="ffffff"/>
                </a:solidFill>
                <a:latin typeface="Tahoma"/>
              </a:rPr>
              <a:t>ffects </a:t>
            </a:r>
            <a:r>
              <a:rPr b="1" lang="hu-HU" sz="1800" spc="-1" strike="noStrike">
                <a:solidFill>
                  <a:srgbClr val="ffffff"/>
                </a:solidFill>
                <a:latin typeface="Tahoma"/>
              </a:rPr>
              <a:t>A</a:t>
            </a:r>
            <a:r>
              <a:rPr b="0" lang="hu-HU" sz="1800" spc="-1" strike="noStrike">
                <a:solidFill>
                  <a:srgbClr val="ffffff"/>
                </a:solidFill>
                <a:latin typeface="Tahoma"/>
              </a:rPr>
              <a:t>nalysis, FMEA), amely a rendszer lehetséges helytelen működéseit, vagy működésének megszűnési lehetőségei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FMEA potenciális meghibásodás módozatokat, illetve azok hatását az alkatrészekre, részrendszerekre, rendszerekre, valamint a tervezett termék egészére határozza meg.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sőként a repülőgépgyártásban használták sok évvel ezelőt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észrendszerek, vagy a rendszerek szintjén a FMEA-t gyakran úgy hajtják végre, hogy az alkatrészekre vonatkoztatva vizsgálják a feltételezhető meghibásodási forrásokat, majd az alkatrész meghibásodásának hatását vetítik ki a szerkezet egészének működésére. Ennek alapján értékelik ki, hogy mennyire marad biztonságos a berendezés a működés, a környezet és az ember tekintetében. A FMEA alkalmazását követően a termék konstrukcióját rendszer szinten módosítják és nem pusztán a meghibásodásra hajlamos, vagy azt előidéző alkatrészeket, illetve részrendszereket változtatják meg.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61DD59-0858-4B43-A862-DCBE9B41A0E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i termékek létrehozásának egyik szempontja a </a:t>
            </a:r>
            <a:r>
              <a:rPr b="0" i="1" lang="hu-HU" sz="1800" spc="-1" strike="noStrike">
                <a:solidFill>
                  <a:srgbClr val="ffffff"/>
                </a:solidFill>
                <a:latin typeface="Tahoma"/>
              </a:rPr>
              <a:t>megbízhatóság</a:t>
            </a:r>
            <a:r>
              <a:rPr b="0" lang="hu-HU" sz="1800" spc="-1" strike="noStrike">
                <a:solidFill>
                  <a:srgbClr val="ffffff"/>
                </a:solidFill>
                <a:latin typeface="Tahoma"/>
              </a:rPr>
              <a:t>i szint növelése. A megbízhatóság arra utal, hogy az üzemelő termék működése milyen mértékben tér el a tervezett működéstő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bízhatóság növelésének konstrukciós eszköze a </a:t>
            </a:r>
            <a:r>
              <a:rPr b="0" i="1" lang="hu-HU" sz="1800" spc="-1" strike="noStrike">
                <a:solidFill>
                  <a:srgbClr val="ffffff"/>
                </a:solidFill>
                <a:latin typeface="Tahoma"/>
              </a:rPr>
              <a:t>funkcióhordozók többszörözése,</a:t>
            </a:r>
            <a:r>
              <a:rPr b="0" lang="hu-HU" sz="1800" spc="-1" strike="noStrike">
                <a:solidFill>
                  <a:srgbClr val="ffffff"/>
                </a:solidFill>
                <a:latin typeface="Tahoma"/>
              </a:rPr>
              <a:t> a másik a</a:t>
            </a:r>
            <a:r>
              <a:rPr b="0" i="1" lang="hu-HU" sz="1800" spc="-1" strike="noStrike">
                <a:solidFill>
                  <a:srgbClr val="ffffff"/>
                </a:solidFill>
                <a:latin typeface="Tahoma"/>
              </a:rPr>
              <a:t> megbízhatóság </a:t>
            </a:r>
            <a:r>
              <a:rPr b="0" lang="hu-HU" sz="1800" spc="-1" strike="noStrike">
                <a:solidFill>
                  <a:srgbClr val="ffffff"/>
                </a:solidFill>
                <a:latin typeface="Tahoma"/>
              </a:rPr>
              <a:t>és a</a:t>
            </a:r>
            <a:r>
              <a:rPr b="0" i="1" lang="hu-HU" sz="1800" spc="-1" strike="noStrike">
                <a:solidFill>
                  <a:srgbClr val="ffffff"/>
                </a:solidFill>
                <a:latin typeface="Tahoma"/>
              </a:rPr>
              <a:t> biztonságosság önmagában vett növelése</a:t>
            </a:r>
            <a:r>
              <a:rPr b="0" lang="hu-HU" sz="1800" spc="-1" strike="noStrike">
                <a:solidFill>
                  <a:srgbClr val="ffffff"/>
                </a:solidFill>
                <a:latin typeface="Tahoma"/>
              </a:rPr>
              <a:t>. </a:t>
            </a:r>
            <a:br>
              <a:rPr sz="1800"/>
            </a:br>
            <a:r>
              <a:rPr b="0" lang="hu-HU" sz="1800" spc="-1" strike="noStrike">
                <a:solidFill>
                  <a:srgbClr val="ffffff"/>
                </a:solidFill>
                <a:latin typeface="Tahoma"/>
              </a:rPr>
              <a:t>Mivel a többszörözés egyrészt fokozza a szerkezet bonyolultságát, másrészt növeli létrehozásának költségeit, gyártási és szerelési vonatkozásokat is figyelembe véve csak kompromisszumos megoldások léteznek. A megbízható rendszerek számítógéppel segített tervezése érdekében különböző elemzési módszerek alkalmazására, és a megoldási lehetőségek gondos értékelésére van szükség.</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ASA definíciója: a </a:t>
            </a:r>
            <a:r>
              <a:rPr b="0" i="1" lang="hu-HU" sz="1800" spc="-1" strike="noStrike">
                <a:solidFill>
                  <a:srgbClr val="ffffff"/>
                </a:solidFill>
                <a:latin typeface="Tahoma"/>
              </a:rPr>
              <a:t>megbízhatóság annak valószínűségeke, hogy egy termék egy adott tervezett időszak alatt a figyelembe vett működési feltételek mellett kielégítően működik-e. </a:t>
            </a:r>
            <a:r>
              <a:rPr b="0" lang="hu-HU" sz="1800" spc="-1" strike="noStrike">
                <a:solidFill>
                  <a:srgbClr val="ffffff"/>
                </a:solidFill>
                <a:latin typeface="Tahoma"/>
              </a:rPr>
              <a:t>A megbízhatóságnak a valószínűségi mértékkel való kifejezése azért indokolt, mert a megbízhatóság nem fejezhető ki analitikusan, hanem jellemzésére leginkább tapasztalatokra alapuló empirikus kifejezések alkalmazhatók, amelyek paramétereinek értékét a tervezők csak valószínűségi alapon tudják leír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C1B0EB8-5369-49BE-8DD8-A83F00366C6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űködés fogalma:</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ljes túlélé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rlátozott meghibásodás: működő berendezést úgy tervezzük meg, hogy bármely részének helytelen működése ne okozza a teljes berendezés tönkremenetelé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lenőrzött meghibásodás: csak olyan szerkezeti elemek meghibásodását engedélyezik, amelyekről biztosan lehet tudni, hogy nem vezetnek a szerkezet egészének tönkremenetel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F801B2-FCA1-458B-95CB-E5A2689707B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sság nem leegyszerűsíthető, vagy pusztán a józan ésszel megragadható jellemző, hanem komplex műszaki törekvést feltételez.</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 nem érhető el pusztán a szabványoknak, előírásoknak, szerződéses követelményeknek és/vagy egyéb kódoknak az egyszerű teljesítésével.</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t adott termék esetében alapos meggondolásokkal, az életciklusa egészének tanulmányozásával és az elsődleges működés teljesülési feltételeinek tanulmányozásával lehetséges elérni.</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i követelmények eltussolása, a felszínes beavatkozások, a szükséges biztonsági változtatások áthidalása nem jár előnyös megoldásokkal, hanem inkább éppen az ellenkezője következik b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72C98D-4443-47EC-BDEB-F27CA6C8C3C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mindenki rendelkezik konstruktív hozzáállással a biztonság tekintetében azok közül, akik a biztonság megteremtésében érdekelt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tételezhető fel, hogy a tervezők a biztonság elérésének minden olyan kérdésében szakértők legyenek, amelyek esetleg külső, specializált szakértőket igényeln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hibák, vagy önveszélyeztetési lehetőségek tanulmányozása nem adhat teljeskörű, vagy kielégítő megoldást a biztonságosság elérésében.</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lehet a biztonságosság igényét teljesíteni abban az esetben, ha azt alárendelik más egyéb - sok esetben kevésbé kritikus - szempontoknak, mint pl. a divatosságnak vagy esztétikána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iztonság elérése közvetlenül szolgálja a minőségalkotást és növeli a versenyképességet.</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biztonságossága nem szavatolható jogászi trükkök felelősség-átruházással, biztosítással, megtagadással, tettetéssel, vagy figyelmen kívül hagyással </a:t>
            </a:r>
            <a:endParaRPr b="0" lang="en-US" sz="1800" spc="-1" strike="noStrike">
              <a:solidFill>
                <a:srgbClr val="ffffff"/>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FC0F28-0DBD-4125-99D9-B340E9C9781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gyük világossá, hogy a vezetőség elkötelezett a minőség irá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ég minden osztályáról gyűjtsünk képviselőket és alakítsunk ki minőségi csoporto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jük a folyamatokat és azonosítsuk a jelenlegi és potenciális problémáka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rozzuk meg a minőség költségét és használjuk menedzsment eszközké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az alkalmazottakban a minőség fontosságá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intézkedéseket az előző lépésekben feltárt problémák megoldására</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san kísérjük figyelemmel a minőség javításának folyamat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7E87537-3374-4DC7-A913-1880FEDC73A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avíthatóságra  irányuló tervezés</a:t>
            </a:r>
            <a:endParaRPr b="0" lang="en-US" sz="4400" spc="-1" strike="noStrike">
              <a:solidFill>
                <a:srgbClr val="ffffcc"/>
              </a:solidFill>
              <a:latin typeface="Tahoma"/>
            </a:endParaRPr>
          </a:p>
        </p:txBody>
      </p:sp>
      <p:sp>
        <p:nvSpPr>
          <p:cNvPr id="9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a:t>
            </a:r>
            <a:endParaRPr b="0" lang="en-US" sz="20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elytelen működések következményeinek javítása </a:t>
            </a:r>
            <a:endParaRPr b="0" lang="en-US" sz="18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ljes üzemképtelenség javítása.</a:t>
            </a:r>
            <a:endParaRPr b="0" lang="en-US" sz="18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ot befolyásoló fő tényezők a használt szerkezeti anyagok és a szerkezeti egységek modularitása. </a:t>
            </a:r>
            <a:br>
              <a:rPr sz="2000"/>
            </a:br>
            <a:r>
              <a:rPr b="0" lang="hu-HU" sz="2000" spc="-1" strike="noStrike">
                <a:solidFill>
                  <a:srgbClr val="ffffff"/>
                </a:solidFill>
                <a:latin typeface="Tahoma"/>
              </a:rPr>
              <a:t>Ez utóbbi a javítási egységekben, modulokban való gondolkodást szorgalmazza. Általában a modulok helyettesítésével történő javítás sok emberi munkaerőt takarít meg és ezen megtakarítás gyakran kompenzálja a modul megvásárlásának magasabb költségét. Tervezési szempontból a legfontosabb meggondolás az optimális mértékben moduláris szerkezet kialakítása, ami minimalizálja a teljes tönkremenetel javításának költségé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ularizált konstrukciókhoz kapcsolódó további kérdés a modulok eltávolításának egyszerűsége és a modulok üzembe helyezésének szakértelem-igény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53F1F8-F01A-4341-A8F4-DE41E9F350C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a:t>
            </a:r>
            <a:r>
              <a:rPr b="0" i="1" lang="en-US" sz="2400" spc="-1" strike="noStrike">
                <a:solidFill>
                  <a:srgbClr val="ffffff"/>
                </a:solidFill>
                <a:latin typeface="Tahoma"/>
              </a:rPr>
              <a:t> </a:t>
            </a:r>
            <a:r>
              <a:rPr b="0" i="1" lang="hu-HU" sz="2400" spc="-1" strike="noStrike">
                <a:solidFill>
                  <a:srgbClr val="ffffff"/>
                </a:solidFill>
                <a:latin typeface="Tahoma"/>
              </a:rPr>
              <a:t>termékek megsemmisítésének  </a:t>
            </a:r>
            <a:r>
              <a:rPr b="0" lang="hu-HU" sz="2400" spc="-1" strike="noStrike">
                <a:solidFill>
                  <a:srgbClr val="ffffff"/>
                </a:solidFill>
                <a:latin typeface="Tahoma"/>
              </a:rPr>
              <a:t>alkalmazása mai értelmezésünk szerint az energia és anyagi javak megengedhetetlen pazarlását jelenti, hiszen a Föld természeti javai végesek és egyre inkább fogynak. Elvi szempontból a megsemmisítés két nagy problémával jár együtt:</a:t>
            </a:r>
            <a:endParaRPr b="0" lang="en-US" sz="24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semmisítéshez szükséges, esetenként jelentős energia és költségráfordítással, és</a:t>
            </a:r>
            <a:endParaRPr b="0" lang="en-US" sz="20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rnyezet károsításával.</a:t>
            </a:r>
            <a:endParaRPr b="0" lang="en-US" sz="20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be beépített anyagok megfelelő feldolgozás után ismételten felhasználhatók, vagy alternatív formában hasznosíthatók.</a:t>
            </a:r>
            <a:br>
              <a:rPr sz="2400"/>
            </a:br>
            <a:r>
              <a:rPr b="0" lang="hu-HU" sz="2400" spc="-1" strike="noStrike">
                <a:solidFill>
                  <a:srgbClr val="ffffff"/>
                </a:solidFill>
                <a:latin typeface="Tahoma"/>
              </a:rPr>
              <a:t>Az újrahasznosításhoz szükséges utófeldolgozás energia- és egyéb költségei a környezetkímélő megsemmisítés költségei alá szoríthatók.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77D8DB-8363-46C8-ACB8-36EDFE8D1E8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hasznosítás a lehetséges anyagok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logisztikai kezelésének</a:t>
            </a:r>
            <a:r>
              <a:rPr b="0" lang="hu-HU" sz="1800" spc="-1" strike="noStrike">
                <a:solidFill>
                  <a:srgbClr val="ffffff"/>
                </a:solidFill>
                <a:latin typeface="Tahoma"/>
              </a:rPr>
              <a:t>,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étválasztásának</a:t>
            </a:r>
            <a:r>
              <a:rPr b="0" lang="hu-HU" sz="1800" spc="-1" strike="noStrike">
                <a:solidFill>
                  <a:srgbClr val="ffffff"/>
                </a:solidFill>
                <a:latin typeface="Tahoma"/>
              </a:rPr>
              <a:t> vagy </a:t>
            </a:r>
            <a:r>
              <a:rPr b="0" i="1" lang="hu-HU" sz="1800" spc="-1" strike="noStrike">
                <a:solidFill>
                  <a:srgbClr val="ffffff"/>
                </a:solidFill>
                <a:latin typeface="Tahoma"/>
              </a:rPr>
              <a:t>visszaalakításának</a:t>
            </a:r>
            <a:r>
              <a:rPr b="0" lang="hu-HU" sz="1800" spc="-1" strike="noStrike">
                <a:solidFill>
                  <a:srgbClr val="ffffff"/>
                </a:solidFill>
                <a:latin typeface="Tahoma"/>
              </a:rPr>
              <a:t>,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utóhasznosításának</a:t>
            </a:r>
            <a:r>
              <a:rPr b="0" lang="hu-HU" sz="1800" spc="-1" strike="noStrike">
                <a:solidFill>
                  <a:srgbClr val="ffffff"/>
                </a:solidFill>
                <a:latin typeface="Tahoma"/>
              </a:rPr>
              <a:t> megoldására irányul.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apjainkra már többféle koncepció vált ismertté az ún. utófelhasználás megvalósítására, például: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ásodkézben való hasznos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donság értéket kölcsönző feljav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isszanyerési érdekeltségi rendszer kialakítása,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nmaguktól lebomló anyagféleségek alkalmazása,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lternatív újrahasznosítási formák kidolgoz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226465-F1BB-4400-AEC5-25F57A23F3D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lkatrészek teljes  darabszámának minimalizálása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változat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konstrukciós megoldások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gyártásának egyszerűsí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fogási változtatások minimalizálás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relési szempontokat előnyben részesítő tervezé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oduláris konstrukció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szörös felhasználású alkatrészek tervez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erelést igénylő rögzítőelemek számának csökken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szerelési irány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mozgatás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állítások iránti igény kiküszöbölése vagy egyszerűsít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ugalmas alkatrészek kiküszöbölése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73C65F-53EA-4CFA-BEC8-C4F8E6DBCCB4}"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endParaRPr b="0" lang="en-US" sz="4000" spc="-1" strike="noStrike">
              <a:solidFill>
                <a:srgbClr val="ffffcc"/>
              </a:solidFill>
              <a:latin typeface="Tahoma"/>
            </a:endParaRPr>
          </a:p>
        </p:txBody>
      </p:sp>
      <p:sp>
        <p:nvSpPr>
          <p:cNvPr id="952" name="PlaceHolder 2"/>
          <p:cNvSpPr>
            <a:spLocks noGrp="1"/>
          </p:cNvSpPr>
          <p:nvPr>
            <p:ph/>
          </p:nvPr>
        </p:nvSpPr>
        <p:spPr>
          <a:xfrm>
            <a:off x="301680" y="1599840"/>
            <a:ext cx="4486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ltség-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futási idő 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űrés-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rtuális termelésre irányuló tervezé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3"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54" name=""/>
          <p:cNvGraphicFramePr/>
          <p:nvPr/>
        </p:nvGraphicFramePr>
        <p:xfrm>
          <a:off x="4859280" y="1844640"/>
          <a:ext cx="3773520" cy="4127400"/>
        </p:xfrm>
        <a:graphic>
          <a:graphicData uri="http://schemas.openxmlformats.org/presentationml/2006/ole">
            <p:oleObj r:id="rId1" spid="">
              <p:embed/>
              <p:pic>
                <p:nvPicPr>
                  <p:cNvPr id="955" name="" descr=""/>
                  <p:cNvPicPr/>
                  <p:nvPr/>
                </p:nvPicPr>
                <p:blipFill>
                  <a:blip r:embed="rId2"/>
                  <a:stretch/>
                </p:blipFill>
                <p:spPr>
                  <a:xfrm>
                    <a:off x="4859280" y="1844640"/>
                    <a:ext cx="3773520" cy="4127400"/>
                  </a:xfrm>
                  <a:prstGeom prst="rect">
                    <a:avLst/>
                  </a:prstGeom>
                  <a:ln w="0">
                    <a:noFill/>
                  </a:ln>
                </p:spPr>
              </p:pic>
            </p:oleObj>
          </a:graphicData>
        </a:graphic>
      </p:graphicFrame>
      <p:sp>
        <p:nvSpPr>
          <p:cNvPr id="956" name=""/>
          <p:cNvSpPr/>
          <p:nvPr/>
        </p:nvSpPr>
        <p:spPr>
          <a:xfrm>
            <a:off x="0" y="52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4D7913B-B485-4F30-89AC-0EBA35551BBC}"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menedzsment szerepe a minőségalkotásban</a:t>
            </a:r>
            <a:endParaRPr b="0" lang="en-US" sz="4000" spc="-1" strike="noStrike">
              <a:solidFill>
                <a:srgbClr val="ffffcc"/>
              </a:solidFill>
              <a:latin typeface="Tahoma"/>
            </a:endParaRPr>
          </a:p>
        </p:txBody>
      </p:sp>
      <p:sp>
        <p:nvSpPr>
          <p:cNvPr id="9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 fokozásának a nagyobb nyereségben és az alacsonyabb költségben is meg kell jelenni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ban az alkalmazott folyamat, vagy maga a gyártórendszer egésze az oka a minőségi problémák mintegy 85 %-ána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yártórendszer minőségorientált feljavítását kizárólag csak a vezetés kezdeményezése alapján lehet végrehajta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Bár az alkalmazottak elkövethetnek hibákat, azonban azok következményeit nem engedik tovább a gyártási folyamat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szállítókat a fejlesztő csoport részének kell tekinteni és a megbízhatóság és a minőség tekintetében egyenlő elbírálást kell alkalmaz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nak bizonyos mértékben ismernie kell a statisztikus minőségszabályozás elvé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unkaerő számszerű minősítését, a vezetés számára előírt statisztikai célokat és a gyártórendszer évenkénti minősítését és elbírálását ki kell küszöböl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ra nézve be kell vezetni egy szigorú oktatási és önképzési techniká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08F2500-43A9-45BE-A96F-F605095048AE}"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cc"/>
                </a:solidFill>
                <a:latin typeface="Tahoma"/>
              </a:rPr>
              <a:t>A minőségfejlesztés konkurens tervezésre alapozott megvalósításának feltételei</a:t>
            </a:r>
            <a:endParaRPr b="0" lang="en-US" sz="3200" spc="-1" strike="noStrike">
              <a:solidFill>
                <a:srgbClr val="ffffcc"/>
              </a:solidFill>
              <a:latin typeface="Tahoma"/>
            </a:endParaRPr>
          </a:p>
        </p:txBody>
      </p:sp>
      <p:sp>
        <p:nvSpPr>
          <p:cNvPr id="9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ről lefelé haladó tervezési eljárás alkalmazása átfogó rendszerfejlesztési folyamatra alapozv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sárlóval vagy a felhasználóval való szoros kapcsolattartá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és több szakterületet lefedő csoportok kialak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soport folyamatos munkavégzésének biztos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és folyamatjellemzők optimalizálása a gyakorlati mérnöki tapasztalatok felhasználásáva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prototípusainak összehasonlító vizsgálatai, illetve digitális termékmodellek létrehozására alapozva virtuális prototípus vizsgál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működésének, gyártásának és karbantartási folyamatainak szimulációj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ockázat elfogadható szintjének szimulációval történő  vizsgálata és ennek alapján a szükséges változtatások végrehaj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vállalkozók és beszállítók legkorábbi bevon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os elkötelezettség a konstrukció javításának végrehajtására és a továbbfejlesztésér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BE17095-6860-40DF-8D41-6B8B36763742}"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jogi kifejezés, amely a minőségalkotás kapcsán azt fejezi ki, hogy milyen tevékenységeket kell a tervezőknek végrehajtani annak érdekében, hogy a termékükért felelősséget vállalhassana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eghibásodásával vagy tönkremenetelével anyagi kár, személyi sérülés, vagy tulajdonvesztés állhat elő, amelyek következményei a felhasználót sújtjá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kérdése a fejlett ipari országokban is csak részlegesen rendezett és a minőségalkotás kapcsán csak az elmúlt években került előtérbe. Az Egyesült Államokban pl. hosszabb ideje létezik olyan törvény, amely minden eladott termék, vagy berendezés esetében megköveteli a termék tervezőjének és gyártójának egyértelmű feltüntetését, ezen keresztül a termékfelelősség arányának kijelölésé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amellett nem szabad megfeledkezni arról, hogy a normatív oldala termékfelelősségnek csak az egyik oldala, emellett létezik egy másik, az </a:t>
            </a:r>
            <a:r>
              <a:rPr b="0" i="1" lang="hu-HU" sz="2000" spc="-1" strike="noStrike">
                <a:solidFill>
                  <a:srgbClr val="ffffff"/>
                </a:solidFill>
                <a:latin typeface="Tahoma"/>
              </a:rPr>
              <a:t>etikai termékfelelősség</a:t>
            </a:r>
            <a:r>
              <a:rPr b="0" lang="hu-HU" sz="2000" spc="-1" strike="noStrike">
                <a:solidFill>
                  <a:srgbClr val="ffffff"/>
                </a:solidFill>
                <a:latin typeface="Tahoma"/>
              </a:rPr>
              <a:t> is.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30B9885-F5D4-4807-9AFF-E237D840B896}"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4"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65" name=""/>
          <p:cNvGraphicFramePr/>
          <p:nvPr/>
        </p:nvGraphicFramePr>
        <p:xfrm>
          <a:off x="539640" y="1287360"/>
          <a:ext cx="8209080" cy="4786560"/>
        </p:xfrm>
        <a:graphic>
          <a:graphicData uri="http://schemas.openxmlformats.org/presentationml/2006/ole">
            <p:oleObj r:id="rId1" spid="">
              <p:embed/>
              <p:pic>
                <p:nvPicPr>
                  <p:cNvPr id="966" name="" descr=""/>
                  <p:cNvPicPr/>
                  <p:nvPr/>
                </p:nvPicPr>
                <p:blipFill>
                  <a:blip r:embed="rId2"/>
                  <a:stretch/>
                </p:blipFill>
                <p:spPr>
                  <a:xfrm>
                    <a:off x="539640" y="1287360"/>
                    <a:ext cx="8209080" cy="4786560"/>
                  </a:xfrm>
                  <a:prstGeom prst="rect">
                    <a:avLst/>
                  </a:prstGeom>
                  <a:ln w="0">
                    <a:noFill/>
                  </a:ln>
                </p:spPr>
              </p:pic>
            </p:oleObj>
          </a:graphicData>
        </a:graphic>
      </p:graphicFrame>
      <p:sp>
        <p:nvSpPr>
          <p:cNvPr id="967" name=""/>
          <p:cNvSpPr/>
          <p:nvPr/>
        </p:nvSpPr>
        <p:spPr>
          <a:xfrm>
            <a:off x="0" y="496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001CE7F-AE61-4DAF-9297-6F061D54EEF0}"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i</a:t>
            </a:r>
            <a:r>
              <a:rPr b="0" lang="en-US" sz="4000" spc="-1" strike="noStrike">
                <a:solidFill>
                  <a:srgbClr val="ffffcc"/>
                </a:solidFill>
                <a:latin typeface="Tahoma"/>
              </a:rPr>
              <a:t> / </a:t>
            </a:r>
            <a:r>
              <a:rPr b="0" lang="hu-HU" sz="4000" spc="-1" strike="noStrike">
                <a:solidFill>
                  <a:srgbClr val="ffffcc"/>
                </a:solidFill>
                <a:latin typeface="Tahoma"/>
              </a:rPr>
              <a:t>gyártási hiányosságok</a:t>
            </a:r>
            <a:endParaRPr b="0" lang="en-US" sz="4000" spc="-1" strike="noStrike">
              <a:solidFill>
                <a:srgbClr val="ffffcc"/>
              </a:solidFill>
              <a:latin typeface="Tahoma"/>
            </a:endParaRPr>
          </a:p>
        </p:txBody>
      </p:sp>
      <p:sp>
        <p:nvSpPr>
          <p:cNvPr id="9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i hiányosságok csoportj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lagos fogyasztó által elvártnál alacsonyabb biztonság</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eszély megelőzése érdekében teendő eltúlzott intézkedések.</a:t>
            </a:r>
            <a:endParaRPr b="0" lang="en-US" sz="24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ási hiányosságoknak alaptípus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pecifikációknak való meg nem felelés</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nem kielégítő figyelembevétele</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abványokban meghatározottaktól való eltér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95B593D-F524-460A-979B-C4870600D251}"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épezzünk a minőségbiztosítással foglakozó munkatársaka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mindenkiben, hogy változás történt és tartsunk „nulla hiba” napo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mogassuk az egyéni javítási célok kitűzés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átorítsuk az alkalmazottakat, hogy folytassanak párbeszédet a fejlesztés akadályairól</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erjük el és méltányoljuk a minőségbiztosítás javításában részt vevők eredmény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létre minőségügyi csoportokat, amelyek rendszeres párbeszédet folytatnak</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tassuk ezeket a lépéseket, hangsúlyozva, hogy a minőségjavítás soha nem ér vége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250ECE-8BD3-4479-9C48-10755550F8CE}"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0" lang="hu-HU" sz="2000" spc="-1" strike="noStrike">
                <a:solidFill>
                  <a:srgbClr val="ffffff"/>
                </a:solidFill>
                <a:latin typeface="Tahoma"/>
              </a:rPr>
              <a:t>létrehozott termék emberi környezetben működik, vagyis az ember integráns része a működő rendszer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kiváltott hibák lehetőségét ki kell küszöbölni, vagy minimálisra kell csökkenteni.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őknek nem szabad elvárni a termék felhasználójától, hogy</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ját fizikai  teljesítőképességét meghaladva működtesse a rendszert,</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idejűleg túl nagy számú funkció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lehetségesnél több információt lásson előre és dolgozzon fel,</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zavaró környezeti feltételek mellett igényességet követelő feladato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osszú időn keresztül teljesítőképességének csúcsértékét elérve tevékenykedjen,</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xtrém leterheléseket és szükségtelen kihagyásokat felváltva kényszerüljön végrehajta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13A3CC-69AA-482C-8D02-611A0B3D635D}"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őknek a megoldások létrehozása kapcsán a következő elvek szerint kell eljárni:</a:t>
            </a:r>
            <a:endParaRPr b="0" lang="en-US" sz="24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étrehozandó rendszer, vagy részrendszerek teljes körű tartalmi definiá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működésekhez kapcsolódó emberi tevékenységek rendszerbe foglalása és hozzákapcsolása a rendszer működéséhez.</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tevékenységek lehetséges hibaforrásainak behatáro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hibák  helyesen működő rendszerre gyakorolt hatásának a megállapít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okozott meghibásodási valószínűség csökkentéséhez szükséges változtatások meghatároz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umán felhasználók elvárt közreműködéséhez igazodó alternatív részmegoldások biztosít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75A541-15D2-45AD-97B1-7EA03BE0278B}"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68360" y="1483920"/>
            <a:ext cx="7989840" cy="288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számítógépes minőségbiztosítás és az integráció</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685AA249-689A-4E1C-89ED-A823956D561A}"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ovábbfejlesztett minőség-fogalom</a:t>
            </a:r>
            <a:endParaRPr b="0" lang="en-US" sz="4000" spc="-1" strike="noStrike">
              <a:solidFill>
                <a:srgbClr val="ffffcc"/>
              </a:solidFill>
              <a:latin typeface="Tahoma"/>
            </a:endParaRPr>
          </a:p>
        </p:txBody>
      </p:sp>
      <p:sp>
        <p:nvSpPr>
          <p:cNvPr id="9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 fogalma: a termék vagy szolgáltatás meghatározott tulajdonságainak összessége, amelynek termékek esetében legalább nyolc összetevője van:</a:t>
            </a:r>
            <a:endParaRPr b="0" lang="en-US" sz="28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sődleges vagy katalógus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ásodlagos vagy kiegészítő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egbízhatóság, vagyis az értékek stabilitás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megfelelés az előírásoknak, konformancia szintje,</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élettartam (tartóssá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javíthatóság és szervizelhetősé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tulajdonságok harmóniája, esztétikai megjelenés,</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divatosság, egyfajta speciális újdonságért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DB04D1-6374-48D1-A8E4-61B70B16AD2C}"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evők igényeinek maradéktalan kielégít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gszerzett piacok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új piacok megsze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bizalom fenntartása,</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profit növel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rnyezet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állalat stabilitásának fenntartás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35543D-01F2-45D0-A165-01DD8E1FA4CE}"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itűzött cél egy éppen megfelelő rendszer létrehozása és működtetés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gyártóeszközöknek közvetlen hatása van az előállított minőség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en képességek kifejezésére és meghatározására matematikai statisztikai eljárásokat dolgoztak k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3D0ECB-0E4F-4E37-B5CB-10A7FEC112B4}"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ámítógéppel segített minőségbiztosítás: a számítógép alkalmazása a termékek ellenőrzése, a gyártó- és ellenőrző-berendezések és eszközök felügyelete területén, amely egyaránt kiterjed az ellenőrzés </a:t>
            </a:r>
            <a:r>
              <a:rPr b="0" i="1" lang="hu-HU" sz="2400" spc="-1" strike="noStrike">
                <a:solidFill>
                  <a:srgbClr val="ffffff"/>
                </a:solidFill>
                <a:latin typeface="Tahoma"/>
              </a:rPr>
              <a:t>tervezésére</a:t>
            </a:r>
            <a:r>
              <a:rPr b="0" lang="hu-HU" sz="2400" spc="-1" strike="noStrike">
                <a:solidFill>
                  <a:srgbClr val="ffffff"/>
                </a:solidFill>
                <a:latin typeface="Tahoma"/>
              </a:rPr>
              <a:t>, </a:t>
            </a:r>
            <a:r>
              <a:rPr b="0" i="1" lang="hu-HU" sz="2400" spc="-1" strike="noStrike">
                <a:solidFill>
                  <a:srgbClr val="ffffff"/>
                </a:solidFill>
                <a:latin typeface="Tahoma"/>
              </a:rPr>
              <a:t>ütemezésére</a:t>
            </a:r>
            <a:r>
              <a:rPr b="0" lang="hu-HU" sz="2400" spc="-1" strike="noStrike">
                <a:solidFill>
                  <a:srgbClr val="ffffff"/>
                </a:solidFill>
                <a:latin typeface="Tahoma"/>
              </a:rPr>
              <a:t>, </a:t>
            </a:r>
            <a:r>
              <a:rPr b="0" i="1" lang="hu-HU" sz="2400" spc="-1" strike="noStrike">
                <a:solidFill>
                  <a:srgbClr val="ffffff"/>
                </a:solidFill>
                <a:latin typeface="Tahoma"/>
              </a:rPr>
              <a:t>végrehajtására,</a:t>
            </a:r>
            <a:r>
              <a:rPr b="0" lang="hu-HU" sz="2400" spc="-1" strike="noStrike">
                <a:solidFill>
                  <a:srgbClr val="ffffff"/>
                </a:solidFill>
                <a:latin typeface="Tahoma"/>
              </a:rPr>
              <a:t> valamint a</a:t>
            </a:r>
            <a:r>
              <a:rPr b="0" i="1" lang="hu-HU" sz="2400" spc="-1" strike="noStrike">
                <a:solidFill>
                  <a:srgbClr val="ffffff"/>
                </a:solidFill>
                <a:latin typeface="Tahoma"/>
              </a:rPr>
              <a:t> mérési adatok elemzésére és dokumentálására</a:t>
            </a: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Q rendszerek valamennyi alkalmazásában megtalálható:</a:t>
            </a:r>
            <a:endParaRPr b="0" lang="en-US" sz="24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nya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idegenáru 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statisztikus folyamatszabályozá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vé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mérőeszköz-felügyelet és -gazdálkod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7D6501F-EFC4-4925-A21A-9C24E72A7860}"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jelenleg alkalmazott rendszerek a következő szolgáltatásokat nyújtják felhasználóik számára:</a:t>
            </a:r>
            <a:endParaRPr b="0" lang="en-US" sz="18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lenőrzési tervek készítése a képernyőn egy erre a célra specializált szövegszerkesztő segítségével, az adatbázisban tárolt elsődleges adatok és minták felhasználásáva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llenőrzési utasítás manuális vagy automatikus kiadása, a minta méretét és az ellenőrzés szigorúságát a rendszer automatikusan az eddigi szállítások minőségi jellemzői alapján határozza meg;</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gyűjtése történhet kézi úton, a mért adatok begépelésével egy erre a célra rendszeresített terminálon, vagy digitális kimenettel rendelkező mérőeszközök révén. A súlypont a digitális mérőeszközök irányába tolódik e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különböző mélységű számítógépes kiértékelése magában foglalja egyrészt az adatok elemzését (ilyen például a </a:t>
            </a:r>
            <a:r>
              <a:rPr b="0" i="1" lang="hu-HU" sz="1600" spc="-1" strike="noStrike">
                <a:solidFill>
                  <a:srgbClr val="ffffff"/>
                </a:solidFill>
                <a:latin typeface="Tahoma"/>
              </a:rPr>
              <a:t>hihetőség</a:t>
            </a:r>
            <a:r>
              <a:rPr b="0" lang="hu-HU" sz="1600" spc="-1" strike="noStrike">
                <a:solidFill>
                  <a:srgbClr val="ffffff"/>
                </a:solidFill>
                <a:latin typeface="Tahoma"/>
              </a:rPr>
              <a:t>-vizsgálat), másrészt a kezelő által kezdeményezett elemzéseket, mint például a különböző statisztikai vizsgálatokat;</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automatikus archiválását (például az előéleti adatok tárolását) és a kezelő által kezdeményezett dokumentumok kinyomtatását illetve megjelenítését a képernyő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AFA14F1-8B27-4762-A175-79F319E7055C}"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biztosítás legfontosabb, informatikai infrastruktúrával támogatott eljárásai:</a:t>
            </a:r>
            <a:endParaRPr b="0" lang="en-US" sz="28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tatisztikai folyamatszabályozá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olyamatképesség 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orreláció és regresszió analízi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okfeltáró hibaelemzés (</a:t>
            </a:r>
            <a:r>
              <a:rPr b="0" i="1" lang="hu-HU" sz="2400" spc="-1" strike="noStrike">
                <a:solidFill>
                  <a:srgbClr val="ffffff"/>
                </a:solidFill>
                <a:latin typeface="Tahoma"/>
              </a:rPr>
              <a:t>Pareto</a:t>
            </a:r>
            <a:r>
              <a:rPr b="0" lang="hu-HU" sz="2400" spc="-1" strike="noStrike">
                <a:solidFill>
                  <a:srgbClr val="ffffff"/>
                </a:solidFill>
                <a:latin typeface="Tahoma"/>
              </a:rPr>
              <a:t> analízis), </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ísérletterve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i="1" lang="hu-HU" sz="2400" spc="-1" strike="noStrike">
                <a:solidFill>
                  <a:srgbClr val="ffffff"/>
                </a:solidFill>
                <a:latin typeface="Tahoma"/>
              </a:rPr>
              <a:t>Taguchi</a:t>
            </a:r>
            <a:r>
              <a:rPr b="0" lang="hu-HU" sz="2400" spc="-1" strike="noStrike">
                <a:solidFill>
                  <a:srgbClr val="ffffff"/>
                </a:solidFill>
                <a:latin typeface="Tahoma"/>
              </a:rPr>
              <a:t>-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hibamód és hatáselem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QFD (Quality Function Deploymen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B1F445-2EAA-49D4-927A-54BE6ED5B43A}"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Q rendszer által lefedett valamennyi területen az alábbi négy alaptevékenységet kell végrehajtani:</a:t>
            </a:r>
            <a:endParaRPr b="0" lang="en-US" sz="28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terv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ütem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végrehajtása és</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érési adatok elemzése és dokumentálás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ciklikusan, célszerűen egyre magasabb színvonalon követik egymást és így lehetőség van az eredmények alapján az ellenőrzési tervek módosítására i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651E65C-ECFA-44F0-B49E-BA067BF0ED38}"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atika fogalma</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atika</a:t>
            </a:r>
            <a:r>
              <a:rPr b="0" lang="hu-HU" sz="2800" spc="-1" strike="noStrike">
                <a:solidFill>
                  <a:srgbClr val="ffffff"/>
                </a:solidFill>
                <a:latin typeface="Tahoma"/>
              </a:rPr>
              <a:t> az információ rendszeres és automatikus - elsősorban számítógépek és számítógépes hálózatok segítségével történő - gyűjtésével, feldolgozásával, </a:t>
            </a:r>
            <a:r>
              <a:rPr b="0" lang="hu-HU" sz="2400" spc="-1" strike="noStrike">
                <a:solidFill>
                  <a:srgbClr val="ffffff"/>
                </a:solidFill>
                <a:latin typeface="Tahoma"/>
              </a:rPr>
              <a:t>tárolásával</a:t>
            </a:r>
            <a:r>
              <a:rPr b="0" lang="hu-HU" sz="2800" spc="-1" strike="noStrike">
                <a:solidFill>
                  <a:srgbClr val="ffffff"/>
                </a:solidFill>
                <a:latin typeface="Tahoma"/>
              </a:rPr>
              <a:t> és továbbításával foglalkozó tudomány.</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0F12704-1236-4941-A354-F2F3EC6DE0D3}"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AQ rendszerek alapfunkciói</a:t>
            </a:r>
            <a:endParaRPr b="0" lang="en-US" sz="4400" spc="-1" strike="noStrike">
              <a:solidFill>
                <a:srgbClr val="ffffcc"/>
              </a:solidFill>
              <a:latin typeface="Tahoma"/>
            </a:endParaRPr>
          </a:p>
        </p:txBody>
      </p:sp>
      <p:pic>
        <p:nvPicPr>
          <p:cNvPr id="990" name="" descr=""/>
          <p:cNvPicPr/>
          <p:nvPr/>
        </p:nvPicPr>
        <p:blipFill>
          <a:blip r:embed="rId1"/>
          <a:stretch/>
        </p:blipFill>
        <p:spPr>
          <a:xfrm>
            <a:off x="2060640" y="1638360"/>
            <a:ext cx="5022720" cy="4422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377CED4-9AE4-4D90-A0D3-F6E20A11FA2D}" type="slidenum">
              <a:t>230</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 </a:t>
            </a:r>
            <a:endParaRPr b="0" lang="en-US" sz="4000" spc="-1" strike="noStrike">
              <a:solidFill>
                <a:srgbClr val="ffffcc"/>
              </a:solidFill>
              <a:latin typeface="Tahoma"/>
            </a:endParaRPr>
          </a:p>
        </p:txBody>
      </p:sp>
      <p:sp>
        <p:nvSpPr>
          <p:cNvPr id="9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fogalma elválaszthatatlan a gépgyártás </a:t>
            </a:r>
            <a:r>
              <a:rPr b="0" i="1" lang="hu-HU" sz="2000" spc="-1" strike="noStrike">
                <a:solidFill>
                  <a:srgbClr val="ffffff"/>
                </a:solidFill>
                <a:latin typeface="Tahoma"/>
              </a:rPr>
              <a:t>automatizálásától</a:t>
            </a:r>
            <a:r>
              <a:rPr b="0" lang="hu-HU"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ágabb</a:t>
            </a:r>
            <a:r>
              <a:rPr b="0" lang="hu-HU" sz="1800" spc="-1" strike="noStrike">
                <a:solidFill>
                  <a:srgbClr val="ffffff"/>
                </a:solidFill>
                <a:latin typeface="Tahoma"/>
              </a:rPr>
              <a:t> értelemben az automatizálás a termelés korszerűsítésének olyan útja, amely az emberi tevékenységeket műszaki rendszerekkel helyettesíti, ezáltal mentesíti az embert a tényleges anyagfeldolgozásban és az információs folyamatokban való közvetlen részvétel al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űkebb</a:t>
            </a:r>
            <a:r>
              <a:rPr b="0" lang="hu-HU" sz="1800" spc="-1" strike="noStrike">
                <a:solidFill>
                  <a:srgbClr val="ffffff"/>
                </a:solidFill>
                <a:latin typeface="Tahoma"/>
              </a:rPr>
              <a:t> értelemben az automatizálás valamely folyamat irányításának önműködővé (emberi beavatkozás nélkül végrehajthatóvá) tételét jelenti.</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automatizálás fejlődéstörténetével foglalkozó elemző kutatások nyomán arra a következtetésre lehet jutni, hogy a jelenlegi fejlődés középpontjában álló CIM rendszerek létrejötte és azoknak az utóbbi években tapasztalt, trendszerűen folyamatos tökéletesítése </a:t>
            </a:r>
            <a:r>
              <a:rPr b="0" i="1" lang="hu-HU" sz="2000" spc="-1" strike="noStrike">
                <a:solidFill>
                  <a:srgbClr val="ffffff"/>
                </a:solidFill>
                <a:latin typeface="Tahoma"/>
              </a:rPr>
              <a:t>öt fejlődési főirány</a:t>
            </a:r>
            <a:r>
              <a:rPr b="0" lang="hu-HU" sz="2000" spc="-1" strike="noStrike">
                <a:solidFill>
                  <a:srgbClr val="ffffff"/>
                </a:solidFill>
                <a:latin typeface="Tahoma"/>
              </a:rPr>
              <a:t> fokozatos integrálódásának következmény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34D416E-18E5-443C-B839-49CFC4251E2B}"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számítógéppel integrált gyártás) egy csúcstechnológiai megközelítés a hatékonyabb gyártáshoz, amely a digitális számítógépek sebességét és pontosságát használja fel integráló tényezőként a teljes gyártási folyamat minden fázisában. A legszélesebb értelemben véve, a CIM a piaci igények elsődleges felismerésétől és a termék koncepciójától kezdődően kiterjed a teljes gyártási folyamatra és a kereskedelmi szférában, a készterméknek a vevőhöz (megrendelőhöz) való kiszállításával (delivery) fejeződik b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45F50C2-ADC6-4CF1-B5EA-28A749DD0477}"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z információ számítógépes rendszerek közötti összegyűjtésének és megosztott hozzáférésének automatizálására szolgáló </a:t>
            </a:r>
            <a:r>
              <a:rPr b="1" lang="hu-HU" sz="2400" spc="-1" strike="noStrike">
                <a:solidFill>
                  <a:srgbClr val="ffffff"/>
                </a:solidFill>
                <a:latin typeface="Tahoma"/>
              </a:rPr>
              <a:t>módszertan</a:t>
            </a:r>
            <a:r>
              <a:rPr b="0" lang="hu-HU" sz="2400" spc="-1" strike="noStrike">
                <a:solidFill>
                  <a:srgbClr val="ffffff"/>
                </a:solidFill>
                <a:latin typeface="Tahoma"/>
              </a:rPr>
              <a:t>, amelynek segítségével időben zárt láncú, visszacsatolt rendszer hozható létre a hatékony tervezésre és irányításr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 számítógép-tudomány és a szoftvertechnológia rendszerszemléletű implementálása adott vállalaton belül, a hatékonyság, a termelékenység és a nyereségteremtő képesség maximalizálásának, mint stratégiai céloknak az elérés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D678CE-5A8B-46E6-BAF1-D5206852916C}" type="slidenum">
              <a:t>233</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 tágabb értelmezésben - rendszerszemléletű, átfogó koncepció, amely az adott cég sajátosságait figyelembe véve szervezési, személyzetpolitikai és műszaki fejlesztéseket integrál a vállalat egészére vagy önálló részterületére vonatkozóan, azon célból, hogy az összes üzemi tevékenység információszerűen összekapcsolódjék a gyorsabb, jobb minőségű és olcsóbb termelés érdekében. Így például az értékesítés, a konstrukció, a tervezés és a termelés feszesen tudjon együttműködni és a vásárlói igényekre gyorsan és rugalmasan reagáljon. </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az információ-technológia és a gyártástechnológia együttes alkalmazása a gyártó vállalatok termelékenységének és a megrendelői igények iránti fogékonyságának növelésére, ami által az adott vállalat összes funkcionális, információs és szervezési kérdése egy integrált egész részeként ragadható</a:t>
            </a:r>
            <a:r>
              <a:rPr b="0" i="1" lang="hu-HU" sz="2000" spc="-1" strike="noStrike">
                <a:solidFill>
                  <a:srgbClr val="ffffff"/>
                </a:solidFill>
                <a:latin typeface="Tahoma"/>
              </a:rPr>
              <a:t>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35BCBF1-4AB2-449F-A820-3D55F8E7E545}"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a:t>
            </a:r>
            <a:endParaRPr b="0" lang="en-US" sz="4000" spc="-1" strike="noStrike">
              <a:solidFill>
                <a:srgbClr val="ffffcc"/>
              </a:solidFill>
              <a:latin typeface="Tahoma"/>
            </a:endParaRPr>
          </a:p>
        </p:txBody>
      </p:sp>
      <p:sp>
        <p:nvSpPr>
          <p:cNvPr id="10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nöki tervezőmunka numerikus és grafikus támogatása számítógéppel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D</a:t>
            </a:r>
            <a:r>
              <a:rPr b="0" lang="hu-HU" sz="2000" spc="-1" strike="noStrike">
                <a:solidFill>
                  <a:srgbClr val="ffffff"/>
                </a:solidFill>
                <a:latin typeface="Tahoma"/>
              </a:rPr>
              <a:t>esign = </a:t>
            </a:r>
            <a:r>
              <a:rPr b="1" lang="hu-HU" sz="2000" spc="-1" strike="noStrike">
                <a:solidFill>
                  <a:srgbClr val="ffffff"/>
                </a:solidFill>
                <a:latin typeface="Tahoma"/>
              </a:rPr>
              <a:t>CAD</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i folyamatok technológiai előkészítésének számítógépes támogatása (</a:t>
            </a:r>
            <a:r>
              <a:rPr b="1" lang="hu-HU" sz="2000" spc="-1" strike="noStrike">
                <a:solidFill>
                  <a:srgbClr val="ffffff"/>
                </a:solidFill>
                <a:latin typeface="Tahoma"/>
              </a:rPr>
              <a:t>G</a:t>
            </a:r>
            <a:r>
              <a:rPr b="0" lang="hu-HU" sz="2000" spc="-1" strike="noStrike">
                <a:solidFill>
                  <a:srgbClr val="ffffff"/>
                </a:solidFill>
                <a:latin typeface="Tahoma"/>
              </a:rPr>
              <a:t>roup </a:t>
            </a:r>
            <a:r>
              <a:rPr b="1" lang="hu-HU" sz="2000" spc="-1" strike="noStrike">
                <a:solidFill>
                  <a:srgbClr val="ffffff"/>
                </a:solidFill>
                <a:latin typeface="Tahoma"/>
              </a:rPr>
              <a:t>T</a:t>
            </a:r>
            <a:r>
              <a:rPr b="0" lang="hu-HU" sz="2000" spc="-1" strike="noStrike">
                <a:solidFill>
                  <a:srgbClr val="ffffff"/>
                </a:solidFill>
                <a:latin typeface="Tahoma"/>
              </a:rPr>
              <a:t>echnology = </a:t>
            </a:r>
            <a:r>
              <a:rPr b="1" lang="hu-HU" sz="2000" spc="-1" strike="noStrike">
                <a:solidFill>
                  <a:srgbClr val="ffffff"/>
                </a:solidFill>
                <a:latin typeface="Tahoma"/>
              </a:rPr>
              <a:t>GT</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ces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CAPP</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E</a:t>
            </a:r>
            <a:r>
              <a:rPr b="0" lang="hu-HU" sz="2000" spc="-1" strike="noStrike">
                <a:solidFill>
                  <a:srgbClr val="ffffff"/>
                </a:solidFill>
                <a:latin typeface="Tahoma"/>
              </a:rPr>
              <a:t>ngineering = </a:t>
            </a:r>
            <a:r>
              <a:rPr b="1" lang="hu-HU" sz="2000" spc="-1" strike="noStrike">
                <a:solidFill>
                  <a:srgbClr val="ffffff"/>
                </a:solidFill>
                <a:latin typeface="Tahoma"/>
              </a:rPr>
              <a:t>CAPE</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anyagi (kivitelezési) folyamatainak számítógépes támogatása (</a:t>
            </a:r>
            <a:r>
              <a:rPr b="1" lang="hu-HU" sz="2000" spc="-1" strike="noStrike">
                <a:solidFill>
                  <a:srgbClr val="ffffff"/>
                </a:solidFill>
                <a:latin typeface="Tahoma"/>
              </a:rPr>
              <a:t>NC/CNC/DNC</a:t>
            </a:r>
            <a:r>
              <a:rPr b="0" lang="hu-HU" sz="2000" spc="-1" strike="noStrike">
                <a:solidFill>
                  <a:srgbClr val="ffffff"/>
                </a:solidFill>
                <a:latin typeface="Tahoma"/>
              </a:rPr>
              <a:t>, </a:t>
            </a:r>
            <a:r>
              <a:rPr b="1" lang="hu-HU" sz="2000" spc="-1" strike="noStrike">
                <a:solidFill>
                  <a:srgbClr val="ffffff"/>
                </a:solidFill>
                <a:latin typeface="Tahoma"/>
              </a:rPr>
              <a:t>A</a:t>
            </a:r>
            <a:r>
              <a:rPr b="0" lang="hu-HU" sz="2000" spc="-1" strike="noStrike">
                <a:solidFill>
                  <a:srgbClr val="ffffff"/>
                </a:solidFill>
                <a:latin typeface="Tahoma"/>
              </a:rPr>
              <a:t>daptive </a:t>
            </a:r>
            <a:r>
              <a:rPr b="1" lang="hu-HU" sz="2000" spc="-1" strike="noStrike">
                <a:solidFill>
                  <a:srgbClr val="ffffff"/>
                </a:solidFill>
                <a:latin typeface="Tahoma"/>
              </a:rPr>
              <a:t>C</a:t>
            </a:r>
            <a:r>
              <a:rPr b="0" lang="hu-HU" sz="2000" spc="-1" strike="noStrike">
                <a:solidFill>
                  <a:srgbClr val="ffffff"/>
                </a:solidFill>
                <a:latin typeface="Tahoma"/>
              </a:rPr>
              <a:t>ontrol = </a:t>
            </a:r>
            <a:r>
              <a:rPr b="1" lang="hu-HU" sz="2000" spc="-1" strike="noStrike">
                <a:solidFill>
                  <a:srgbClr val="ffffff"/>
                </a:solidFill>
                <a:latin typeface="Tahoma"/>
              </a:rPr>
              <a:t>AC</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M</a:t>
            </a:r>
            <a:r>
              <a:rPr b="0" lang="hu-HU" sz="2000" spc="-1" strike="noStrike">
                <a:solidFill>
                  <a:srgbClr val="ffffff"/>
                </a:solidFill>
                <a:latin typeface="Tahoma"/>
              </a:rPr>
              <a:t>anufacturing = </a:t>
            </a:r>
            <a:r>
              <a:rPr b="1" lang="hu-HU" sz="2000" spc="-1" strike="noStrike">
                <a:solidFill>
                  <a:srgbClr val="ffffff"/>
                </a:solidFill>
                <a:latin typeface="Tahoma"/>
              </a:rPr>
              <a:t>CAM</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S</a:t>
            </a:r>
            <a:r>
              <a:rPr b="0" lang="hu-HU" sz="2000" spc="-1" strike="noStrike">
                <a:solidFill>
                  <a:srgbClr val="ffffff"/>
                </a:solidFill>
                <a:latin typeface="Tahoma"/>
              </a:rPr>
              <a:t>torage and </a:t>
            </a:r>
            <a:r>
              <a:rPr b="1" lang="hu-HU" sz="2000" spc="-1" strike="noStrike">
                <a:solidFill>
                  <a:srgbClr val="ffffff"/>
                </a:solidFill>
                <a:latin typeface="Tahoma"/>
              </a:rPr>
              <a:t>T</a:t>
            </a:r>
            <a:r>
              <a:rPr b="0" lang="hu-HU" sz="2000" spc="-1" strike="noStrike">
                <a:solidFill>
                  <a:srgbClr val="ffffff"/>
                </a:solidFill>
                <a:latin typeface="Tahoma"/>
              </a:rPr>
              <a:t>ransportation = </a:t>
            </a:r>
            <a:r>
              <a:rPr b="1" lang="hu-HU" sz="2000" spc="-1" strike="noStrike">
                <a:solidFill>
                  <a:srgbClr val="ffffff"/>
                </a:solidFill>
                <a:latin typeface="Tahoma"/>
              </a:rPr>
              <a:t>CAST</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sterséges intelligencia (</a:t>
            </a:r>
            <a:r>
              <a:rPr b="1" lang="hu-HU" sz="2000" spc="-1" strike="noStrike">
                <a:solidFill>
                  <a:srgbClr val="ffffff"/>
                </a:solidFill>
                <a:latin typeface="Tahoma"/>
              </a:rPr>
              <a:t>A</a:t>
            </a:r>
            <a:r>
              <a:rPr b="0" lang="hu-HU" sz="2000" spc="-1" strike="noStrike">
                <a:solidFill>
                  <a:srgbClr val="ffffff"/>
                </a:solidFill>
                <a:latin typeface="Tahoma"/>
              </a:rPr>
              <a:t>rtificial </a:t>
            </a:r>
            <a:r>
              <a:rPr b="1" lang="hu-HU" sz="2000" spc="-1" strike="noStrike">
                <a:solidFill>
                  <a:srgbClr val="ffffff"/>
                </a:solidFill>
                <a:latin typeface="Tahoma"/>
              </a:rPr>
              <a:t>I</a:t>
            </a:r>
            <a:r>
              <a:rPr b="0" lang="hu-HU" sz="2000" spc="-1" strike="noStrike">
                <a:solidFill>
                  <a:srgbClr val="ffffff"/>
                </a:solidFill>
                <a:latin typeface="Tahoma"/>
              </a:rPr>
              <a:t>ntelligence = </a:t>
            </a:r>
            <a:r>
              <a:rPr b="1" lang="hu-HU" sz="2000" spc="-1" strike="noStrike">
                <a:solidFill>
                  <a:srgbClr val="ffffff"/>
                </a:solidFill>
                <a:latin typeface="Tahoma"/>
              </a:rPr>
              <a:t>AI</a:t>
            </a:r>
            <a:r>
              <a:rPr b="0" lang="hu-HU" sz="2000" spc="-1" strike="noStrike">
                <a:solidFill>
                  <a:srgbClr val="ffffff"/>
                </a:solidFill>
                <a:latin typeface="Tahoma"/>
              </a:rPr>
              <a:t>) alkalmazásai (tudásszemléltetés, szakértőrendszerek, robotérzékelés, szakértőrendszer-vázak (sh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iparvállalat termelésirányításának (ezen belül készletgazdálkodásának) számítógépes támogatása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P</a:t>
            </a:r>
            <a:r>
              <a:rPr b="0" lang="hu-HU" sz="2000" spc="-1" strike="noStrike">
                <a:solidFill>
                  <a:srgbClr val="ffffff"/>
                </a:solidFill>
                <a:latin typeface="Tahoma"/>
              </a:rPr>
              <a:t>lanning and </a:t>
            </a:r>
            <a:r>
              <a:rPr b="1" lang="hu-HU" sz="2000" spc="-1" strike="noStrike">
                <a:solidFill>
                  <a:srgbClr val="ffffff"/>
                </a:solidFill>
                <a:latin typeface="Tahoma"/>
              </a:rPr>
              <a:t>S</a:t>
            </a:r>
            <a:r>
              <a:rPr b="0" lang="hu-HU" sz="2000" spc="-1" strike="noStrike">
                <a:solidFill>
                  <a:srgbClr val="ffffff"/>
                </a:solidFill>
                <a:latin typeface="Tahoma"/>
              </a:rPr>
              <a:t>cheduling = </a:t>
            </a:r>
            <a:r>
              <a:rPr b="1" lang="hu-HU" sz="2000" spc="-1" strike="noStrike">
                <a:solidFill>
                  <a:srgbClr val="ffffff"/>
                </a:solidFill>
                <a:latin typeface="Tahoma"/>
              </a:rPr>
              <a:t>PPS</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nufacturing </a:t>
            </a:r>
            <a:r>
              <a:rPr b="1" lang="hu-HU" sz="2000" spc="-1" strike="noStrike">
                <a:solidFill>
                  <a:srgbClr val="ffffff"/>
                </a:solidFill>
                <a:latin typeface="Tahoma"/>
              </a:rPr>
              <a:t>R</a:t>
            </a:r>
            <a:r>
              <a:rPr b="0" lang="hu-HU" sz="2000" spc="-1" strike="noStrike">
                <a:solidFill>
                  <a:srgbClr val="ffffff"/>
                </a:solidFill>
                <a:latin typeface="Tahoma"/>
              </a:rPr>
              <a:t>esource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terial </a:t>
            </a:r>
            <a:r>
              <a:rPr b="1" lang="hu-HU" sz="2000" spc="-1" strike="noStrike">
                <a:solidFill>
                  <a:srgbClr val="ffffff"/>
                </a:solidFill>
                <a:latin typeface="Tahoma"/>
              </a:rPr>
              <a:t>R</a:t>
            </a:r>
            <a:r>
              <a:rPr b="0" lang="hu-HU" sz="2000" spc="-1" strike="noStrike">
                <a:solidFill>
                  <a:srgbClr val="ffffff"/>
                </a:solidFill>
                <a:latin typeface="Tahoma"/>
              </a:rPr>
              <a:t>equirement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B0FF623-6DD8-4941-8CD9-A6CB41B5A29D}"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95280" y="333360"/>
            <a:ext cx="8497800" cy="5850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D3BBA57-A6CC-4754-AD5A-562147D5E017}"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1042920" y="189000"/>
            <a:ext cx="7488360" cy="59022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866AB5A-DE4F-4B88-9E31-D0F7A52775BB}"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rendszerek bevezetésének nehézségei</a:t>
            </a:r>
            <a:endParaRPr b="0" lang="en-US" sz="4000" spc="-1" strike="noStrike">
              <a:solidFill>
                <a:srgbClr val="ffffcc"/>
              </a:solidFill>
              <a:latin typeface="Tahoma"/>
            </a:endParaRPr>
          </a:p>
        </p:txBody>
      </p:sp>
      <p:sp>
        <p:nvSpPr>
          <p:cNvPr id="10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nformáció-technológiára alapozott integráció stratégiai szerepét nem értették meg, ezért a vállalatok helytelen célokkal és alkalmazási körrel terveztek CIM projekteke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ok nem fordítottak elegendő figyelmet a CIM-implementációra és nem foglalkoztak a szükséges mértékben a CIM által gerjesztett szervezési, szociális és kulturális változásokkal, amelyek bizonyos személyi- és csoportérdekeket sért(h)ett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4E3FCF2-6C9C-41F1-AB78-A617260962D8}"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10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t>
            </a:r>
            <a:r>
              <a:rPr b="0" i="1" lang="hu-HU" sz="2400" spc="-1" strike="noStrike">
                <a:solidFill>
                  <a:srgbClr val="ffffff"/>
                </a:solidFill>
                <a:latin typeface="Tahoma"/>
              </a:rPr>
              <a:t>háromirányú integrációt</a:t>
            </a:r>
            <a:r>
              <a:rPr b="0" lang="hu-HU" sz="2400" spc="-1" strike="noStrike">
                <a:solidFill>
                  <a:srgbClr val="ffffff"/>
                </a:solidFill>
                <a:latin typeface="Tahoma"/>
              </a:rPr>
              <a:t> foglal magába:</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után következő gyártási fázisok illesztése úgy, hogy a készgyártmány-kibocsátás ütemessége maximális legyen ("</a:t>
            </a:r>
            <a:r>
              <a:rPr b="0" i="1" lang="hu-HU" sz="2400" spc="-1" strike="noStrike">
                <a:solidFill>
                  <a:srgbClr val="ffffff"/>
                </a:solidFill>
                <a:latin typeface="Tahoma"/>
              </a:rPr>
              <a:t>Időrendi metszet</a:t>
            </a:r>
            <a:r>
              <a:rPr b="0" lang="hu-HU" sz="2400" spc="-1" strike="noStrike">
                <a:solidFill>
                  <a:srgbClr val="ffffff"/>
                </a:solidFill>
                <a:latin typeface="Tahoma"/>
              </a:rPr>
              <a:t>", optimális gyártási program);</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feletti irányítási szintek integrációja ("</a:t>
            </a:r>
            <a:r>
              <a:rPr b="0" i="1" lang="hu-HU" sz="2400" spc="-1" strike="noStrike">
                <a:solidFill>
                  <a:srgbClr val="ffffff"/>
                </a:solidFill>
                <a:latin typeface="Tahoma"/>
              </a:rPr>
              <a:t>Szervezeti piramis</a:t>
            </a:r>
            <a:r>
              <a:rPr b="0" lang="hu-HU" sz="2400" spc="-1" strike="noStrike">
                <a:solidFill>
                  <a:srgbClr val="ffffff"/>
                </a:solidFill>
                <a:latin typeface="Tahoma"/>
              </a:rPr>
              <a:t>");</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mellett működő vállalati funkciók integrációja.</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 jelű "metszet"-et </a:t>
            </a:r>
            <a:r>
              <a:rPr b="0" i="1" lang="hu-HU" sz="2400" spc="-1" strike="noStrike">
                <a:solidFill>
                  <a:srgbClr val="ffffff"/>
                </a:solidFill>
                <a:latin typeface="Tahoma"/>
              </a:rPr>
              <a:t>időbeli</a:t>
            </a:r>
            <a:r>
              <a:rPr b="0" lang="hu-HU" sz="2400" spc="-1" strike="noStrike">
                <a:solidFill>
                  <a:srgbClr val="ffffff"/>
                </a:solidFill>
                <a:latin typeface="Tahoma"/>
              </a:rPr>
              <a:t>, a (b) jelűt </a:t>
            </a:r>
            <a:r>
              <a:rPr b="0" i="1" lang="hu-HU" sz="2400" spc="-1" strike="noStrike">
                <a:solidFill>
                  <a:srgbClr val="ffffff"/>
                </a:solidFill>
                <a:latin typeface="Tahoma"/>
              </a:rPr>
              <a:t>architekturális</a:t>
            </a:r>
            <a:r>
              <a:rPr b="0" lang="hu-HU" sz="2400" spc="-1" strike="noStrike">
                <a:solidFill>
                  <a:srgbClr val="ffffff"/>
                </a:solidFill>
                <a:latin typeface="Tahoma"/>
              </a:rPr>
              <a:t>, a (c) jelűt </a:t>
            </a:r>
            <a:r>
              <a:rPr b="0" i="1" lang="hu-HU" sz="2400" spc="-1" strike="noStrike">
                <a:solidFill>
                  <a:srgbClr val="ffffff"/>
                </a:solidFill>
                <a:latin typeface="Tahoma"/>
              </a:rPr>
              <a:t>funkcionális</a:t>
            </a:r>
            <a:r>
              <a:rPr b="0" lang="hu-HU" sz="2400" spc="-1" strike="noStrike">
                <a:solidFill>
                  <a:srgbClr val="ffffff"/>
                </a:solidFill>
                <a:latin typeface="Tahoma"/>
              </a:rPr>
              <a:t> integrációnak is szokás nevez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6CDB88C-F673-46A6-B388-BA4402AEA9A6}" type="slidenum">
              <a:t>2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áció fogalma</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áció</a:t>
            </a:r>
            <a:r>
              <a:rPr b="0" lang="hu-HU" sz="2800" spc="-1" strike="noStrike">
                <a:solidFill>
                  <a:srgbClr val="ffffff"/>
                </a:solidFill>
                <a:latin typeface="Tahoma"/>
              </a:rPr>
              <a:t> hierarchikus szerkezetű alapfogalom, amelynek öt szintjét célszerű megkülönböztetni. Ezek a szintek, alulról-felfelé haladva (</a:t>
            </a:r>
            <a:r>
              <a:rPr b="0" i="1" lang="hu-HU" sz="2800" spc="-1" strike="noStrike">
                <a:solidFill>
                  <a:srgbClr val="ffffff"/>
                </a:solidFill>
                <a:latin typeface="Tahoma"/>
              </a:rPr>
              <a:t>Werner Gitt</a:t>
            </a:r>
            <a:r>
              <a:rPr b="0" lang="hu-HU" sz="2800" spc="-1" strike="noStrike">
                <a:solidFill>
                  <a:srgbClr val="ffffff"/>
                </a:solidFill>
                <a:latin typeface="Tahoma"/>
              </a:rPr>
              <a:t> ): </a:t>
            </a:r>
            <a:endParaRPr b="0" lang="en-US" sz="28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ntak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man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agmatikai és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pobetikai szin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0589045-CE12-4936-B03B-AD6E6E626760}"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2340000" y="260280"/>
            <a:ext cx="4848120" cy="59054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9419C35-4F53-4CF7-A52F-1C9A8960481B}"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8" name="" descr=""/>
          <p:cNvPicPr/>
          <p:nvPr/>
        </p:nvPicPr>
        <p:blipFill>
          <a:blip r:embed="rId1"/>
          <a:stretch/>
        </p:blipFill>
        <p:spPr>
          <a:xfrm>
            <a:off x="1547640" y="1916280"/>
            <a:ext cx="5964480" cy="3859200"/>
          </a:xfrm>
          <a:prstGeom prst="rect">
            <a:avLst/>
          </a:prstGeom>
          <a:ln w="0">
            <a:noFill/>
          </a:ln>
        </p:spPr>
      </p:pic>
      <p:sp>
        <p:nvSpPr>
          <p:cNvPr id="10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ABF49DE-44B9-4B0F-B2AC-429C95948C1C}" type="slidenum">
              <a:t>241</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öbb, mint egy komplex műszaki beruházás. A CIM stratégiai válasz a termékfajták szerint egyre differenciálódó, a minőséget illetően egyre szigorúbb piac követelményeire.</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az egyes részterületek optimálásában, hanem az egyes részlegek, osztályok tevékenységi körén túlterjedő integrált megoldásban vannak a CIM meghatározó előnye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társak és az osztályok/részlegek minőségi színvonala és szakmai profilja határozza meg a technikai követelményeket és nem megfordítv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eam-munkát követel! A CIM-et nem ötletszerűen, hanem folyamatos szóbeli információcserére alapozva, a tervek és tények iteratív egybevetésével lehet - és kell - megvalósíta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dőben folytatott képzés, valamint a résztvevő munkatársak módszeres információcseréje vezet el az üzemen belüli szakszerű és hatékony diszkusszió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AC25DA4-553D-489F-89B4-8BDC89CF04AD}"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ikeres CIM-megoldásnak érlelődnie kell; a megvalósítás nem rövidlejáratú és csak lépésenként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bevezetés prioritásai az adott vállalat különleges stratégiájától és piaci környezetétől függe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lyan sajátos versenyképességi előnyöket, mint a határidők betartása, a magas termékminőség szavatolása, a vevő (felhasználó)-orientált magatartás vagy a rövidlejáratú szállítókészség, a CIM irányába tett lépéseknek a lehető leghatékonyabban kell támogatniu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invesztíciók nem a rövidtávú sikereket, hanem a hosszútávú jövő biztosítását szolgáljá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soha nem pótolja technika útján a "know-how-t"; a technikai segédeszközökkel a munkatársak saját szaktudásukat viszik be nagy hatékonysággal a CIM munkafolyamataib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05513B-4269-47F3-9F9B-F37523848709}" type="slidenum">
              <a:t>243</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bevezetésének stratégiai elvei </a:t>
            </a:r>
            <a:endParaRPr b="0" lang="en-US" sz="4000" spc="-1" strike="noStrike">
              <a:solidFill>
                <a:srgbClr val="ffffcc"/>
              </a:solidFill>
              <a:latin typeface="Tahoma"/>
            </a:endParaRPr>
          </a:p>
        </p:txBody>
      </p:sp>
      <p:sp>
        <p:nvSpPr>
          <p:cNvPr id="10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alulról-felfelé"</a:t>
            </a:r>
            <a:r>
              <a:rPr b="0" lang="hu-HU" sz="3200" spc="-1" strike="noStrike">
                <a:solidFill>
                  <a:srgbClr val="ffffff"/>
                </a:solidFill>
                <a:latin typeface="Tahoma"/>
              </a:rPr>
              <a:t> (bottom-up),</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elülről-lefelé"</a:t>
            </a:r>
            <a:r>
              <a:rPr b="0" lang="hu-HU" sz="3200" spc="-1" strike="noStrike">
                <a:solidFill>
                  <a:srgbClr val="ffffff"/>
                </a:solidFill>
                <a:latin typeface="Tahoma"/>
              </a:rPr>
              <a:t> (top-down),  </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olyamatorientált"</a:t>
            </a:r>
            <a:r>
              <a:rPr b="0" lang="hu-HU" sz="3200" spc="-1" strike="noStrike">
                <a:solidFill>
                  <a:srgbClr val="ffffff"/>
                </a:solidFill>
                <a:latin typeface="Tahoma"/>
              </a:rPr>
              <a:t> (process-orient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2C7583-0F9E-4A23-81C4-44EBF33802F5}" type="slidenum">
              <a:t>244</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 </a:t>
            </a:r>
            <a:endParaRPr b="0" lang="en-US" sz="4400" spc="-1" strike="noStrike">
              <a:solidFill>
                <a:srgbClr val="ffffcc"/>
              </a:solidFill>
              <a:latin typeface="Tahoma"/>
            </a:endParaRPr>
          </a:p>
        </p:txBody>
      </p:sp>
      <p:sp>
        <p:nvSpPr>
          <p:cNvPr id="10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strukciós tervezés szakaszában a </a:t>
            </a:r>
            <a:r>
              <a:rPr b="1" lang="hu-HU" sz="2800" spc="-1" strike="noStrike">
                <a:solidFill>
                  <a:srgbClr val="ffffff"/>
                </a:solidFill>
                <a:latin typeface="Tahoma"/>
              </a:rPr>
              <a:t>CAD/CAE</a:t>
            </a:r>
            <a:r>
              <a:rPr b="0" lang="hu-HU" sz="2800" spc="-1" strike="noStrike">
                <a:solidFill>
                  <a:srgbClr val="ffffff"/>
                </a:solidFill>
                <a:latin typeface="Tahoma"/>
              </a:rPr>
              <a:t> technika a végeselem módszer, a működésszimulátorok, az alternatív konstrukciós megoldások összehasonlítása és más módszerek segítségével támogatja a termékminősége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tervezés, NC programozás, robotprogramozás szoftver-eszközei lehetővé teszik az optimális technológiai sorrendek, szerszámok és paraméterek meghatározásá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663414-9B5F-4935-8088-B95C2ADD41E1}" type="slidenum">
              <a:t>245</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ohamosan növekszik a gyártásban alkalmazott mérőeszközök, szenzorok száma és javul ezek minősége. Uralkodóvá válik a digitális méréstechnika: az eddig hagyományosan alkalmazott mérőeszközök (tolómérők, mikrométerek, mérőórák, hosszmérőgép, szerszámmikroszkóp, stb.) digitális kijelzésű és adatfeldolgozó számítógéphez csatlakoztatható változatai tömegesen jelennek meg. Ez egyidejűleg jelenti a mérési pontosság, megbízhatóság növelését és az automatikus mérési adatfeldolgozás és bizonylatolás lehetőségét i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őeszközzel egyre több visszacsatolást, szabályozó hurkot lehet kialakítani, ami a gyártási sztochasztika zavaró hatásainak visszaszorítását szolgálja. Egyre sokoldalúbban alkalmazzák a lézerinterferenciás mérőeszközöket, amelyeknél a mérési pontosság 1</a:t>
            </a:r>
            <a:r>
              <a:rPr b="0" lang="hu-HU" sz="2000" spc="-1" strike="noStrike">
                <a:solidFill>
                  <a:srgbClr val="ffffff"/>
                </a:solidFill>
                <a:latin typeface="Symbol"/>
                <a:ea typeface="Symbol"/>
              </a:rPr>
              <a:t></a:t>
            </a:r>
            <a:r>
              <a:rPr b="0" lang="hu-HU" sz="2000" spc="-1" strike="noStrike">
                <a:solidFill>
                  <a:srgbClr val="ffffff"/>
                </a:solidFill>
                <a:latin typeface="Tahoma"/>
              </a:rPr>
              <a:t>m alatt is lehetsége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AFAF314-CB81-46A0-A391-2730DA4234F7}" type="slidenum">
              <a:t>24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i műveletek automatizálása (a mérőgépek és intelligens szenzorok alkalmazása), lehetővé teszi </a:t>
            </a:r>
            <a:r>
              <a:rPr b="0" i="1" lang="hu-HU" sz="2000" spc="-1" strike="noStrike">
                <a:solidFill>
                  <a:srgbClr val="ffffff"/>
                </a:solidFill>
                <a:latin typeface="Tahoma"/>
              </a:rPr>
              <a:t>minden</a:t>
            </a:r>
            <a:r>
              <a:rPr b="0" lang="hu-HU" sz="2000" spc="-1" strike="noStrike">
                <a:solidFill>
                  <a:srgbClr val="ffffff"/>
                </a:solidFill>
                <a:latin typeface="Tahoma"/>
              </a:rPr>
              <a:t> munkadarab gyors és megbízható ellenőrzését. Megvalósult a munkadarabok szerszámgépeken, megmunkálás közben történő ellenőrzése, ami egyebek között lehetővé teszi a szerszámbeállítást, a szerszámméret folyamat közbeni automatikus tesztelését és szükség esetén az automatikus méretkorrekciót is. A koordináta-mérőgépek az utóbbi években nagy számban egészítették ki a hagyományos mérőműszereket és döntő szerepük volt a gyártási méréstechnika új arculatának kialakításában. A számítógép-vezérlésű koordináta-mérőgépek az optikai és elektronikus műszerek mellett különösen nagy jelentőségűek. Ez a CNC-vezérlésű hosszméréstechnikai eszköz jelenti a többé-kevésbé univerzális megoldást a rugalmas gyártórendszerekben előállított alkatrészek műveletközi és végellenőrzésére. Felbontóképességük általában 1 </a:t>
            </a:r>
            <a:r>
              <a:rPr b="0" lang="hu-HU" sz="2000" spc="-1" strike="noStrike">
                <a:solidFill>
                  <a:srgbClr val="ffffff"/>
                </a:solidFill>
                <a:latin typeface="Symbol"/>
                <a:ea typeface="Symbol"/>
              </a:rPr>
              <a:t></a:t>
            </a:r>
            <a:r>
              <a:rPr b="0" lang="hu-HU" sz="2000" spc="-1" strike="noStrike">
                <a:solidFill>
                  <a:srgbClr val="ffffff"/>
                </a:solidFill>
                <a:latin typeface="Tahoma"/>
              </a:rPr>
              <a:t>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2FD1610-03E7-4DDD-A152-21F97F97B69F}" type="slidenum">
              <a:t>247</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ennyiségű mérési adatot az </a:t>
            </a:r>
            <a:r>
              <a:rPr b="1" lang="hu-HU" sz="2800" spc="-1" strike="noStrike">
                <a:solidFill>
                  <a:srgbClr val="ffffff"/>
                </a:solidFill>
                <a:latin typeface="Tahoma"/>
              </a:rPr>
              <a:t>SPC</a:t>
            </a:r>
            <a:r>
              <a:rPr b="0" lang="hu-HU" sz="2800" spc="-1" strike="noStrike">
                <a:solidFill>
                  <a:srgbClr val="ffffff"/>
                </a:solidFill>
                <a:latin typeface="Tahoma"/>
              </a:rPr>
              <a:t> (</a:t>
            </a:r>
            <a:r>
              <a:rPr b="1" lang="hu-HU" sz="2800" spc="-1" strike="noStrike">
                <a:solidFill>
                  <a:srgbClr val="ffffff"/>
                </a:solidFill>
                <a:latin typeface="Tahoma"/>
              </a:rPr>
              <a:t>S</a:t>
            </a:r>
            <a:r>
              <a:rPr b="0" lang="hu-HU" sz="2800" spc="-1" strike="noStrike">
                <a:solidFill>
                  <a:srgbClr val="ffffff"/>
                </a:solidFill>
                <a:latin typeface="Tahoma"/>
              </a:rPr>
              <a:t>tatistical </a:t>
            </a:r>
            <a:r>
              <a:rPr b="1" lang="hu-HU" sz="2800" spc="-1" strike="noStrike">
                <a:solidFill>
                  <a:srgbClr val="ffffff"/>
                </a:solidFill>
                <a:latin typeface="Tahoma"/>
              </a:rPr>
              <a:t>P</a:t>
            </a:r>
            <a:r>
              <a:rPr b="0" lang="hu-HU" sz="2800" spc="-1" strike="noStrike">
                <a:solidFill>
                  <a:srgbClr val="ffffff"/>
                </a:solidFill>
                <a:latin typeface="Tahoma"/>
              </a:rPr>
              <a:t>rocess </a:t>
            </a:r>
            <a:r>
              <a:rPr b="1" lang="hu-HU" sz="2800" spc="-1" strike="noStrike">
                <a:solidFill>
                  <a:srgbClr val="ffffff"/>
                </a:solidFill>
                <a:latin typeface="Tahoma"/>
              </a:rPr>
              <a:t>C</a:t>
            </a:r>
            <a:r>
              <a:rPr b="0" lang="hu-HU" sz="2800" spc="-1" strike="noStrike">
                <a:solidFill>
                  <a:srgbClr val="ffffff"/>
                </a:solidFill>
                <a:latin typeface="Tahoma"/>
              </a:rPr>
              <a:t>ontrol) szoftverek segítségével számítógépek dolgozzák fel és döntéstámogató adatokat szolgáltatnak a minőség bármilyen veszélyeztetése eseté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rendszerben az egységes műszaki adat-báziskezelés lehetővé teszi a tervezett és a tényleges műszaki adatok állandó összehasonlítását, a gyártás minden nem várt vagy kedvezőtlen eseményének, tendenciájának felismerésé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2F7504-7595-408A-9D7D-7A6811A3C750}"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24" name="" descr=""/>
          <p:cNvPicPr/>
          <p:nvPr/>
        </p:nvPicPr>
        <p:blipFill>
          <a:blip r:embed="rId1"/>
          <a:stretch/>
        </p:blipFill>
        <p:spPr>
          <a:xfrm>
            <a:off x="1979640" y="189000"/>
            <a:ext cx="5337000" cy="5877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62389925-2144-4106-B5FC-6CC39B07FBEA}" type="slidenum">
              <a:t>24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417680" y="303120"/>
            <a:ext cx="6308640" cy="572148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6705E92F-2475-47DF-8D79-05748015D29D}"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1025" name=""/>
          <p:cNvGraphicFramePr/>
          <p:nvPr/>
        </p:nvGraphicFramePr>
        <p:xfrm>
          <a:off x="395280" y="312840"/>
          <a:ext cx="8280000" cy="5563800"/>
        </p:xfrm>
        <a:graphic>
          <a:graphicData uri="http://schemas.openxmlformats.org/drawingml/2006/table">
            <a:tbl>
              <a:tblPr/>
              <a:tblGrid>
                <a:gridCol w="1243440"/>
                <a:gridCol w="1667160"/>
                <a:gridCol w="2025720"/>
                <a:gridCol w="1156320"/>
                <a:gridCol w="2187360"/>
              </a:tblGrid>
              <a:tr h="116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Sajátosság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eature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Hagyományos integrációs elv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raditional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 struktúrák és alkalma-zások integrációjának informatikai támogatása</a:t>
                      </a:r>
                      <a:r>
                        <a:rPr b="0" lang="hu-HU" sz="900" spc="-1" strike="noStrike">
                          <a:solidFill>
                            <a:srgbClr val="ffffff"/>
                          </a:solidFill>
                          <a:latin typeface="Times New Roman"/>
                          <a:ea typeface="Times New Roman"/>
                        </a:rPr>
                        <a:t>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the integration of structures and application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Újabban felmerült integrációs elvek </a:t>
                      </a:r>
                      <a:r>
                        <a:rPr b="0" lang="hu-HU" sz="900" spc="-1" strike="noStrike">
                          <a:solidFill>
                            <a:srgbClr val="ffffff"/>
                          </a:solidFill>
                          <a:latin typeface="Times New Roman"/>
                          <a:ea typeface="Times New Roman"/>
                        </a:rPr>
                        <a:t>(Emerging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z informatika által támogatott folyamat-integráció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process integratio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85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z integráció megközelítése</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truktúrá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lkalmazások közötti adatcsere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CIM projektek és a folyamat-innováció elkülönítése.</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olyamato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kölcsönös függések automatizálása adott folyamaton belül és a folyamatok közöt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T lehetőséget ad a folyamat újratervezésére (redesigning)</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Koordinációs mechanizmu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ierarchia, eljárások, akcióterve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zét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összes információ-folyam erőteljes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túlnyomórészt vertikális;piramis-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z egyedül dolgozó személyek munkáj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blokkonkénti" adatcseré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közös beállítás (beszabályozás), teljesit-mény-ellenőr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össze-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nem - IT "média" széleskörű elfogadása az információfolyamok kezelésér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főként horizontáli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álózati 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 team-munk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datfolyamonkénti" adatcserék.</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92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 folyamat-kezelés és az innováció kritériumai</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kív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nem-turbulens környezet, stabil folyamatok, magas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magas hierarchiai szintek vagy IT személyzet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részletes, vállalatszintű adatmodellek kifejlesztés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adatok integrációján van.</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bel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urbulens környezet nem-stabil folyamatok, alacsony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de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a "folyamatgazdák" és az operátorok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eszközök és módszerek szabványosítása információs rendszerek tervezéséhe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IT-rendszerek rugalmasságán va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930A6D3C-5E41-4880-8639-2BEF4BC75074}"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minőség</a:t>
            </a:r>
            <a:endParaRPr b="0" lang="en-US" sz="5400" spc="-1" strike="noStrike">
              <a:solidFill>
                <a:srgbClr val="ffffcc"/>
              </a:solidFill>
              <a:latin typeface="Tahoma"/>
            </a:endParaRPr>
          </a:p>
        </p:txBody>
      </p:sp>
      <p:sp>
        <p:nvSpPr>
          <p:cNvPr id="10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apfogalmak,  szabványok</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387897A0-C028-4B0F-B806-D9CED8AEA79E}"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oftverminőség és a szoftverfolyamatok alapfogalmai</a:t>
            </a:r>
            <a:endParaRPr b="0" lang="en-US" sz="4000" spc="-1" strike="noStrike">
              <a:solidFill>
                <a:srgbClr val="ffffcc"/>
              </a:solidFill>
              <a:latin typeface="Tahoma"/>
            </a:endParaRPr>
          </a:p>
        </p:txBody>
      </p:sp>
      <p:sp>
        <p:nvSpPr>
          <p:cNvPr id="10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rányítás és minőségbiztosítás alapfogalmait az MSZ EN ISO 8402:1996 szabvány tartalmazza. </a:t>
            </a:r>
            <a:endParaRPr b="0" lang="en-US" sz="24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 olyan, egymással kölcsönös kapcsolatban lévő erőforrások és tevékenységek összessége, amely a bemeneteket (inputs) kimenetekké (outputs) alakítja át.</a:t>
            </a:r>
            <a:endParaRPr b="0" lang="en-US" sz="20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tevékenységek vagy folyamatok eredménye. A termékeket négy általános kategóriába sorolják:</a:t>
            </a:r>
            <a:endParaRPr b="0" lang="en-US" sz="20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rdver (például: alkatrészek, részegységek, szerelt termék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ftver (például: számítógép-programok, eljárások, információk, adatok, feljegyzés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dolgozott anyagok (például: alapanyagok, folyadékok, szilárd anyagok, gázok, lemezek, huzalo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lgáltatások (például: biztosítás, bank, szállítás).</a:t>
            </a:r>
            <a:endParaRPr b="0" lang="en-US" sz="18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általában ezeknek az általános termékkategóriáknak a kombináció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2BCFD2-DB6C-4F6C-8588-0F851F79DF1E}"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almas mértékben nő azon feladatok mennyisége, amelyeknek elvégzését szoftverekre bízzuk.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ektől való függőségünk növekedési ütemének megtorpanása belátható időtávon nem várható.</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ind több és több termékbe épül bele a modern világ szolgáltatási infrastruktúrájának egyre nagyobb részében és egyre több üzleti folyamatban.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an nő a fogyasztási cikként, önálló termékként forgalmazott szoftverek piaca is.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így közvetlenül képviseli, közvetetten pedig alátámasztja egyre több  szervezet tevékenységét, eredményét, forgalmát, profitját és valódi értéké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0DBE5A-7D2C-42BC-B6D4-CD4D7727A54E}"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szoftverre van szükség, amely a megfelelő feladatot látja el, a megfelelő áron, és a megfelelő időben áll rendelkezésre</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szoftver beszerzéséhez a vállalatnak széleskörű tevékenységeket, belső és külső erőforrásokat kell mozgósítania.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és erőforrások szoftverházaktól eltekintve idegenek a vállalat főprofiljától.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cslések szerint Európában a szoftverfejlesztések 70%-át olyan szervezetek végzik, amelyeknek az alaptevékenysége nem szoftverrel kapcsolato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2F410F5-2D48-45E8-9802-8B6587D97259}"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válság fő okai:</a:t>
            </a:r>
            <a:endParaRPr b="0" lang="en-US" sz="20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oftver olyan kritikus sikertényező, amelynek növekvő mértékű funkcionális teljesítőképességére a vállalatok egyre nagyobb igényt támasztanak,</a:t>
            </a:r>
            <a:endParaRPr b="0" lang="en-US" sz="18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lyen igényeket kielégítő méretű és bonyolultságú szoftverek kifejlesztése olyan technikai és menedzselési képességeket követel, amelyek a legtöbb vállalat kulturális és erőforrás lehetőségein kívül esnek.</a:t>
            </a:r>
            <a:endParaRPr b="0" lang="en-US" sz="18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tozás tapasztalható: A szoftverfejlesztők felismerték a minőségi szoftverkészítési folyamat, röviden: a </a:t>
            </a:r>
            <a:r>
              <a:rPr b="0" i="1" lang="hu-HU" sz="2000" spc="-1" strike="noStrike">
                <a:solidFill>
                  <a:srgbClr val="ffffff"/>
                </a:solidFill>
                <a:latin typeface="Tahoma"/>
              </a:rPr>
              <a:t>szoftverfolyamat</a:t>
            </a:r>
            <a:r>
              <a:rPr b="0" lang="hu-HU" sz="2000" spc="-1" strike="noStrike">
                <a:solidFill>
                  <a:srgbClr val="ffffff"/>
                </a:solidFill>
                <a:latin typeface="Tahoma"/>
              </a:rPr>
              <a:t> előtérbe helyezésének fontosságát, a vállalati felső vezetés pedig felismerte, hogy a szoftver ténylegesen üzleti tevékenységük kritikus sikertényezője, valamint azt is, hogy a szoftverfolyamat javítása lehetővé teszi, hogy jobban kézben tartsák a szoftverfejlesztők tevékenységét.</a:t>
            </a:r>
            <a:endParaRPr b="0" lang="en-US" sz="2000" spc="-1" strike="noStrike">
              <a:solidFill>
                <a:srgbClr val="ffffff"/>
              </a:solidFill>
              <a:latin typeface="Tahoma"/>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09DB40C-0A1E-4673-BB86-C1B342DDC8E2}"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olyamat </a:t>
            </a:r>
            <a:endParaRPr b="0" lang="en-US" sz="4400" spc="-1" strike="noStrike">
              <a:solidFill>
                <a:srgbClr val="ffffcc"/>
              </a:solidFill>
              <a:latin typeface="Tahoma"/>
            </a:endParaRPr>
          </a:p>
        </p:txBody>
      </p:sp>
      <p:sp>
        <p:nvSpPr>
          <p:cNvPr id="10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oftverfolyamat</a:t>
            </a:r>
            <a:r>
              <a:rPr b="0" lang="hu-HU" sz="2400" spc="-1" strike="noStrike">
                <a:solidFill>
                  <a:srgbClr val="ffffff"/>
                </a:solidFill>
                <a:latin typeface="Tahoma"/>
              </a:rPr>
              <a:t> azon technikai és menedzselési folyamatok összessége, amelyek a szoftverkövetelmények meghatározásához és ezen követelmények kielégítését szolgáló szoftvertermékek kidolgozásához és bevezetéséhez szükségesek. </a:t>
            </a:r>
            <a:br>
              <a:rPr sz="2400"/>
            </a:br>
            <a:r>
              <a:rPr b="0" lang="hu-HU" sz="2400" spc="-1" strike="noStrike">
                <a:solidFill>
                  <a:srgbClr val="ffffff"/>
                </a:solidFill>
                <a:latin typeface="Tahoma"/>
              </a:rPr>
              <a:t>A szoftverfolyamat mozgalom a kezdetektől két különálló ágon fejlődött:</a:t>
            </a:r>
            <a:endParaRPr b="0" lang="en-US" sz="24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technológiai ága</a:t>
            </a:r>
            <a:r>
              <a:rPr b="0" lang="hu-HU" sz="2000" spc="-1" strike="noStrike">
                <a:solidFill>
                  <a:srgbClr val="ffffff"/>
                </a:solidFill>
                <a:latin typeface="Tahoma"/>
              </a:rPr>
              <a:t> a technikai tevékenységek </a:t>
            </a:r>
            <a:r>
              <a:rPr b="0" i="1" lang="hu-HU" sz="2000" spc="-1" strike="noStrike">
                <a:solidFill>
                  <a:srgbClr val="ffffff"/>
                </a:solidFill>
                <a:latin typeface="Tahoma"/>
              </a:rPr>
              <a:t>mikro-szintű</a:t>
            </a:r>
            <a:r>
              <a:rPr b="0" lang="hu-HU" sz="2000" spc="-1" strike="noStrike">
                <a:solidFill>
                  <a:srgbClr val="ffffff"/>
                </a:solidFill>
                <a:latin typeface="Tahoma"/>
              </a:rPr>
              <a:t> modellezésével foglalkozott. Mind egyéni, mind csoportos folyamatok támogatásához nyújtott eszközöket. Épített a létező modellező nyelvekre és a szoftverfejlesztő környezetek architektúrájára.</a:t>
            </a:r>
            <a:endParaRPr b="0" lang="en-US" sz="20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javítási ága</a:t>
            </a:r>
            <a:r>
              <a:rPr b="0" lang="hu-HU" sz="2000" spc="-1" strike="noStrike">
                <a:solidFill>
                  <a:srgbClr val="ffffff"/>
                </a:solidFill>
                <a:latin typeface="Tahoma"/>
              </a:rPr>
              <a:t> a szoftverfolyamat struktúrájának és érettségének </a:t>
            </a:r>
            <a:r>
              <a:rPr b="0" i="1" lang="hu-HU" sz="2000" spc="-1" strike="noStrike">
                <a:solidFill>
                  <a:srgbClr val="ffffff"/>
                </a:solidFill>
                <a:latin typeface="Tahoma"/>
              </a:rPr>
              <a:t>makro-szintű</a:t>
            </a:r>
            <a:r>
              <a:rPr b="0" lang="hu-HU" sz="2000" spc="-1" strike="noStrike">
                <a:solidFill>
                  <a:srgbClr val="ffffff"/>
                </a:solidFill>
                <a:latin typeface="Tahoma"/>
              </a:rPr>
              <a:t> modellezésével foglalkozott, felmérési és javítási módszereket és eszközöket nyújtott. Forrásai a minőség és a technológia felmérés területéről származ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9A77CD5-ED0B-4449-8C9C-C078AC2F61E3}"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SO/IEC 9126 szabvány által meghatározott szempontrendszer első szintje a következőket tartalmazza:</a:t>
            </a:r>
            <a:endParaRPr b="0" lang="en-US" sz="32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onalitás,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bíz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sználható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tékony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arbantart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ordozhatóság.</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511E359-0B5C-4DF1-9BD7-7BA667ECED68}"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ISO 9000 szabványsorozat, a hangsúlyt a termék helyett a folyamatra helyezi,</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folyamatra általánosan az ISO 9001 szabvány alkalmazható,</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t kiegészíti a szoftverfejlesztésre vonatkozó ISO 9000-3-as útmutató.</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1767579-57B5-4090-9CB9-7D40322BAAC5}"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43" name=""/>
          <p:cNvSpPr/>
          <p:nvPr/>
        </p:nvSpPr>
        <p:spPr>
          <a:xfrm>
            <a:off x="1908000" y="1563840"/>
            <a:ext cx="12240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2556000" y="2117880"/>
            <a:ext cx="112068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398760" y="2670120"/>
            <a:ext cx="833400" cy="41616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3951360" y="3225960"/>
            <a:ext cx="83484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4427640" y="3780000"/>
            <a:ext cx="9126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4932360" y="4335480"/>
            <a:ext cx="96372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618160" y="488808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6172200" y="544212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027880" y="1628640"/>
            <a:ext cx="61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endszer</a:t>
            </a:r>
            <a:endParaRPr b="0" lang="en-US" sz="1100" spc="-1" strike="noStrike">
              <a:solidFill>
                <a:srgbClr val="ffffff"/>
              </a:solidFill>
              <a:latin typeface="Arial"/>
            </a:endParaRPr>
          </a:p>
        </p:txBody>
      </p:sp>
      <p:sp>
        <p:nvSpPr>
          <p:cNvPr id="1052" name=""/>
          <p:cNvSpPr/>
          <p:nvPr/>
        </p:nvSpPr>
        <p:spPr>
          <a:xfrm>
            <a:off x="2124000" y="1773360"/>
            <a:ext cx="92088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3" name=""/>
          <p:cNvSpPr/>
          <p:nvPr/>
        </p:nvSpPr>
        <p:spPr>
          <a:xfrm>
            <a:off x="2771640" y="2133720"/>
            <a:ext cx="64476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zoftver</a:t>
            </a:r>
            <a:endParaRPr b="0" lang="en-US" sz="1100" spc="-1" strike="noStrike">
              <a:solidFill>
                <a:srgbClr val="ffffff"/>
              </a:solidFill>
              <a:latin typeface="Arial"/>
            </a:endParaRPr>
          </a:p>
        </p:txBody>
      </p:sp>
      <p:sp>
        <p:nvSpPr>
          <p:cNvPr id="1054" name=""/>
          <p:cNvSpPr/>
          <p:nvPr/>
        </p:nvSpPr>
        <p:spPr>
          <a:xfrm>
            <a:off x="2587680" y="2276640"/>
            <a:ext cx="100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5" name=""/>
          <p:cNvSpPr/>
          <p:nvPr/>
        </p:nvSpPr>
        <p:spPr>
          <a:xfrm>
            <a:off x="3550320" y="271152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őzetes</a:t>
            </a:r>
            <a:endParaRPr b="0" lang="en-US" sz="1100" spc="-1" strike="noStrike">
              <a:solidFill>
                <a:srgbClr val="ffffff"/>
              </a:solidFill>
              <a:latin typeface="Arial"/>
            </a:endParaRPr>
          </a:p>
        </p:txBody>
      </p:sp>
      <p:sp>
        <p:nvSpPr>
          <p:cNvPr id="1056" name=""/>
          <p:cNvSpPr/>
          <p:nvPr/>
        </p:nvSpPr>
        <p:spPr>
          <a:xfrm>
            <a:off x="3378960" y="2852640"/>
            <a:ext cx="84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7" name=""/>
          <p:cNvSpPr/>
          <p:nvPr/>
        </p:nvSpPr>
        <p:spPr>
          <a:xfrm>
            <a:off x="4115520" y="33447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emzés</a:t>
            </a:r>
            <a:endParaRPr b="0" lang="en-US" sz="1100" spc="-1" strike="noStrike">
              <a:solidFill>
                <a:srgbClr val="ffffff"/>
              </a:solidFill>
              <a:latin typeface="Arial"/>
            </a:endParaRPr>
          </a:p>
        </p:txBody>
      </p:sp>
      <p:sp>
        <p:nvSpPr>
          <p:cNvPr id="1058" name=""/>
          <p:cNvSpPr/>
          <p:nvPr/>
        </p:nvSpPr>
        <p:spPr>
          <a:xfrm>
            <a:off x="4460760" y="3860640"/>
            <a:ext cx="843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9" name=""/>
          <p:cNvSpPr/>
          <p:nvPr/>
        </p:nvSpPr>
        <p:spPr>
          <a:xfrm>
            <a:off x="4961520" y="4437000"/>
            <a:ext cx="881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ozás</a:t>
            </a:r>
            <a:endParaRPr b="0" lang="en-US" sz="1100" spc="-1" strike="noStrike">
              <a:solidFill>
                <a:srgbClr val="ffffff"/>
              </a:solidFill>
              <a:latin typeface="Arial"/>
            </a:endParaRPr>
          </a:p>
        </p:txBody>
      </p:sp>
      <p:sp>
        <p:nvSpPr>
          <p:cNvPr id="1060" name=""/>
          <p:cNvSpPr/>
          <p:nvPr/>
        </p:nvSpPr>
        <p:spPr>
          <a:xfrm>
            <a:off x="5756040" y="5014800"/>
            <a:ext cx="60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Tesztelés</a:t>
            </a:r>
            <a:endParaRPr b="0" lang="en-US" sz="1100" spc="-1" strike="noStrike">
              <a:solidFill>
                <a:srgbClr val="ffffff"/>
              </a:solidFill>
              <a:latin typeface="Arial"/>
            </a:endParaRPr>
          </a:p>
        </p:txBody>
      </p:sp>
      <p:sp>
        <p:nvSpPr>
          <p:cNvPr id="1061" name=""/>
          <p:cNvSpPr/>
          <p:nvPr/>
        </p:nvSpPr>
        <p:spPr>
          <a:xfrm>
            <a:off x="6299640" y="556884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Működés</a:t>
            </a:r>
            <a:endParaRPr b="0" lang="en-US" sz="1100" spc="-1" strike="noStrike">
              <a:solidFill>
                <a:srgbClr val="ffffff"/>
              </a:solidFill>
              <a:latin typeface="Arial"/>
            </a:endParaRPr>
          </a:p>
        </p:txBody>
      </p:sp>
      <p:sp>
        <p:nvSpPr>
          <p:cNvPr id="1062" name=""/>
          <p:cNvSpPr/>
          <p:nvPr/>
        </p:nvSpPr>
        <p:spPr>
          <a:xfrm>
            <a:off x="5340240" y="3987720"/>
            <a:ext cx="14148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478480" y="3987720"/>
            <a:ext cx="0" cy="351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4786200" y="3433680"/>
            <a:ext cx="139680" cy="1800"/>
          </a:xfrm>
          <a:prstGeom prst="line">
            <a:avLst/>
          </a:prstGeom>
          <a:ln w="11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5" name=""/>
          <p:cNvSpPr/>
          <p:nvPr/>
        </p:nvSpPr>
        <p:spPr>
          <a:xfrm>
            <a:off x="4923000" y="3433680"/>
            <a:ext cx="144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5894280" y="454176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033960" y="45417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4230720" y="2879640"/>
            <a:ext cx="1411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4370400" y="287964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3675240" y="2324160"/>
            <a:ext cx="142560" cy="1440"/>
          </a:xfrm>
          <a:prstGeom prst="line">
            <a:avLst/>
          </a:prstGeom>
          <a:ln w="11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1" name=""/>
          <p:cNvSpPr/>
          <p:nvPr/>
        </p:nvSpPr>
        <p:spPr>
          <a:xfrm>
            <a:off x="3814920" y="23241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3119400" y="177012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3259080" y="1770120"/>
            <a:ext cx="0" cy="3506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3675240" y="2187720"/>
            <a:ext cx="146016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132520" y="2187720"/>
            <a:ext cx="0" cy="159516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flipH="1">
            <a:off x="4786200" y="5097600"/>
            <a:ext cx="8352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flipV="1">
            <a:off x="4786200" y="4195440"/>
            <a:ext cx="0" cy="903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3224160" y="2004840"/>
            <a:ext cx="34920" cy="1130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flipV="1">
            <a:off x="3259080" y="1995480"/>
            <a:ext cx="4464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3780000" y="2558880"/>
            <a:ext cx="3492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flipV="1">
            <a:off x="3814920" y="255060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4335480" y="31035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V="1">
            <a:off x="4370400" y="3095280"/>
            <a:ext cx="4140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4888080" y="36576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V="1">
            <a:off x="4923000" y="3649320"/>
            <a:ext cx="44280" cy="1141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5443560" y="42210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5478480" y="4212720"/>
            <a:ext cx="4428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999040" y="476712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flipV="1">
            <a:off x="6033960" y="475884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flipH="1">
            <a:off x="4750920" y="42051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4786200" y="4195800"/>
            <a:ext cx="4284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flipV="1">
            <a:off x="3679920" y="2147400"/>
            <a:ext cx="112680" cy="34920"/>
          </a:xfrm>
          <a:prstGeom prst="line">
            <a:avLst/>
          </a:prstGeom>
          <a:ln w="11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93" name=""/>
          <p:cNvSpPr/>
          <p:nvPr/>
        </p:nvSpPr>
        <p:spPr>
          <a:xfrm>
            <a:off x="3684600" y="2187720"/>
            <a:ext cx="112680" cy="41040"/>
          </a:xfrm>
          <a:prstGeom prst="line">
            <a:avLst/>
          </a:prstGeom>
          <a:ln w="1152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D31CA56-59C1-419A-89B4-AD1AEE141D34}" type="slidenum">
              <a:t>2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ámítógépipar</a:t>
            </a:r>
            <a:r>
              <a:rPr b="0" lang="hu-HU" sz="2400" spc="-1" strike="noStrike">
                <a:solidFill>
                  <a:srgbClr val="ffffff"/>
                </a:solidFill>
                <a:latin typeface="Tahoma"/>
              </a:rPr>
              <a:t> az ipari termelés élvonalába került és más mechanikai iparágak beszűkültek. Az olaj- és műanyagipar mögött jelenleg a harmadik helyen áll (A PC-ipar fejlődése kb. 100 %/év).</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termék-konstrukciók</a:t>
            </a:r>
            <a:r>
              <a:rPr b="0" lang="hu-HU" sz="2400" spc="-1" strike="noStrike">
                <a:solidFill>
                  <a:srgbClr val="ffffff"/>
                </a:solidFill>
                <a:latin typeface="Tahoma"/>
              </a:rPr>
              <a:t> használati tulajdonságai kiszélesedtek. A beépített informatikai elemek funkcionális lehetőségeinek bővülése, a mechanizmusok kiváltása, a megbízhatóság és pontosság fokozása, valamint a fajlagos árak rohamos csökkenése jellemzi a komplex termékeke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nyagi termelés</a:t>
            </a:r>
            <a:r>
              <a:rPr b="0" lang="hu-HU" sz="2400" spc="-1" strike="noStrike">
                <a:solidFill>
                  <a:srgbClr val="ffffff"/>
                </a:solidFill>
                <a:latin typeface="Tahoma"/>
              </a:rPr>
              <a:t> terén a tömegtermelést felváltotta az igényekhez rugalmasabban alkalmazkodó kis- és középsorozat-gyártás a távvezérelhető, programozható processzoros gépek, a robotok és tárolók révé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62C990-B1D4-4947-AB05-559025197DD4}"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ízesés modell konzisztens a felülről-lefelé történő (top-down) kifejlesztést követő, strukturált programozási modellel, és lehetővé teszi az egyes szakaszok közötti visszacsatolást, valamint a prototípus készítés beépítését a szoftver életciklusba.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blémák:</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totípus építés felesleges olyan projekteknél, ahol a tervezési kérdések egyébként világosak. Ilyenkor a második rendszer általában barokkos elemekkel bővül.</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iszta felülről-lefelé megközelítéshez előretekintő lépéseket kell beiktatni, hogy meghatározásra kerüljenek az alacsony szintű, de nagy kockázati tényezőt jelentő, esetleg sokszorosan felhasználható szoftver modul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BB44EE-AE27-4C9A-BFD3-051436FCEA4F}"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pic>
        <p:nvPicPr>
          <p:cNvPr id="1097" name="" descr=""/>
          <p:cNvPicPr/>
          <p:nvPr/>
        </p:nvPicPr>
        <p:blipFill>
          <a:blip r:embed="rId1"/>
          <a:stretch/>
        </p:blipFill>
        <p:spPr>
          <a:xfrm>
            <a:off x="1403280" y="1413000"/>
            <a:ext cx="6158160" cy="4746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B09D2F3-71D5-4F5C-A6C5-49C932C051AD}" type="slidenum">
              <a:t>261</a:t>
            </a:fld>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sp>
        <p:nvSpPr>
          <p:cNvPr id="10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ok esetben egy ennél lényegesen egyszerűbb felbontást használnak, mely a szoftver életciklusának csak a főbb lépéseit emeli ki:</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vetelmények meghatározása,</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ízis, specifikáció elkészítés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é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mplementáció,</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sztelé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D771CED-0B18-46D3-AEB7-556673A942CF}"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ejlesztés piramisa </a:t>
            </a:r>
            <a:endParaRPr b="0" lang="en-US" sz="4400" spc="-1" strike="noStrike">
              <a:solidFill>
                <a:srgbClr val="ffffcc"/>
              </a:solidFill>
              <a:latin typeface="Tahoma"/>
            </a:endParaRPr>
          </a:p>
        </p:txBody>
      </p:sp>
      <p:sp>
        <p:nvSpPr>
          <p:cNvPr id="1101" name=""/>
          <p:cNvSpPr/>
          <p:nvPr/>
        </p:nvSpPr>
        <p:spPr>
          <a:xfrm>
            <a:off x="0" y="22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2" name=""/>
          <p:cNvGraphicFramePr/>
          <p:nvPr/>
        </p:nvGraphicFramePr>
        <p:xfrm>
          <a:off x="1763640" y="1341360"/>
          <a:ext cx="5256360" cy="2782800"/>
        </p:xfrm>
        <a:graphic>
          <a:graphicData uri="http://schemas.openxmlformats.org/presentationml/2006/ole">
            <p:oleObj r:id="rId1" spid="">
              <p:embed/>
              <p:pic>
                <p:nvPicPr>
                  <p:cNvPr id="1103" name="" descr=""/>
                  <p:cNvPicPr/>
                  <p:nvPr/>
                </p:nvPicPr>
                <p:blipFill>
                  <a:blip r:embed="rId2"/>
                  <a:stretch/>
                </p:blipFill>
                <p:spPr>
                  <a:xfrm>
                    <a:off x="1763640" y="1341360"/>
                    <a:ext cx="5256360" cy="2782800"/>
                  </a:xfrm>
                  <a:prstGeom prst="rect">
                    <a:avLst/>
                  </a:prstGeom>
                  <a:ln w="0">
                    <a:noFill/>
                  </a:ln>
                </p:spPr>
              </p:pic>
            </p:oleObj>
          </a:graphicData>
        </a:graphic>
      </p:graphicFrame>
      <p:sp>
        <p:nvSpPr>
          <p:cNvPr id="1104" name=""/>
          <p:cNvSpPr/>
          <p:nvPr/>
        </p:nvSpPr>
        <p:spPr>
          <a:xfrm>
            <a:off x="539640" y="4221000"/>
            <a:ext cx="828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reprezentálja az egyes lépések eredményeinek terjedelmét.</a:t>
            </a:r>
            <a:endParaRPr b="0" lang="en-US" sz="2000" spc="-1" strike="noStrike">
              <a:solidFill>
                <a:srgbClr val="ffffff"/>
              </a:solidFill>
              <a:latin typeface="Arial"/>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alkalmas az absztrakciós szint jelzésére, az elvégzett munka jellegének kiemelésére is.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E85771F-947E-44AF-B04B-EE2A6A9161D3}"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bbcélú tervezés</a:t>
            </a:r>
            <a:br>
              <a:rPr sz="2000"/>
            </a:br>
            <a:r>
              <a:rPr b="0" lang="hu-HU" sz="2000" spc="-1" strike="noStrike">
                <a:solidFill>
                  <a:srgbClr val="ffffff"/>
                </a:solidFill>
                <a:latin typeface="Tahoma"/>
              </a:rPr>
              <a:t>A hagyományos szoftvertervezés a funkcionális követelményekre összpontosít, tehát arra, hogy mit csinál a szoftver és nem arra, hogy milyen jól, vagy milyen áron. Olyan jellemzőkre is megfelelő hangsúlyt kell helyezni, mint a használhatóság, vagy a karbantarthatóság (ld. ISO/IEC 9126).</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ai és gyakori iteráció</a:t>
            </a:r>
            <a:br>
              <a:rPr sz="2000"/>
            </a:br>
            <a:r>
              <a:rPr b="0" lang="hu-HU" sz="2000" spc="-1" strike="noStrike">
                <a:solidFill>
                  <a:srgbClr val="ffffff"/>
                </a:solidFill>
                <a:latin typeface="Tahoma"/>
              </a:rPr>
              <a:t>A vízesés modell és a spirál modell alapkérdése, hogy mi a legtöbb, mi az a legnagyobb lépés, amit korlátaink között (költségvetés, határidő, tárolóhely) el tudunk érni. Az evolúciós modell ezzel szemben a végcélunk felé vezető, de legkevesebb erőforrást igénylő hasznos lépést keresi. Ezzel a megközelítéssel a távol-keleti filozófiák forrásaiból merí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367AFC-F2FA-4F1C-896A-D3CFC4B789C3}"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lépésben teljes elemzés, tervezés, építés és teszt</a:t>
            </a:r>
            <a:br>
              <a:rPr sz="2000"/>
            </a:br>
            <a:r>
              <a:rPr b="0" lang="hu-HU" sz="2000" spc="-1" strike="noStrike">
                <a:solidFill>
                  <a:srgbClr val="ffffff"/>
                </a:solidFill>
                <a:latin typeface="Tahoma"/>
              </a:rPr>
              <a:t>A szoftverfejlesztési folyamatban túl sok az ismeretlen, a dinamikus változás, túl komplexek az összefüggések. Ezért „a szoftver-projektekben a legnagyobb időpocsékolás a részletes követelményelemzés, amelyet részletes rendszerterv, majd kódolás és tesztelés követ” (Tom Gilb) . Ehelyett minden kis lépés után a kapott visszajelzésektől függően kell módosítani az azonnali tervet, az architekturális elképzeléseket, és szükség esetén mind a rövid, mind a hosszútávú célokat is.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lhasználó-orientáltság</a:t>
            </a:r>
            <a:br>
              <a:rPr sz="2000"/>
            </a:br>
            <a:r>
              <a:rPr b="0" lang="hu-HU" sz="2000" spc="-1" strike="noStrike">
                <a:solidFill>
                  <a:srgbClr val="ffffff"/>
                </a:solidFill>
                <a:latin typeface="Tahoma"/>
              </a:rPr>
              <a:t>A szoftver-projektek gyakran eltávolodnak a tényleges piaci, felhasználói igényektől, és a gép, az algoritmus, vagy a határidők kerülnek a középpontba. Az evolúciós modell ehelyett alapvető hangsúlyt helyez a visszacsatolásra, a felhasználói értékek változására, a fejlesztési költségek becslésé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1C2096-9659-4AF0-BB91-2E7F73DB7FB1}"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megközelítés (Rendszerelmélet)</a:t>
            </a:r>
            <a:br>
              <a:rPr sz="2000"/>
            </a:br>
            <a:r>
              <a:rPr b="0" lang="hu-HU" sz="2000" spc="-1" strike="noStrike">
                <a:solidFill>
                  <a:srgbClr val="ffffff"/>
                </a:solidFill>
                <a:latin typeface="Tahoma"/>
              </a:rPr>
              <a:t>A programozás mellett figyelmet kell fordítani például a dokumentációra, a betanításra, a marketingre, a motivációra is.</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tvégű rendszer felépítés</a:t>
            </a:r>
            <a:br>
              <a:rPr sz="2000"/>
            </a:br>
            <a:r>
              <a:rPr b="0" lang="hu-HU" sz="2000" spc="-1" strike="noStrike">
                <a:solidFill>
                  <a:srgbClr val="ffffff"/>
                </a:solidFill>
                <a:latin typeface="Tahoma"/>
              </a:rPr>
              <a:t>Folyamatosan elemezni kell azokat a lehetőségeket, amelyek minél adaptálhatóbb, változtatást tűrő (robusztus) rendszerhez vezetnek.</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edmény-orientáltság</a:t>
            </a:r>
            <a:br>
              <a:rPr sz="2000"/>
            </a:br>
            <a:r>
              <a:rPr b="0" lang="hu-HU" sz="2000" spc="-1" strike="noStrike">
                <a:solidFill>
                  <a:srgbClr val="ffffff"/>
                </a:solidFill>
                <a:latin typeface="Tahoma"/>
              </a:rPr>
              <a:t>A hagyományos vízesés modellben a folyamat fontosabbnak tűnik, mint az eredmény. A folyamat formális követelményeinek átgondolatlan követése oda vezethet, hogy projektek hatalmas erőfeszítéseket tesznek nem mérhető és nem is megfogalmazott célok érdekében. Számos ismert, nagy számítógépes szoftver példája igazolja, hogy ez a veszély mennyire gyakori és következményei milyen súlyosa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9A4293A-2BCF-4404-8D3D-5200DEB3D437}"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pability Maturity Model, (CMM), </a:t>
            </a:r>
            <a:r>
              <a:rPr b="0" i="1" lang="hu-HU" sz="2400" spc="-1" strike="noStrike">
                <a:solidFill>
                  <a:srgbClr val="ffffff"/>
                </a:solidFill>
                <a:latin typeface="Tahoma"/>
              </a:rPr>
              <a:t>Watts Humphrey</a:t>
            </a:r>
            <a:r>
              <a:rPr b="0" lang="hu-HU" sz="2400" spc="-1" strike="noStrike">
                <a:solidFill>
                  <a:srgbClr val="ffffff"/>
                </a:solidFill>
                <a:latin typeface="Tahoma"/>
              </a:rPr>
              <a:t>, Carnegie Mellon University</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ökerei a Teljeskörű Minőség-Menedzselés (Total Quality Management, TQM) hagyományaiból erednek</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18 kulcs-folyamatterületet (key process area) 5 érettségi szintre osztja fel a modell. A kulcs-folyamatterületek (</a:t>
            </a:r>
            <a:r>
              <a:rPr b="0" i="1" lang="hu-HU" sz="2400" spc="-1" strike="noStrike">
                <a:solidFill>
                  <a:srgbClr val="ffffff"/>
                </a:solidFill>
                <a:latin typeface="Tahoma"/>
              </a:rPr>
              <a:t>kulcsterület</a:t>
            </a:r>
            <a:r>
              <a:rPr b="0" lang="hu-HU" sz="2400" spc="-1" strike="noStrike">
                <a:solidFill>
                  <a:srgbClr val="ffffff"/>
                </a:solidFill>
                <a:latin typeface="Tahoma"/>
              </a:rPr>
              <a:t> ) csupán a szoftverfolyamat első felosztását jelentik. Minden kulcs-folyamatterület kulcs-tevékenységekből (key practices) áll. </a:t>
            </a:r>
            <a:br>
              <a:rPr sz="2400"/>
            </a:br>
            <a:r>
              <a:rPr b="0" lang="hu-HU" sz="2400" spc="-1" strike="noStrike">
                <a:solidFill>
                  <a:srgbClr val="ffffff"/>
                </a:solidFill>
                <a:latin typeface="Tahoma"/>
              </a:rPr>
              <a:t>A kulcs-folyamatterületek az őket alkotó kulcs-tevékenységekkel jó megközelítést adnak a teljes szoftverfolyamat lefedéséhez.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4D8CBF-3B79-4DFC-BF7D-44F648FCBD5A}"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4"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15" name=""/>
          <p:cNvGraphicFramePr/>
          <p:nvPr/>
        </p:nvGraphicFramePr>
        <p:xfrm>
          <a:off x="250920" y="1413000"/>
          <a:ext cx="8604000" cy="3951000"/>
        </p:xfrm>
        <a:graphic>
          <a:graphicData uri="http://schemas.openxmlformats.org/presentationml/2006/ole">
            <p:oleObj r:id="rId1" spid="">
              <p:embed/>
              <p:pic>
                <p:nvPicPr>
                  <p:cNvPr id="1116" name="" descr=""/>
                  <p:cNvPicPr/>
                  <p:nvPr/>
                </p:nvPicPr>
                <p:blipFill>
                  <a:blip r:embed="rId2"/>
                  <a:stretch/>
                </p:blipFill>
                <p:spPr>
                  <a:xfrm>
                    <a:off x="250920" y="1413000"/>
                    <a:ext cx="8604000" cy="3951000"/>
                  </a:xfrm>
                  <a:prstGeom prst="rect">
                    <a:avLst/>
                  </a:prstGeom>
                  <a:ln w="0">
                    <a:noFill/>
                  </a:ln>
                </p:spPr>
              </p:pic>
            </p:oleObj>
          </a:graphicData>
        </a:graphic>
      </p:graphicFrame>
      <p:sp>
        <p:nvSpPr>
          <p:cNvPr id="1117" name=""/>
          <p:cNvSpPr/>
          <p:nvPr/>
        </p:nvSpPr>
        <p:spPr>
          <a:xfrm>
            <a:off x="0" y="463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4FF2092-3AB7-4994-B250-F454E2B86FB5}"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érettségi szint az érett szoftverfolyamat irányába megtett lépések egy jól meghatározott szintje. A CMM legfelső szintű struktúráját az </a:t>
            </a:r>
            <a:r>
              <a:rPr b="0" i="1" lang="hu-HU" sz="2000" spc="-1" strike="noStrike">
                <a:solidFill>
                  <a:srgbClr val="ffffff"/>
                </a:solidFill>
                <a:latin typeface="Tahoma"/>
              </a:rPr>
              <a:t>öt</a:t>
            </a:r>
            <a:r>
              <a:rPr b="0" lang="hu-HU" sz="2000" spc="-1" strike="noStrike">
                <a:solidFill>
                  <a:srgbClr val="ffffff"/>
                </a:solidFill>
                <a:latin typeface="Tahoma"/>
              </a:rPr>
              <a:t> érettségi szint alkotja.</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ezdeti szint</a:t>
            </a:r>
            <a:br>
              <a:rPr sz="1800"/>
            </a:br>
            <a:r>
              <a:rPr b="0" lang="hu-HU" sz="1800" spc="-1" strike="noStrike">
                <a:solidFill>
                  <a:srgbClr val="ffffff"/>
                </a:solidFill>
                <a:latin typeface="Tahoma"/>
              </a:rPr>
              <a:t>Egy </a:t>
            </a:r>
            <a:r>
              <a:rPr b="0" i="1" lang="hu-HU" sz="1800" spc="-1" strike="noStrike">
                <a:solidFill>
                  <a:srgbClr val="ffffff"/>
                </a:solidFill>
                <a:latin typeface="Tahoma"/>
              </a:rPr>
              <a:t>kezdeti szintű</a:t>
            </a:r>
            <a:r>
              <a:rPr b="0" lang="hu-HU" sz="1800" spc="-1" strike="noStrike">
                <a:solidFill>
                  <a:srgbClr val="ffffff"/>
                </a:solidFill>
                <a:latin typeface="Tahoma"/>
              </a:rPr>
              <a:t> szervezet nem biztosít stabil környezetet a szoftverfejlesztés és karbantartás számára. Kritikus helyzetekben a projektek nem követik a tervezett eljárásokat, rákényszerülnek a tűzoltásszerű kódolás-tesztelés stílusra. Az esetleges siker kizárólag egy kiváló képességű menedzseren és a lelkes programozó csapaton múlik. Ilyen környezetben általában nincs idő a folyamatok javításán gondolkodni.</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mételhető szint</a:t>
            </a:r>
            <a:br>
              <a:rPr sz="1800"/>
            </a:br>
            <a:r>
              <a:rPr b="0" lang="hu-HU" sz="1800" spc="-1" strike="noStrike">
                <a:solidFill>
                  <a:srgbClr val="ffffff"/>
                </a:solidFill>
                <a:latin typeface="Tahoma"/>
              </a:rPr>
              <a:t>Egy </a:t>
            </a:r>
            <a:r>
              <a:rPr b="0" i="1" lang="hu-HU" sz="1800" spc="-1" strike="noStrike">
                <a:solidFill>
                  <a:srgbClr val="ffffff"/>
                </a:solidFill>
                <a:latin typeface="Tahoma"/>
              </a:rPr>
              <a:t>ismételhető szintű</a:t>
            </a:r>
            <a:r>
              <a:rPr b="0" lang="hu-HU" sz="1800" spc="-1" strike="noStrike">
                <a:solidFill>
                  <a:srgbClr val="ffffff"/>
                </a:solidFill>
                <a:latin typeface="Tahoma"/>
              </a:rPr>
              <a:t> cégnél vannak bevezetett irányelvek a szoftver-projektek menedzselésére, valamint eljárások ezen irányelvek betartására. Így lehetővé válik a korábbi projektekben kidolgozott sikeres megközelítések, tevékenységek megismétlése, akkor is, ha maguk a folyamatok eltérnek egymástól.</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4F2E425-B88B-42B4-9E61-AB444CB43ADD}"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is- és középvállalatok</a:t>
            </a:r>
            <a:r>
              <a:rPr b="0" lang="hu-HU" sz="2400" spc="-1" strike="noStrike">
                <a:solidFill>
                  <a:srgbClr val="ffffff"/>
                </a:solidFill>
                <a:latin typeface="Tahoma"/>
              </a:rPr>
              <a:t> is átálltak számítógépes ügyvitelre. A PC-kapacitások növekedésével, a hálózatok kiépítésével a külső piaci és a belső adminisztratív kapcsolatok is gépesíthetők lett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fejlesztés</a:t>
            </a:r>
            <a:r>
              <a:rPr b="0" lang="hu-HU" sz="2400" spc="-1" strike="noStrike">
                <a:solidFill>
                  <a:srgbClr val="ffffff"/>
                </a:solidFill>
                <a:latin typeface="Tahoma"/>
              </a:rPr>
              <a:t> és az </a:t>
            </a:r>
            <a:r>
              <a:rPr b="0" i="1" lang="hu-HU" sz="2400" spc="-1" strike="noStrike">
                <a:solidFill>
                  <a:srgbClr val="ffffff"/>
                </a:solidFill>
                <a:latin typeface="Tahoma"/>
              </a:rPr>
              <a:t>operatív irányítás</a:t>
            </a:r>
            <a:r>
              <a:rPr b="0" lang="hu-HU" sz="2400" spc="-1" strike="noStrike">
                <a:solidFill>
                  <a:srgbClr val="ffffff"/>
                </a:solidFill>
                <a:latin typeface="Tahoma"/>
              </a:rPr>
              <a:t> hatékonyságát a kereskedelemben nagy választékban kapható szoftver-rendszerek növelik (CAD, CAM, CAE, CAPP, CAQ).</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unkaerő-piacon</a:t>
            </a:r>
            <a:r>
              <a:rPr b="0" lang="hu-HU" sz="2400" spc="-1" strike="noStrike">
                <a:solidFill>
                  <a:srgbClr val="ffffff"/>
                </a:solidFill>
                <a:latin typeface="Tahoma"/>
              </a:rPr>
              <a:t> jelentős negatív szerkezetváltozás következett be. Nőtt az alacsony képzettségű tömegek munkanélkülisége és a közepes képesítésűek kényszerű szakterületi emigrációja a mezőgazdaságból és az iparból bizonyos szolgáltatások felé.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D6A8ED-177C-44C4-88B7-228CB746E627}"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határozot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ghatározott szinten</a:t>
            </a:r>
            <a:r>
              <a:rPr b="0" lang="hu-HU" sz="1800" spc="-1" strike="noStrike">
                <a:solidFill>
                  <a:srgbClr val="ffffff"/>
                </a:solidFill>
                <a:latin typeface="Tahoma"/>
              </a:rPr>
              <a:t> a szoftverfejlesztés és -karbantartás technológiai és menedzselési feladatainak végrehajtása dokumentált szabványos folyamatot követve megy végbe. Van egy olyan csoport, amelynek feladata a folyamatok követése és a szabványok szükség szerinti fejlesztése. Egy szervezeti képzési program biztosítja az alkalmazottak és a menedzserek tudásszintjének javítását.</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nedzsel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nedzselt szinten</a:t>
            </a:r>
            <a:r>
              <a:rPr b="0" lang="hu-HU" sz="1800" spc="-1" strike="noStrike">
                <a:solidFill>
                  <a:srgbClr val="ffffff"/>
                </a:solidFill>
                <a:latin typeface="Tahoma"/>
              </a:rPr>
              <a:t> a szervezet mind a termékekre, mind a folyamatokra mérhető minőségi célokat ír elő. A projektek úgy tartják kézben termékeiket és folyamataikat, hogy elfogadható mennyiségi korlátok közé szorítják azok szórásá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optimalizáló szint</a:t>
            </a:r>
            <a:br>
              <a:rPr sz="1800"/>
            </a:br>
            <a:r>
              <a:rPr b="0" lang="hu-HU" sz="1800" spc="-1" strike="noStrike">
                <a:solidFill>
                  <a:srgbClr val="ffffff"/>
                </a:solidFill>
                <a:latin typeface="Tahoma"/>
              </a:rPr>
              <a:t>Az</a:t>
            </a:r>
            <a:r>
              <a:rPr b="0" i="1" lang="hu-HU" sz="1800" spc="-1" strike="noStrike">
                <a:solidFill>
                  <a:srgbClr val="ffffff"/>
                </a:solidFill>
                <a:latin typeface="Tahoma"/>
              </a:rPr>
              <a:t> optimalizáló szintet</a:t>
            </a:r>
            <a:r>
              <a:rPr b="0" lang="hu-HU" sz="1800" spc="-1" strike="noStrike">
                <a:solidFill>
                  <a:srgbClr val="ffffff"/>
                </a:solidFill>
                <a:latin typeface="Tahoma"/>
              </a:rPr>
              <a:t> az állandó folyamatfejlesztés jellemzi. A projektek elemzik a hibákat, meghatározzák azok okait, és javítják a folyamatot annak érdekében, hogy a hibák ne ismétlődjenek meg. A tapasztalatokat más projekteknek is átadjá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D168E23-C68E-41EB-8298-65373CE73458}"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a) </a:t>
            </a:r>
            <a:r>
              <a:rPr b="1" i="1" lang="hu-HU" sz="2400" spc="-1" strike="noStrike">
                <a:solidFill>
                  <a:srgbClr val="ffffff"/>
                </a:solidFill>
                <a:latin typeface="Tahoma"/>
              </a:rPr>
              <a:t>Funkcionalitás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űködési funkciókkal és azok meghatározott tulajdonságaival összefüggő attribútumok halmaza. A működési funkciók megadott vagy értelemszerű igényeket elégítenek k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onalitás minőségjellemző a következő részjellemzőkre bontható. </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élnak való megfelel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 működés;</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rendszerekkel való együttműködési képes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szakterületi szabványokhoz, megállapodásokhoz;</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édelem a jogosulatlan (véletlen vagy szándékos) hozzáférések ell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7E95595-A949-4CFA-A232-9CA4B9601B8A}"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b) </a:t>
            </a:r>
            <a:r>
              <a:rPr b="1" i="1" lang="hu-HU" sz="2400" spc="-1" strike="noStrike">
                <a:solidFill>
                  <a:srgbClr val="ffffff"/>
                </a:solidFill>
                <a:latin typeface="Tahoma"/>
              </a:rPr>
              <a:t>Megbíz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azon attribútumainak halmaza, amelyek utalnak a szoftver adott feltételek mellett, adott időtartamon keresztül fenntartható, rendeltetésének megfelelő működési szintjér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ás termékekkel ellentétben nem kopik, nem öregszik. A megbízhatóság korlátait a mindenkori követelmények, a tervezés és az implementáció hiányosságai és nem az eltelt idő szabja me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egbí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ettség, azaz hiba-előfordulás gyakorisá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tűrő képessé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reállítható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4D91A4-A579-48D9-91C3-012DB3C66998}" type="slidenum">
              <a:t>272</a:t>
            </a:fld>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c)</a:t>
            </a:r>
            <a:r>
              <a:rPr b="0" lang="hu-HU" sz="2400" spc="-1" strike="noStrike">
                <a:solidFill>
                  <a:srgbClr val="ffffff"/>
                </a:solidFill>
                <a:latin typeface="Tahoma"/>
              </a:rPr>
              <a:t> </a:t>
            </a:r>
            <a:r>
              <a:rPr b="1" i="1" lang="hu-HU" sz="2400" spc="-1" strike="noStrike">
                <a:solidFill>
                  <a:srgbClr val="ffffff"/>
                </a:solidFill>
                <a:latin typeface="Tahoma"/>
              </a:rPr>
              <a:t>Használ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használatához szükséges erőfeszítésekkel, valamint a megadott vagy értelemszerűen számbavehető felhasználók egyéni megítélésével kapcsolatos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k lehetnek interaktív szoftverfelhasználók, de lehetnek operátorok, végfelhasználók és olyan közvetett felhasználók is, akikre a szoftver bármilyen hatással van, vagy függnek től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sznál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het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tanulhatósá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ködtet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EC8B801-823E-45C6-80DF-668933722F7F}" type="slidenum">
              <a:t>273</a:t>
            </a:fld>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d)</a:t>
            </a:r>
            <a:r>
              <a:rPr b="1" i="1" lang="hu-HU" sz="2400" spc="-1" strike="noStrike">
                <a:solidFill>
                  <a:srgbClr val="ffffff"/>
                </a:solidFill>
                <a:latin typeface="Tahoma"/>
              </a:rPr>
              <a:t> Hatékony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teljesítményszintje és a felhasznált erőforrások mennyisége közötti kapcsolatra vonatkozó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rőforrások közé tartozik minden más szoftvertermék, hardver, egyéb anyagok (papír, lemezek), és a működtető-karbantartó személyzet szolgáltatása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tékony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asz- és végrehajtási idők;</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őforrás-kihaszná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073FF6-02C9-4587-8676-5DB239A4D278}"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e)</a:t>
            </a:r>
            <a:r>
              <a:rPr b="1" i="1" lang="hu-HU" sz="2400" spc="-1" strike="noStrike">
                <a:solidFill>
                  <a:srgbClr val="ffffff"/>
                </a:solidFill>
                <a:latin typeface="Tahoma"/>
              </a:rPr>
              <a:t> Karbantart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hoz szükséges erőfeszítéseket jellemző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 közé tartozik a hiba-kijavítás, a továbbfejlesztés, a szoftver környezeti változásokhoz és változó követelményekhez történő igazítás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arbantart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feltár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ódosításhoz, hibajavít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bilitás, azaz a módosítások mellékhatásainak kockáza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sztel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810395-C9FD-43DF-8EB4-DA5AF7C8D2BA}"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f)</a:t>
            </a:r>
            <a:r>
              <a:rPr b="1" i="1" lang="hu-HU" sz="2400" spc="-1" strike="noStrike">
                <a:solidFill>
                  <a:srgbClr val="ffffff"/>
                </a:solidFill>
                <a:latin typeface="Tahoma"/>
              </a:rPr>
              <a:t> Hordoz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nek egyik környezetből a másikba történő átviteli lehetőségével kapcsolatos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rnyezet jelenthet szervezeti-, hardver- vagy szoftverkörnyezetet.</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hordo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ptálhatósá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epíthetősé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hordozhatósági szabványokhoz és megállapodásokhoz;</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szoftver helyettesítésének kép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3F5639-8BAB-470B-8B25-4239AFA7E9E2}"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jellemzők használata</a:t>
            </a:r>
            <a:endParaRPr b="0" lang="en-US" sz="4400" spc="-1" strike="noStrike">
              <a:solidFill>
                <a:srgbClr val="ffffcc"/>
              </a:solidFill>
              <a:latin typeface="Tahoma"/>
            </a:endParaRPr>
          </a:p>
        </p:txBody>
      </p:sp>
      <p:sp>
        <p:nvSpPr>
          <p:cNvPr id="11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t a karbantarthatóságon kívül minden más minőségjellemző közvetlenül érdekli.</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jlesztők és a felhasználók ugyanazokat a minőségjellemzőket kell, hogy használják, hiszen ezekre épül a követelmény-specifikáció és az elfogadás-tesztelés. A fejlesztőknek ezen felül célszerű figyelembe venni a majdani karbantartás szempontjait is.</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nedzser jobban érdekelt a minőség egészében, illetve az érzékelt minőségben, mint az egyes minőségi attribútumokban. A minőségjavítást egyensúlyban kell tartania az ütemezési és költség-szempontokka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8AD1EBF-9A93-4DDE-893E-CE9D3792FA02}"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Követelmény-specifikáció</a:t>
            </a:r>
            <a:endParaRPr b="0" lang="en-US" sz="4400" spc="-1" strike="noStrike">
              <a:solidFill>
                <a:srgbClr val="ffffcc"/>
              </a:solidFill>
              <a:latin typeface="Tahoma"/>
            </a:endParaRPr>
          </a:p>
        </p:txBody>
      </p:sp>
      <p:sp>
        <p:nvSpPr>
          <p:cNvPr id="11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vetelményspecifikációt célszerű két részre bontani.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felhasználói</a:t>
            </a:r>
            <a:r>
              <a:rPr b="0" lang="hu-HU" sz="2800" spc="-1" strike="noStrike">
                <a:solidFill>
                  <a:srgbClr val="ffffff"/>
                </a:solidFill>
                <a:latin typeface="Tahoma"/>
              </a:rPr>
              <a:t> követelmények specifikálása,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szoftver-</a:t>
            </a:r>
            <a:r>
              <a:rPr b="0" lang="hu-HU" sz="2800" spc="-1" strike="noStrike">
                <a:solidFill>
                  <a:srgbClr val="ffffff"/>
                </a:solidFill>
                <a:latin typeface="Tahoma"/>
              </a:rPr>
              <a:t>követelmények specifikálása</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09AC93-0EB3-4AB2-AFB7-02AB7E31BA9A}"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Felhasználói követelmények specifikálása</a:t>
            </a:r>
            <a:endParaRPr b="0" lang="en-US" sz="4000" spc="-1" strike="noStrike">
              <a:solidFill>
                <a:srgbClr val="ffffcc"/>
              </a:solidFill>
              <a:latin typeface="Tahoma"/>
            </a:endParaRPr>
          </a:p>
        </p:txBody>
      </p:sp>
      <p:sp>
        <p:nvSpPr>
          <p:cNvPr id="11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specifikálása a szoftver projekt által megoldandó probléma meghatározását jelenti. Meg kell határozni a szoftver hatókörét, valamint fel kell tárni a felhasználói követelményeket. A felhasználói követelmények feltárására alkalmazható módszerek közül az áttekintő tanulmányt, az interjút, valamint a prototípus készítést említjü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két csoportba sorolhatók:</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hoz vagy egy cél eléréséhez szükséges képességek: leírja a felhasználók által igényelt funkciókat és műveleteket. A képességek specifikációjához hozzátartozik a teljesítmény és pontosság attribútumok kvantitatív megadása.</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nak vagy egy cél elérésének módjára vonatkozó felhasználói korlátozó feltételek: a szoftver építésére és működtetésére vonatkozó megszorítás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D9297A-64AF-4842-8085-6BAFE9DBD74A}"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nemzetközi munkamegosztás</a:t>
            </a:r>
            <a:r>
              <a:rPr b="0" lang="hu-HU" sz="2400" spc="-1" strike="noStrike">
                <a:solidFill>
                  <a:srgbClr val="ffffff"/>
                </a:solidFill>
                <a:latin typeface="Tahoma"/>
              </a:rPr>
              <a:t> irányítása a legfejlettebb ipari országok kezébe került és növekedett a multinacionális vállalatok részesedése. Ezek az országok a munkaigényes termelést tőkekivitellel az alacsonyabb fejlettségi szinten álló, olcsó munkaerőt adó országokba helyezték át és maguknak tartják fenn a magas képzettséget igénylő, rugalmasan automatizált gyárakat, valamint a fejlesztő intézményeket; ez utóbbiakat jelentős állami támogatással. </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nemzeti gazdaságok</a:t>
            </a:r>
            <a:r>
              <a:rPr b="0" lang="hu-HU" sz="2400" spc="-1" strike="noStrike">
                <a:solidFill>
                  <a:srgbClr val="ffffff"/>
                </a:solidFill>
                <a:latin typeface="Tahoma"/>
              </a:rPr>
              <a:t> versenyében azok a fejlődő országok kerültek viszonylagos előnybe, amelyek legalább a második szinten licencvásárlásokkal képesek voltak követni az élenjárókat a beszállító ipari hierarchia kiépítésével, az összeszerelő-iparban, a perifériák gyártásában és az elsődleges anyagfeldolgozás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A2A23B-5209-4490-9A07-E8872E54D4F4}"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követelmények specifikálása a szoftver projekt elemzését jelenti. Ezen elemzés lényeges része egy olyan modell felépítése, amely a felhasználói követelményeket egy világos és konzisztens leírásban jeleníti meg, amely arra tér ki , hogy a szoftver mit csináljon és nem azzal foglalkozik, hogy azt milyen módon valósítsa meg.</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ontos szoftver-követelmények meghatározásához </a:t>
            </a:r>
            <a:r>
              <a:rPr b="0" i="1" lang="hu-HU" sz="2400" spc="-1" strike="noStrike">
                <a:solidFill>
                  <a:srgbClr val="ffffff"/>
                </a:solidFill>
                <a:latin typeface="Tahoma"/>
              </a:rPr>
              <a:t>prototípus</a:t>
            </a:r>
            <a:r>
              <a:rPr b="0" lang="hu-HU" sz="2400" spc="-1" strike="noStrike">
                <a:solidFill>
                  <a:srgbClr val="ffffff"/>
                </a:solidFill>
                <a:latin typeface="Tahoma"/>
              </a:rPr>
              <a:t> építésére is szükség lehet.</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elemzése során a fejlesztő felépít egy modellt, amely logikus, összeillő és következetes megfogalmazása a szükségleteknek. A logikai modell felépítéséhez CASE (Computer Aided Software Engineering) eszközök segítségét is igénybe lehet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244EEAD-48A6-4E52-8438-C5C3DEC94D42}"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ó logikai modell betartja a következő szabályok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ók elnevezései határozottan utalnak a céljukra. A hangsúly azon van, hogy </a:t>
            </a:r>
            <a:r>
              <a:rPr b="0" i="1" lang="hu-HU" sz="2400" spc="-1" strike="noStrike">
                <a:solidFill>
                  <a:srgbClr val="ffffff"/>
                </a:solidFill>
                <a:latin typeface="Tahoma"/>
              </a:rPr>
              <a:t>mi</a:t>
            </a:r>
            <a:r>
              <a:rPr b="0" lang="hu-HU" sz="2400" spc="-1" strike="noStrike">
                <a:solidFill>
                  <a:srgbClr val="ffffff"/>
                </a:solidFill>
                <a:latin typeface="Tahoma"/>
              </a:rPr>
              <a:t> történik, és nem azon, hogy </a:t>
            </a:r>
            <a:r>
              <a:rPr b="0" i="1" lang="hu-HU" sz="2400" spc="-1" strike="noStrike">
                <a:solidFill>
                  <a:srgbClr val="ffffff"/>
                </a:solidFill>
                <a:latin typeface="Tahoma"/>
              </a:rPr>
              <a:t>hogyan</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ritikus interfészek száma alacsony legyen, lehetőleg </a:t>
            </a:r>
            <a:r>
              <a:rPr b="0" i="1" lang="hu-HU" sz="2400" spc="-1" strike="noStrike">
                <a:solidFill>
                  <a:srgbClr val="ffffff"/>
                </a:solidFill>
                <a:latin typeface="Tahoma"/>
              </a:rPr>
              <a:t>hétnél</a:t>
            </a:r>
            <a:r>
              <a:rPr b="0" lang="hu-HU" sz="2400" spc="-1" strike="noStrike">
                <a:solidFill>
                  <a:srgbClr val="ffffff"/>
                </a:solidFill>
                <a:latin typeface="Tahoma"/>
              </a:rPr>
              <a:t> kevesebb. Így áttekinthetőek lesznek a gyenge kapcsolattal rendelkező komponensek i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funkciót ne bontsunk </a:t>
            </a:r>
            <a:r>
              <a:rPr b="0" i="1" lang="hu-HU" sz="2400" spc="-1" strike="noStrike">
                <a:solidFill>
                  <a:srgbClr val="ffffff"/>
                </a:solidFill>
                <a:latin typeface="Tahoma"/>
              </a:rPr>
              <a:t>hét </a:t>
            </a:r>
            <a:r>
              <a:rPr b="0" i="1" lang="en-US" sz="2400" spc="-1" strike="noStrike">
                <a:solidFill>
                  <a:srgbClr val="ffffff"/>
                </a:solidFill>
                <a:latin typeface="Tahoma"/>
              </a:rPr>
              <a:t>±</a:t>
            </a:r>
            <a:r>
              <a:rPr b="0" i="1" lang="hu-HU" sz="2400" spc="-1" strike="noStrike">
                <a:solidFill>
                  <a:srgbClr val="ffffff"/>
                </a:solidFill>
                <a:latin typeface="Tahoma"/>
              </a:rPr>
              <a:t> kettő</a:t>
            </a:r>
            <a:r>
              <a:rPr b="0" lang="hu-HU" sz="2400" spc="-1" strike="noStrike">
                <a:solidFill>
                  <a:srgbClr val="ffffff"/>
                </a:solidFill>
                <a:latin typeface="Tahoma"/>
              </a:rPr>
              <a:t>nél több funkciór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ne tartalmazzon </a:t>
            </a:r>
            <a:r>
              <a:rPr b="0" i="1" lang="hu-HU" sz="2400" spc="-1" strike="noStrike">
                <a:solidFill>
                  <a:srgbClr val="ffffff"/>
                </a:solidFill>
                <a:latin typeface="Tahoma"/>
              </a:rPr>
              <a:t>implementációs</a:t>
            </a:r>
            <a:r>
              <a:rPr b="0" lang="hu-HU" sz="2400" spc="-1" strike="noStrike">
                <a:solidFill>
                  <a:srgbClr val="ffffff"/>
                </a:solidFill>
                <a:latin typeface="Tahoma"/>
              </a:rPr>
              <a:t> információt. (fájl, rekord, modul, stb...).</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 kell adni minden funkció </a:t>
            </a:r>
            <a:r>
              <a:rPr b="0" i="1" lang="hu-HU" sz="2400" spc="-1" strike="noStrike">
                <a:solidFill>
                  <a:srgbClr val="ffffff"/>
                </a:solidFill>
                <a:latin typeface="Tahoma"/>
              </a:rPr>
              <a:t>teljesítmény</a:t>
            </a:r>
            <a:r>
              <a:rPr b="0" lang="hu-HU" sz="2400" spc="-1" strike="noStrike">
                <a:solidFill>
                  <a:srgbClr val="ffffff"/>
                </a:solidFill>
                <a:latin typeface="Tahoma"/>
              </a:rPr>
              <a:t> attribútumait (kapacitás, sebesség, stb...).</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7089A42-49ED-4710-B6E6-79960FFB4C03}"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5" name="PlaceHolder 2"/>
          <p:cNvSpPr>
            <a:spLocks noGrp="1"/>
          </p:cNvSpPr>
          <p:nvPr>
            <p:ph/>
          </p:nvPr>
        </p:nvSpPr>
        <p:spPr>
          <a:xfrm>
            <a:off x="323640" y="1413000"/>
            <a:ext cx="8569080" cy="475272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Funkcionális követelmények</a:t>
            </a:r>
            <a:br>
              <a:rPr sz="1600"/>
            </a:br>
            <a:r>
              <a:rPr b="0" lang="hu-HU" sz="1600" spc="-1" strike="noStrike">
                <a:solidFill>
                  <a:srgbClr val="ffffff"/>
                </a:solidFill>
                <a:latin typeface="Tahoma"/>
              </a:rPr>
              <a:t>Ezek határozzák meg, hogy mi a szoftver célja. A funkcionális követelmények a logikai modellből vezethetők le, ez utóbbi pedig a felhasználó követelményeiből származik. A kvantitatív megfogalmazhatóság érdekében a funkcionális követelmények teljesítmény-specifikációkat is tartalmazhatnak.</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Teljesítmény követelmények</a:t>
            </a:r>
            <a:br>
              <a:rPr sz="1600"/>
            </a:br>
            <a:r>
              <a:rPr b="0" lang="hu-HU" sz="1600" spc="-1" strike="noStrike">
                <a:solidFill>
                  <a:srgbClr val="ffffff"/>
                </a:solidFill>
                <a:latin typeface="Tahoma"/>
              </a:rPr>
              <a:t>Ahol csak lehetséges, a kvalitatív követelmények helyett kvantitatív megállapításokat kell használni. “Gyors válaszidő” helyett például használjunk olyan követelményeket, hogy “a válaszidő az esetek </a:t>
            </a:r>
            <a:r>
              <a:rPr b="0" i="1" lang="hu-HU" sz="1600" spc="-1" strike="noStrike">
                <a:solidFill>
                  <a:srgbClr val="ffffff"/>
                </a:solidFill>
                <a:latin typeface="Tahoma"/>
              </a:rPr>
              <a:t>y </a:t>
            </a:r>
            <a:r>
              <a:rPr b="0" lang="hu-HU" sz="1600" spc="-1" strike="noStrike">
                <a:solidFill>
                  <a:srgbClr val="ffffff"/>
                </a:solidFill>
                <a:latin typeface="Tahoma"/>
              </a:rPr>
              <a:t>%-ában legyen </a:t>
            </a:r>
            <a:r>
              <a:rPr b="0" i="1" lang="hu-HU" sz="1600" spc="-1" strike="noStrike">
                <a:solidFill>
                  <a:srgbClr val="ffffff"/>
                </a:solidFill>
                <a:latin typeface="Tahoma"/>
              </a:rPr>
              <a:t>x</a:t>
            </a:r>
            <a:r>
              <a:rPr b="0" lang="hu-HU" sz="1600" spc="-1" strike="noStrike">
                <a:solidFill>
                  <a:srgbClr val="ffffff"/>
                </a:solidFill>
                <a:latin typeface="Tahoma"/>
              </a:rPr>
              <a:t> másodperc alatt úgy, hogy az átlagos válaszidő ne haladja meg a </a:t>
            </a:r>
            <a:r>
              <a:rPr b="0" i="1" lang="hu-HU" sz="1600" spc="-1" strike="noStrike">
                <a:solidFill>
                  <a:srgbClr val="ffffff"/>
                </a:solidFill>
                <a:latin typeface="Tahoma"/>
              </a:rPr>
              <a:t>z</a:t>
            </a:r>
            <a:r>
              <a:rPr b="0" lang="hu-HU" sz="1600" spc="-1" strike="noStrike">
                <a:solidFill>
                  <a:srgbClr val="ffffff"/>
                </a:solidFill>
                <a:latin typeface="Tahoma"/>
              </a:rPr>
              <a:t> másodpercet”. A teljesítmény-követelményeket leírhatjuk akár az egyes funkciók specifikációjának részeiként, akár külön követelményekként.</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ülső interfész követelmények</a:t>
            </a:r>
            <a:br>
              <a:rPr sz="1600"/>
            </a:br>
            <a:r>
              <a:rPr b="0" lang="hu-HU" sz="1600" spc="-1" strike="noStrike">
                <a:solidFill>
                  <a:srgbClr val="ffffff"/>
                </a:solidFill>
                <a:latin typeface="Tahoma"/>
              </a:rPr>
              <a:t>Azonosítsuk a következő osztályokat: szoftver-, hardver-, és kommunikációs interfész követelmények. </a:t>
            </a:r>
            <a:br>
              <a:rPr sz="1600"/>
            </a:br>
            <a:r>
              <a:rPr b="0" lang="hu-HU" sz="1600" spc="-1" strike="noStrike">
                <a:solidFill>
                  <a:srgbClr val="ffffff"/>
                </a:solidFill>
                <a:latin typeface="Tahoma"/>
              </a:rPr>
              <a:t>A </a:t>
            </a:r>
            <a:r>
              <a:rPr b="0" i="1" lang="hu-HU" sz="1600" spc="-1" strike="noStrike">
                <a:solidFill>
                  <a:srgbClr val="ffffff"/>
                </a:solidFill>
                <a:latin typeface="Tahoma"/>
              </a:rPr>
              <a:t>szoftver-interfész</a:t>
            </a:r>
            <a:r>
              <a:rPr b="0" lang="hu-HU" sz="1600" spc="-1" strike="noStrike">
                <a:solidFill>
                  <a:srgbClr val="ffffff"/>
                </a:solidFill>
                <a:latin typeface="Tahoma"/>
              </a:rPr>
              <a:t> magába foglalja az operációs rendszert, a szoftver környezetet, fájlformátumokat, adatbázis kezelő rendszereket, és más szoftver alkalmazásokat.</a:t>
            </a:r>
            <a:br>
              <a:rPr sz="1600"/>
            </a:br>
            <a:r>
              <a:rPr b="0" lang="hu-HU" sz="1600" spc="-1" strike="noStrike">
                <a:solidFill>
                  <a:srgbClr val="ffffff"/>
                </a:solidFill>
                <a:latin typeface="Tahoma"/>
              </a:rPr>
              <a:t>A </a:t>
            </a:r>
            <a:r>
              <a:rPr b="0" i="1" lang="hu-HU" sz="1600" spc="-1" strike="noStrike">
                <a:solidFill>
                  <a:srgbClr val="ffffff"/>
                </a:solidFill>
                <a:latin typeface="Tahoma"/>
              </a:rPr>
              <a:t>hardver-interfész</a:t>
            </a:r>
            <a:r>
              <a:rPr b="0" lang="hu-HU" sz="1600" spc="-1" strike="noStrike">
                <a:solidFill>
                  <a:srgbClr val="ffffff"/>
                </a:solidFill>
                <a:latin typeface="Tahoma"/>
              </a:rPr>
              <a:t> követelmények között kerülnek specifikálásra a hardver-konfigurációk és a szoftver részére rendelkezésre álló hardver-erőforrások (központi memória, lemezterület).</a:t>
            </a:r>
            <a:br>
              <a:rPr sz="1600"/>
            </a:br>
            <a:r>
              <a:rPr b="0" lang="hu-HU" sz="1600" spc="-1" strike="noStrike">
                <a:solidFill>
                  <a:srgbClr val="ffffff"/>
                </a:solidFill>
                <a:latin typeface="Tahoma"/>
              </a:rPr>
              <a:t>A </a:t>
            </a:r>
            <a:r>
              <a:rPr b="0" i="1" lang="hu-HU" sz="1600" spc="-1" strike="noStrike">
                <a:solidFill>
                  <a:srgbClr val="ffffff"/>
                </a:solidFill>
                <a:latin typeface="Tahoma"/>
              </a:rPr>
              <a:t>kommunikációs interfész</a:t>
            </a:r>
            <a:r>
              <a:rPr b="0" lang="hu-HU" sz="1600" spc="-1" strike="noStrike">
                <a:solidFill>
                  <a:srgbClr val="ffffff"/>
                </a:solidFill>
                <a:latin typeface="Tahoma"/>
              </a:rPr>
              <a:t> követelmények korlátozzák a hardvert és a szoftvert. Szükségessé tehetik például adott hálózati protokollok használatát. A felhasználói interfész követelményeket a működési követelmények között kell felsorol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FAFEB0-F1F3-48A7-938E-8128CB247D62}"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7" name="PlaceHolder 2"/>
          <p:cNvSpPr>
            <a:spLocks noGrp="1"/>
          </p:cNvSpPr>
          <p:nvPr>
            <p:ph/>
          </p:nvPr>
        </p:nvSpPr>
        <p:spPr>
          <a:xfrm>
            <a:off x="301680" y="1267920"/>
            <a:ext cx="8540640" cy="496908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űködési követelmények</a:t>
            </a:r>
            <a:br>
              <a:rPr sz="1600"/>
            </a:br>
            <a:r>
              <a:rPr b="0" lang="hu-HU" sz="1600" spc="-1" strike="noStrike">
                <a:solidFill>
                  <a:srgbClr val="ffffff"/>
                </a:solidFill>
                <a:latin typeface="Tahoma"/>
              </a:rPr>
              <a:t>Azt specifikálják, hogy a rendszer miképpen fog futni, hogyan fog kommunikálni az operátorral. Ide tartoznak a teljes felhasználói interfész, az ember-gép kapcsolati követelmények, valamint a szervezeti követelmények. Néhány példa: az operátorok száma és kvalifikációja, valamint feladataik, a képernyő-terv, a hibaüzenetek tartalma, help rendszere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rőforrás követelmények</a:t>
            </a:r>
            <a:br>
              <a:rPr sz="1600"/>
            </a:br>
            <a:r>
              <a:rPr b="0" lang="hu-HU" sz="1600" spc="-1" strike="noStrike">
                <a:solidFill>
                  <a:srgbClr val="ffffff"/>
                </a:solidFill>
                <a:latin typeface="Tahoma"/>
              </a:rPr>
              <a:t>A szoftver fejlesztésével, vagy működtetésével kapcsolatos korlátokat írják le. Ilyen lehet például egy létező rendszer használata, egy adott programozási nyelv használata, egy adott adatbázis kezelő rendszer használata.</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lenőrzési követelmények</a:t>
            </a:r>
            <a:br>
              <a:rPr sz="1600"/>
            </a:br>
            <a:r>
              <a:rPr b="0" lang="hu-HU" sz="1600" spc="-1" strike="noStrike">
                <a:solidFill>
                  <a:srgbClr val="ffffff"/>
                </a:solidFill>
                <a:latin typeface="Tahoma"/>
              </a:rPr>
              <a:t>Ezek a követelmények írják le, hogy a felhasználók, a rendszertervezők, és a programozók hogyan tudják ellenőrizni a többi követelmény betartását. A teljes ellenőrzési és érvényesítési tevékenységet egy külön dokumentumban kell leírni. Az ellenőrzési követelmények közé tartozhat szimuláció, emuláció, élő teszt szimulált adatokkal és élő teszt valódi adatokka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fogadás-tesztelési követelmények</a:t>
            </a:r>
            <a:br>
              <a:rPr sz="1600"/>
            </a:br>
            <a:r>
              <a:rPr b="0" lang="hu-HU" sz="1600" spc="-1" strike="noStrike">
                <a:solidFill>
                  <a:srgbClr val="ffffff"/>
                </a:solidFill>
                <a:latin typeface="Tahoma"/>
              </a:rPr>
              <a:t>Itt kerülnek leírásra a felhasználók, rendszertervezők és programozók által támasztott azon feltételek, amelyek a szoftver-követelmények érvényességének ellenőrzésére vonatkozna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Dokumentációs követelmények</a:t>
            </a:r>
            <a:br>
              <a:rPr sz="1600"/>
            </a:br>
            <a:r>
              <a:rPr b="0" lang="hu-HU" sz="1600" spc="-1" strike="noStrike">
                <a:solidFill>
                  <a:srgbClr val="ffffff"/>
                </a:solidFill>
                <a:latin typeface="Tahoma"/>
              </a:rPr>
              <a:t>Az általános dokumentációs követelményeket ki kell egészíteni projekt-specifikus dokumentációs követelményekkel, például a szoftver felhasználói kézikönyv részletes formátum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7B931E-63F0-4234-A44C-E9F9248DA07A}"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Biztonsági követelmények</a:t>
            </a:r>
            <a:br>
              <a:rPr sz="1600"/>
            </a:br>
            <a:r>
              <a:rPr b="0" lang="hu-HU" sz="1600" spc="-1" strike="noStrike">
                <a:solidFill>
                  <a:srgbClr val="ffffff"/>
                </a:solidFill>
                <a:latin typeface="Tahoma"/>
              </a:rPr>
              <a:t>A védelmi megfontolásoknak ki kell terjedniük mind a véletlen, mind a szándékos hibás használatra. A lehetséges biztonsági követelmények között megemlítjük bizonyos utasítások letiltását, a read-only elérést, jelszó-rendszert, és vírus-védelmet. A szükséges fizikai védelem mértékét is meg kell határozni. (Például: a mentéseket egy tűzálló dobozban kell őrizni, távol az eredeti helyszíntő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Hordozhatósági követelmények</a:t>
            </a:r>
            <a:br>
              <a:rPr sz="1600"/>
            </a:br>
            <a:r>
              <a:rPr b="0" lang="hu-HU" sz="1600" spc="-1" strike="noStrike">
                <a:solidFill>
                  <a:srgbClr val="ffffff"/>
                </a:solidFill>
                <a:latin typeface="Tahoma"/>
              </a:rPr>
              <a:t>Meg kell adni a megcélzott számítógépeket és operációs rendszereke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egbízhatósági követelmények</a:t>
            </a:r>
            <a:br>
              <a:rPr sz="1600"/>
            </a:br>
            <a:r>
              <a:rPr b="0" lang="hu-HU" sz="1600" spc="-1" strike="noStrike">
                <a:solidFill>
                  <a:srgbClr val="ffffff"/>
                </a:solidFill>
                <a:latin typeface="Tahoma"/>
              </a:rPr>
              <a:t>Itt lehet megadni a felhasználói igényekből kiindulva a két hiba közötti még elfogadható átlagos időintervallum hosszát vagy a hibák közötti legrövidebb elfogadható idő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arbantarthatósági követelmények</a:t>
            </a:r>
            <a:br>
              <a:rPr sz="1600"/>
            </a:br>
            <a:r>
              <a:rPr b="0" lang="hu-HU" sz="1600" spc="-1" strike="noStrike">
                <a:solidFill>
                  <a:srgbClr val="ffffff"/>
                </a:solidFill>
                <a:latin typeface="Tahoma"/>
              </a:rPr>
              <a:t>Itt lehet megadni, hogy milyen könnyű legyen a szoftver hibák-kijavítása, illetve a szoftver adaptálása új követelményekhez. Ezeket a követelményeket szintén kvantitatív eszközökkel kell megadni. Ilyenek a hiba kijavításához szükséges átlagos idő vagy egy új utasítással történő bővítéshez szükséges kód-módosítás mérték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3D4D7D1-E03B-466B-AE06-FAF8399B0061}"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0 szabványcsoport</a:t>
            </a:r>
            <a:endParaRPr b="0" lang="en-US" sz="4400" spc="-1" strike="noStrike">
              <a:solidFill>
                <a:srgbClr val="ffffcc"/>
              </a:solidFill>
              <a:latin typeface="Tahoma"/>
            </a:endParaRPr>
          </a:p>
        </p:txBody>
      </p:sp>
      <p:sp>
        <p:nvSpPr>
          <p:cNvPr id="11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nem közvetlenül az átadott termékek és a partnereknek nyújtott szolgáltatások minőségének szabványa.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egy menedzselési rendszer szabvány, amelynek megfelelő minőségbiztosítási folyamat bevezetése megteremti a megbízható minőséget eredményező termelés vagy szolgáltatás alapjai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tanúsítás néhány előnye:</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vel az ISO 9000 tanúsítást egy független, akkreditált cég végzi, a tanúsított cég azonnal elfogadott partnerévé válhat számos más cégnek és szervezetnek világszerte. Ez az egyik lényeges előnye az ISO 9000-nek egy közvetlen megbízói minősítéssel szemben, amely csak az adott megbízó felé jelent biztosítéko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kezdeti nehézségek után a minőségi rendszer valóban megkönnyíti a mindennapi munká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regisztrációs pecsét felhasználható a cég image-ének alakításakor (kompetitív előny) például akár a céges levélpapírokon.</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U országaiban a termékfelelősség kritikus kérdéssé válik. Az ISO 9000-es minősítést jó eséllyel fogadják el “megfelelő gyakorlat” alkalmazásának bizonyítékaként a szoftver-fejlesztési folyamat sorá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E68212-7760-4388-9DDB-CEE85A47AF1F}"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felelő szabvány kiválasztása</a:t>
            </a:r>
            <a:endParaRPr b="0" lang="en-US" sz="4000" spc="-1" strike="noStrike">
              <a:solidFill>
                <a:srgbClr val="ffffcc"/>
              </a:solidFill>
              <a:latin typeface="Tahoma"/>
            </a:endParaRPr>
          </a:p>
        </p:txBody>
      </p:sp>
      <p:sp>
        <p:nvSpPr>
          <p:cNvPr id="11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sorozat az ISO 9000, ISO 9001, ISO 9002, ISO 9003, ISO 9004 szabványokat tartalmazta. Utóbb kibővítették az ISO 9000-3, illetve az ISO 9004-2 szabványokkal i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 általános irányelveket tartalmaz az egyes szabványok alkalmazhatóságára vonatkozóla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1</a:t>
            </a:r>
            <a:r>
              <a:rPr b="0" lang="hu-HU" sz="1600" spc="-1" strike="noStrike">
                <a:solidFill>
                  <a:srgbClr val="ffffff"/>
                </a:solidFill>
                <a:latin typeface="Tahoma"/>
              </a:rPr>
              <a:t> szabvány a minőségügyi rendszerek minőségbiztosítási modellje a tervezés, a fejlesztés, a termelés, a felszerelés és a vevőszol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2</a:t>
            </a:r>
            <a:r>
              <a:rPr b="0" lang="hu-HU" sz="1600" spc="-1" strike="noStrike">
                <a:solidFill>
                  <a:srgbClr val="ffffff"/>
                </a:solidFill>
                <a:latin typeface="Tahoma"/>
              </a:rPr>
              <a:t> szabvány minőségügyi rendszerek minőségbiztosítási modellje a  termelés és a felszerelés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3</a:t>
            </a:r>
            <a:r>
              <a:rPr b="0" lang="hu-HU" sz="1600" spc="-1" strike="noStrike">
                <a:solidFill>
                  <a:srgbClr val="ffffff"/>
                </a:solidFill>
                <a:latin typeface="Tahoma"/>
              </a:rPr>
              <a:t> szabvány minőségügyi rendszerek minőségbiztosítási modellje a  végellenőrzés és a vizs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4</a:t>
            </a:r>
            <a:r>
              <a:rPr b="0" lang="hu-HU" sz="1600" spc="-1" strike="noStrike">
                <a:solidFill>
                  <a:srgbClr val="ffffff"/>
                </a:solidFill>
                <a:latin typeface="Tahoma"/>
              </a:rPr>
              <a:t> szabvány a minőségirányításra és a minőségügyi rendszer elemeire vonatkozó irányelveket adja me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szoftverfejlesztési folyamatot a tervezéstől a karbantartásig az </a:t>
            </a:r>
            <a:r>
              <a:rPr b="1" lang="hu-HU" sz="1600" spc="-1" strike="noStrike">
                <a:solidFill>
                  <a:srgbClr val="ffffff"/>
                </a:solidFill>
                <a:latin typeface="Tahoma"/>
              </a:rPr>
              <a:t>ISO 9001</a:t>
            </a:r>
            <a:r>
              <a:rPr b="0" lang="hu-HU" sz="1600" spc="-1" strike="noStrike">
                <a:solidFill>
                  <a:srgbClr val="ffffff"/>
                </a:solidFill>
                <a:latin typeface="Tahoma"/>
              </a:rPr>
              <a:t> fedi le, tehát szoftverfejlesztéssel foglalkozó cég számára ez a megfelelő.</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3 szabvány az ISO 9001 szabvány alkalmazásának irányvonalait tartalmazza a szoftver-fejlesztés, -ellátás és -karbantartás területén.</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okat rendszeresen továbbfejlesztik. Magyarországon az ISO szabványok megfelelője az MSZ EN 29000 szabványsoroza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B17E41-865E-438E-AFEA-AF86A134B607}"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1 szabvány elemei</a:t>
            </a:r>
            <a:endParaRPr b="0" lang="en-US" sz="4400" spc="-1" strike="noStrike">
              <a:solidFill>
                <a:srgbClr val="ffffcc"/>
              </a:solidFill>
              <a:latin typeface="Tahoma"/>
            </a:endParaRPr>
          </a:p>
        </p:txBody>
      </p:sp>
      <p:sp>
        <p:nvSpPr>
          <p:cNvPr id="11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6000"/>
          </a:bodyPr>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zetőség felelős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ügyi rendszer</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ződések átvizsgál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okumentumok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szerzé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vő által beszállított termék</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azonosítása és  nyomonkövethető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lyamatszabályozá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és és vizsgálat</a:t>
            </a:r>
            <a:r>
              <a:rPr b="0" lang="en-US" sz="2000" spc="-1" strike="noStrike">
                <a:solidFill>
                  <a:srgbClr val="ffffff"/>
                </a:solidFill>
                <a:latin typeface="Tahoma"/>
              </a:rPr>
              <a:t> </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ő és vizsgáló berendezések, eszközök</a:t>
            </a:r>
            <a:endParaRPr b="0" lang="en-US" sz="2000" spc="-1" strike="noStrike">
              <a:solidFill>
                <a:srgbClr val="ffffff"/>
              </a:solidFill>
              <a:latin typeface="Tahoma"/>
            </a:endParaRPr>
          </a:p>
          <a:p>
            <a:pPr marL="36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56"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ött illetve vizsgálat állapo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megfelelő termékek kezelése</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bítő és megelőző intézkedése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rolás, kezelés, szállítá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gel kapcsolatos feljegyzések, dokumentum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lső minőségi auditálás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ktatás, képzé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vőszolgála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módszerek</a:t>
            </a:r>
            <a:endParaRPr b="0" lang="en-US" sz="2000" spc="-1" strike="noStrike">
              <a:solidFill>
                <a:srgbClr val="ffffff"/>
              </a:solidFill>
              <a:latin typeface="Tahoma"/>
            </a:endParaRPr>
          </a:p>
        </p:txBody>
      </p:sp>
      <p:sp>
        <p:nvSpPr>
          <p:cNvPr id="5" name="PlaceHolder 4"/>
          <p:cNvSpPr>
            <a:spLocks noGrp="1"/>
          </p:cNvSpPr>
          <p:nvPr>
            <p:ph type="ftr" idx="2"/>
          </p:nvPr>
        </p:nvSpPr>
        <p:spPr/>
        <p:txBody>
          <a:bodyPr/>
          <a:p>
            <a:r>
              <a:t>Dr. Hornyák Olivér - Minőségmenedzsment és Informatika -  Miskolc 2003</a:t>
            </a:r>
          </a:p>
        </p:txBody>
      </p:sp>
      <p:sp>
        <p:nvSpPr>
          <p:cNvPr id="6" name="PlaceHolder 5"/>
          <p:cNvSpPr>
            <a:spLocks noGrp="1"/>
          </p:cNvSpPr>
          <p:nvPr>
            <p:ph type="sldNum" idx="3"/>
          </p:nvPr>
        </p:nvSpPr>
        <p:spPr/>
        <p:txBody>
          <a:bodyPr/>
          <a:p>
            <a:fld id="{CE7766D9-B8A8-4264-956B-83A0A96497D6}"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OOTSTRAP módszertan a szoftverfejlesztési folyamat minőségének felmérésére és javítására szolgál.</a:t>
            </a:r>
            <a:endParaRPr b="0" lang="en-US" sz="28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rnegie Mellon Egyetem Software Engineering Intézetében (Software Engineering Institute, SEI) kidolgozott ötfokozatú CMM érettségi modellre, valamint az ISO (International Standards Organization), ESA (European Space Agency), DoD (USA Department of Defense), IEEE (Institute of Electrical and Electronics Engineers), NATO szoftverminőség-szabványokra épü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CB4357-067F-482A-A4BF-04BC1F438207}"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graphicFrame>
        <p:nvGraphicFramePr>
          <p:cNvPr id="1160" name=""/>
          <p:cNvGraphicFramePr/>
          <p:nvPr/>
        </p:nvGraphicFramePr>
        <p:xfrm>
          <a:off x="826920" y="1700280"/>
          <a:ext cx="7399440" cy="4048200"/>
        </p:xfrm>
        <a:graphic>
          <a:graphicData uri="http://schemas.openxmlformats.org/presentationml/2006/ole">
            <p:oleObj r:id="rId1" spid="">
              <p:embed/>
              <p:pic>
                <p:nvPicPr>
                  <p:cNvPr id="1161" name="" descr=""/>
                  <p:cNvPicPr/>
                  <p:nvPr/>
                </p:nvPicPr>
                <p:blipFill>
                  <a:blip r:embed="rId2"/>
                  <a:stretch/>
                </p:blipFill>
                <p:spPr>
                  <a:xfrm>
                    <a:off x="826920" y="1700280"/>
                    <a:ext cx="7399440" cy="4048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18197DB-6824-45F1-BAE0-B030D29D2F43}"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piac fogyasztási szerkezete</a:t>
            </a:r>
            <a:r>
              <a:rPr b="0" lang="hu-HU" sz="2400" spc="-1" strike="noStrike">
                <a:solidFill>
                  <a:srgbClr val="ffffff"/>
                </a:solidFill>
                <a:latin typeface="Tahoma"/>
              </a:rPr>
              <a:t> a jövedelmi viszonyok miatt erősen differenciálódott, és átlagos mutatói már nem a növekedést jelzik. A stagnáló piacon a nagy értékű termékek esetében a minőségi igények fokozódtak és az igénytelenebb termékek esetében csak az alacsony árak érvényesüln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társadalmi méretű hatások</a:t>
            </a:r>
            <a:r>
              <a:rPr b="0" lang="hu-HU" sz="2400" spc="-1" strike="noStrike">
                <a:solidFill>
                  <a:srgbClr val="ffffff"/>
                </a:solidFill>
                <a:latin typeface="Tahoma"/>
              </a:rPr>
              <a:t> részben demográfiai, részben politikai feszültségeket eredményeztek. Növekedett az átlagéletkor, valamint a népesség és azon belül az eltartottak aránya. Növekedtek a feszültségek a társadalmi differenciálódásról szerzett média-élmények következtében i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235F49-9F08-4A4D-ABA2-CAD8BFD838C7}"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63" name=""/>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4" name=""/>
          <p:cNvSpPr/>
          <p:nvPr/>
        </p:nvSpPr>
        <p:spPr>
          <a:xfrm>
            <a:off x="0" y="47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5" name=""/>
          <p:cNvGraphicFramePr/>
          <p:nvPr/>
        </p:nvGraphicFramePr>
        <p:xfrm>
          <a:off x="684360" y="1268280"/>
          <a:ext cx="7848360" cy="4996080"/>
        </p:xfrm>
        <a:graphic>
          <a:graphicData uri="http://schemas.openxmlformats.org/presentationml/2006/ole">
            <p:oleObj r:id="rId1" spid="">
              <p:embed/>
              <p:pic>
                <p:nvPicPr>
                  <p:cNvPr id="1166" name="" descr=""/>
                  <p:cNvPicPr/>
                  <p:nvPr/>
                </p:nvPicPr>
                <p:blipFill>
                  <a:blip r:embed="rId2"/>
                  <a:stretch/>
                </p:blipFill>
                <p:spPr>
                  <a:xfrm>
                    <a:off x="684360" y="1268280"/>
                    <a:ext cx="7848360" cy="4996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333CE3B-754D-4CA5-B8EA-DBA97566028F}"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 </a:t>
            </a:r>
            <a:r>
              <a:rPr b="0" lang="hu-HU" sz="4400" spc="-1" strike="noStrike">
                <a:solidFill>
                  <a:srgbClr val="ffffcc"/>
                </a:solidFill>
                <a:latin typeface="Tahoma"/>
              </a:rPr>
              <a:t>szabvány 7 ciklusa</a:t>
            </a:r>
            <a:endParaRPr b="0" lang="en-US" sz="4400" spc="-1" strike="noStrike">
              <a:solidFill>
                <a:srgbClr val="ffffcc"/>
              </a:solidFill>
              <a:latin typeface="Tahoma"/>
            </a:endParaRPr>
          </a:p>
        </p:txBody>
      </p:sp>
      <p:graphicFrame>
        <p:nvGraphicFramePr>
          <p:cNvPr id="1168" name=""/>
          <p:cNvGraphicFramePr/>
          <p:nvPr/>
        </p:nvGraphicFramePr>
        <p:xfrm>
          <a:off x="684360" y="1413000"/>
          <a:ext cx="7848360" cy="4680000"/>
        </p:xfrm>
        <a:graphic>
          <a:graphicData uri="http://schemas.openxmlformats.org/presentationml/2006/ole">
            <p:oleObj r:id="rId1" spid="">
              <p:embed/>
              <p:pic>
                <p:nvPicPr>
                  <p:cNvPr id="1169" name="" descr=""/>
                  <p:cNvPicPr/>
                  <p:nvPr/>
                </p:nvPicPr>
                <p:blipFill>
                  <a:blip r:embed="rId2"/>
                  <a:stretch/>
                </p:blipFill>
                <p:spPr>
                  <a:xfrm>
                    <a:off x="684360" y="1413000"/>
                    <a:ext cx="7848360" cy="4680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D17251B-B690-4472-9988-F76D9038E0A2}"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a:t>
            </a:r>
            <a:r>
              <a:rPr b="0" lang="hu-HU" sz="4400" spc="-1" strike="noStrike">
                <a:solidFill>
                  <a:srgbClr val="ffffcc"/>
                </a:solidFill>
                <a:latin typeface="Tahoma"/>
              </a:rPr>
              <a:t>-7</a:t>
            </a:r>
            <a:r>
              <a:rPr b="0" lang="en-US" sz="4400" spc="-1" strike="noStrike">
                <a:solidFill>
                  <a:srgbClr val="ffffcc"/>
                </a:solidFill>
                <a:latin typeface="Tahoma"/>
              </a:rPr>
              <a:t> </a:t>
            </a:r>
            <a:r>
              <a:rPr b="0" lang="hu-HU" sz="4400" spc="-1" strike="noStrike">
                <a:solidFill>
                  <a:srgbClr val="ffffcc"/>
                </a:solidFill>
                <a:latin typeface="Tahoma"/>
              </a:rPr>
              <a:t>modell</a:t>
            </a:r>
            <a:endParaRPr b="0" lang="en-US" sz="4400" spc="-1" strike="noStrike">
              <a:solidFill>
                <a:srgbClr val="ffffcc"/>
              </a:solidFill>
              <a:latin typeface="Tahoma"/>
            </a:endParaRPr>
          </a:p>
        </p:txBody>
      </p:sp>
      <p:sp>
        <p:nvSpPr>
          <p:cNvPr id="1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a:t>
            </a:r>
            <a:r>
              <a:rPr b="0" lang="en-US" sz="2800" spc="-1" strike="noStrike">
                <a:solidFill>
                  <a:srgbClr val="ffffff"/>
                </a:solidFill>
                <a:latin typeface="Tahoma"/>
              </a:rPr>
              <a:t> ISO 15504-7 model</a:t>
            </a:r>
            <a:r>
              <a:rPr b="0" lang="hu-HU" sz="2800" spc="-1" strike="noStrike">
                <a:solidFill>
                  <a:srgbClr val="ffffff"/>
                </a:solidFill>
                <a:latin typeface="Tahoma"/>
              </a:rPr>
              <a:t>l</a:t>
            </a:r>
            <a:r>
              <a:rPr b="0" lang="en-US" sz="2800" spc="-1" strike="noStrike">
                <a:solidFill>
                  <a:srgbClr val="ffffff"/>
                </a:solidFill>
                <a:latin typeface="Tahoma"/>
              </a:rPr>
              <a:t> </a:t>
            </a:r>
            <a:r>
              <a:rPr b="0" lang="hu-HU" sz="2800" spc="-1" strike="noStrike">
                <a:solidFill>
                  <a:srgbClr val="ffffff"/>
                </a:solidFill>
                <a:latin typeface="Tahoma"/>
              </a:rPr>
              <a:t>lépései a következők</a:t>
            </a:r>
            <a:r>
              <a:rPr b="0" lang="en-US" sz="2800" spc="-1" strike="noStrike">
                <a:solidFill>
                  <a:srgbClr val="ffffff"/>
                </a:solidFill>
                <a:latin typeface="Tahoma"/>
              </a:rPr>
              <a: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zsgáldd meg a szervezet ig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ezdeményezd a folyamat javításá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észítsd elő és gyűjtsd össze a folyamat értékelésé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izáld az eredményeket és készíts akcióterve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
            </a:r>
            <a:r>
              <a:rPr b="0" lang="hu-HU" sz="2800" spc="-1" strike="noStrike">
                <a:solidFill>
                  <a:srgbClr val="ffffff"/>
                </a:solidFill>
                <a:latin typeface="Tahoma"/>
              </a:rPr>
              <a:t>áld</a:t>
            </a:r>
            <a:r>
              <a:rPr b="0" lang="en-US" sz="2800" spc="-1" strike="noStrike">
                <a:solidFill>
                  <a:srgbClr val="ffffff"/>
                </a:solidFill>
                <a:latin typeface="Tahoma"/>
              </a:rPr>
              <a:t> </a:t>
            </a:r>
            <a:r>
              <a:rPr b="0" lang="hu-HU" sz="2800" spc="-1" strike="noStrike">
                <a:solidFill>
                  <a:srgbClr val="ffffff"/>
                </a:solidFill>
                <a:latin typeface="Tahoma"/>
              </a:rPr>
              <a:t>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lenőrizd 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artsd fenn a továbbfejlesztés eredm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olyamatosan vizsgáldd a teljesítményt</a:t>
            </a:r>
            <a:endParaRPr b="0" lang="en-US" sz="2800" spc="-1" strike="noStrike">
              <a:solidFill>
                <a:srgbClr val="ffffff"/>
              </a:solidFill>
              <a:latin typeface="Tahoma"/>
            </a:endParaRPr>
          </a:p>
          <a:p>
            <a:pPr marL="522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F5DE0DB-0032-4199-8309-EBC179185EF6}" type="slidenum">
              <a:t>292</a:t>
            </a:fld>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 metrik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149E07A1-91F6-4193-A1CE-9A3CE893D2FA}"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 metrika – módszerek</a:t>
            </a:r>
            <a:endParaRPr b="0" lang="en-US" sz="4400" spc="-1" strike="noStrike">
              <a:solidFill>
                <a:srgbClr val="ffffcc"/>
              </a:solidFill>
              <a:latin typeface="Tahoma"/>
            </a:endParaRPr>
          </a:p>
        </p:txBody>
      </p:sp>
      <p:sp>
        <p:nvSpPr>
          <p:cNvPr id="11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m DeMarco </a:t>
            </a:r>
            <a:r>
              <a:rPr b="0" lang="en-US" sz="3200" spc="-1" strike="noStrike">
                <a:solidFill>
                  <a:srgbClr val="ffffff"/>
                </a:solidFill>
                <a:latin typeface="Tahoma"/>
              </a:rPr>
              <a:t>“You can not manage what you do not measure.” </a:t>
            </a:r>
            <a:r>
              <a:rPr b="0" lang="hu-HU"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Galileo: „</a:t>
            </a:r>
            <a:r>
              <a:rPr b="0" i="1" lang="hu-HU" sz="3200" spc="-1" strike="noStrike">
                <a:solidFill>
                  <a:srgbClr val="ffffff"/>
                </a:solidFill>
                <a:latin typeface="Tahoma"/>
              </a:rPr>
              <a:t>Ami nem mérhető azt tedd mérhetővé”</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SA Software Engineering Lab (SEL)</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ional Unified Process</a:t>
            </a:r>
            <a:r>
              <a:rPr b="0" lang="hu-HU" sz="3200" spc="-1" strike="noStrike">
                <a:solidFill>
                  <a:srgbClr val="ffffff"/>
                </a:solidFill>
                <a:latin typeface="Tahoma"/>
              </a:rPr>
              <a:t> </a:t>
            </a:r>
            <a:r>
              <a:rPr b="0" lang="en-US" sz="3200" spc="-1" strike="noStrike">
                <a:solidFill>
                  <a:srgbClr val="ffffff"/>
                </a:solidFill>
                <a:latin typeface="Tahoma"/>
              </a:rPr>
              <a:t>(</a:t>
            </a:r>
            <a:r>
              <a:rPr b="0" lang="hu-HU" sz="3200" spc="-1" strike="noStrike">
                <a:solidFill>
                  <a:srgbClr val="ffffff"/>
                </a:solidFill>
                <a:latin typeface="Tahoma"/>
              </a:rPr>
              <a:t>RUP</a:t>
            </a:r>
            <a:r>
              <a:rPr b="0" lang="en-US" sz="3200" spc="-1" strike="noStrike">
                <a:solidFill>
                  <a:srgbClr val="ffffff"/>
                </a:solidFill>
                <a:latin typeface="Tahoma"/>
              </a:rPr>
              <a:t>)</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978B2C8-985B-4DA5-A97D-EC7D5DB6601E}"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ek mérésének fő okai</a:t>
            </a:r>
            <a:endParaRPr b="0" lang="en-US" sz="4400" spc="-1" strike="noStrike">
              <a:solidFill>
                <a:srgbClr val="ffffcc"/>
              </a:solidFill>
              <a:latin typeface="Tahoma"/>
            </a:endParaRPr>
          </a:p>
        </p:txBody>
      </p:sp>
      <p:sp>
        <p:nvSpPr>
          <p:cNvPr id="11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egért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k és kapcsolato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ő folyamatjellemzők</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 projektek menedzsel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 és becs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ényleges eredmények összevetése a becsült értékekkel</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ek validálása</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k javításának irányítása</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értéke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zállít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0107C74-A117-40AA-9AB2-99599A87760B}"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78" name="PlaceHolder 2"/>
          <p:cNvSpPr>
            <a:spLocks noGrp="1"/>
          </p:cNvSpPr>
          <p:nvPr>
            <p:ph/>
          </p:nvPr>
        </p:nvSpPr>
        <p:spPr>
          <a:xfrm>
            <a:off x="324000" y="155700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o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vezet célj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folyamat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várások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ors eredményre való törekvés</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skör</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ncentrálj a lokális dolgokra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d kicsiben</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erepek és felelőssége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tok biztosít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izálás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gyűjtés és táro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056FB3-FC02-490D-8280-8B2AECF4F95E}"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80" name="PlaceHolder 2"/>
          <p:cNvSpPr>
            <a:spLocks noGrp="1"/>
          </p:cNvSpPr>
          <p:nvPr>
            <p:ph/>
          </p:nvPr>
        </p:nvSpPr>
        <p:spPr>
          <a:xfrm>
            <a:off x="324000" y="1628640"/>
            <a:ext cx="8540640" cy="44992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iválasztása</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Győződj meg a mérés alkalmazhatóságáról</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ek száma legyen minimáli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rüld a felesleges papírmunkát</a:t>
            </a:r>
            <a:endParaRPr b="0" lang="en-US" sz="20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öltség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szaki támogatás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ízis költség</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508AB0-EE30-4BBD-969F-2A0E71F85E1F}"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ltség</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elentések ütemez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áfordítások fejlesztésenként / tevékenységenként</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bá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jelentésének és kijavításának dátum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meghatározásának és kijavításához szükség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forrása és osztályozása</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k jellemzői</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gramozási nyelv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ntos folyamatok kijelöl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céljának meghatáro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9B32853-C41E-4A9A-B6F9-7CE9143BE0CA}"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dinamikáj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vetelmények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növeked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ecsült jellemzők</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jellemzői</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esztés határidej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ráfordítá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éret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mponens információ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 osztályzá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5253F8A-90AE-4CC3-917B-7014C4797C37}"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nőség : a dolgok lényegét jellemző tulajdonságok összessége, filozófiai kategória, illetve valaminek értékelést is magában foglaló jellege. (Magyar Értelmező Szótá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degree of excellence, relative nature or kind of character, class or grade of thing as determined by this, general excellence (The New Oxford Illustrated Dictiona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16944FC-0C5B-4817-8D99-A324BF5C93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agy mennyiségű információ felhalmozása a piacról kezelhető formában: forgalom, szállítók, vevők, konkurensek, áruismeret, árak,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iaci információk feldolgozása: rendezési, szűrési statisztika, prognózis, döntés-előkészítés,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fejlesztési projektek tervezéséhez döntési, szakértői információk szolgáltatásai, tárgyleírások, eljárási adatbankok, normatívák, tudományos háttér, stb.;</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F5EA61-2E9A-4C6A-9AF2-DB054BAE483C}"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 végrehajtása</a:t>
            </a:r>
            <a:endParaRPr b="0" lang="en-US" sz="4400" spc="-1" strike="noStrike">
              <a:solidFill>
                <a:srgbClr val="ffffcc"/>
              </a:solidFill>
              <a:latin typeface="Tahoma"/>
            </a:endParaRPr>
          </a:p>
        </p:txBody>
      </p:sp>
      <p:sp>
        <p:nvSpPr>
          <p:cNvPr id="11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esztés és karbantar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biztosít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ban való részvétel</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űszaki támoga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datok gyűjtése</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terfészek az adatok forrásához</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efiníciók</a:t>
            </a:r>
            <a:endParaRPr b="0" lang="en-US" sz="14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tárol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Összefoglalások, jelentések</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nalízis és csomagol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ok megterve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elem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csomagolása</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rányelvek és szabványo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Oktatás</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utomatizált eszközö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Jelentése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Frissítése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3D8DC2-9275-4122-A607-5902A9BEE4B7}"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692360" y="765000"/>
            <a:ext cx="5661000" cy="52819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2FD0F92-04CB-495E-B5E5-50248CFB8041}"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8" name="" descr=""/>
          <p:cNvPicPr/>
          <p:nvPr/>
        </p:nvPicPr>
        <p:blipFill>
          <a:blip r:embed="rId1"/>
          <a:stretch/>
        </p:blipFill>
        <p:spPr>
          <a:xfrm>
            <a:off x="1187280" y="1247760"/>
            <a:ext cx="7129800" cy="41846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28DC37D-1610-4422-B5CE-3D6832E45CE1}"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2268360" y="1052640"/>
            <a:ext cx="5345280" cy="44798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1623393-ECCC-462F-A33A-ACE95051D40B}" type="slidenum">
              <a:t>303</a:t>
            </a:fld>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Elemzés, alkalmazás és visszajelzés</a:t>
            </a:r>
            <a:endParaRPr b="0" lang="en-US" sz="4000" spc="-1" strike="noStrike">
              <a:solidFill>
                <a:srgbClr val="ffffcc"/>
              </a:solidFill>
              <a:latin typeface="Tahoma"/>
            </a:endParaRPr>
          </a:p>
        </p:txBody>
      </p:sp>
      <p:sp>
        <p:nvSpPr>
          <p:cNvPr id="11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t>
            </a:r>
            <a:r>
              <a:rPr b="0" lang="hu-HU" sz="2400" spc="-1" strike="noStrike">
                <a:solidFill>
                  <a:srgbClr val="ffffff"/>
                </a:solidFill>
                <a:latin typeface="Tahoma"/>
              </a:rPr>
              <a:t>ért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oftver attribútumo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öltség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ek dinamikája</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nedzsel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őremenetel értékel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értékelése</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ovábbfejlesztés irányítás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hatásainak mér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helyi környezetbe való adaptál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is haszonnal kecsegtető folyamatok kiszűr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58C132-D9E2-4463-8C56-E0CF8203B1F0}"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érési irányelvek</a:t>
            </a:r>
            <a:endParaRPr b="0" lang="en-US" sz="4400" spc="-1" strike="noStrike">
              <a:solidFill>
                <a:srgbClr val="ffffcc"/>
              </a:solidFill>
              <a:latin typeface="Tahoma"/>
            </a:endParaRPr>
          </a:p>
        </p:txBody>
      </p:sp>
      <p:sp>
        <p:nvSpPr>
          <p:cNvPr id="11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él eredmények alkalmazása, nem adatgyűjt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önfejlesztés legyen hangsúlyos, ne a külső összehasonlítá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i adatok pontatlanok.</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értelmezése függ az analízist végző személy képességeitő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ne fenyegessék a munkatársak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automatizálhatósága korlátozot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8681AEF-1F0A-44D8-963A-91A4CC99FF3A}"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RUP és a metrika</a:t>
            </a:r>
            <a:endParaRPr b="0" lang="en-US" sz="4400" spc="-1" strike="noStrike">
              <a:solidFill>
                <a:srgbClr val="ffffcc"/>
              </a:solidFill>
              <a:latin typeface="Tahoma"/>
            </a:endParaRPr>
          </a:p>
        </p:txBody>
      </p:sp>
      <p:sp>
        <p:nvSpPr>
          <p:cNvPr id="11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trika egy mérhető attribútuma egy entitásna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elemi metrika egy nyers  adatelem, amit a metrika kiszámításához használnak. Ezek lehetnek:</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tatikusak (pillanatkép jellegű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Dinamikusak (Trend jellegű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11A98A-E2F4-423D-9923-9CE1B81AECD2}"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t kínál a RUP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1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a minőség mérés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rányelvek: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duktum</a:t>
            </a:r>
            <a:r>
              <a:rPr b="0" lang="en-US" sz="3200" spc="-1" strike="noStrike">
                <a:solidFill>
                  <a:srgbClr val="ffffff"/>
                </a:solidFill>
                <a:latin typeface="Tahoma"/>
              </a:rPr>
              <a:t>: </a:t>
            </a:r>
            <a:r>
              <a:rPr b="0" lang="hu-HU" sz="3200" spc="-1" strike="noStrike">
                <a:solidFill>
                  <a:srgbClr val="ffffff"/>
                </a:solidFill>
                <a:latin typeface="Tahoma"/>
              </a:rPr>
              <a:t>Mérési terve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evékenységek</a:t>
            </a:r>
            <a:r>
              <a:rPr b="0" lang="en-US" sz="3200" spc="-1" strike="noStrike">
                <a:solidFill>
                  <a:srgbClr val="ffffff"/>
                </a:solidFill>
                <a:latin typeface="Tahoma"/>
              </a:rPr>
              <a:t>: </a:t>
            </a:r>
            <a:r>
              <a:rPr b="0" lang="hu-HU" sz="3200" spc="-1" strike="noStrike">
                <a:solidFill>
                  <a:srgbClr val="ffffff"/>
                </a:solidFill>
                <a:latin typeface="Tahoma"/>
              </a:rPr>
              <a:t>Mérési tervek kidolgozás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jekt metriká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tátus értékel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D41364-608C-4B9F-97F2-836679B184E3}"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RUP metrikái</a:t>
            </a:r>
            <a:endParaRPr b="0" lang="en-US" sz="4400" spc="-1" strike="noStrike">
              <a:solidFill>
                <a:srgbClr val="ffffcc"/>
              </a:solidFill>
              <a:latin typeface="Tahoma"/>
            </a:endParaRPr>
          </a:p>
        </p:txBody>
      </p:sp>
      <p:pic>
        <p:nvPicPr>
          <p:cNvPr id="1199" name="" descr=""/>
          <p:cNvPicPr/>
          <p:nvPr/>
        </p:nvPicPr>
        <p:blipFill>
          <a:blip r:embed="rId1"/>
          <a:stretch/>
        </p:blipFill>
        <p:spPr>
          <a:xfrm>
            <a:off x="395280" y="1268280"/>
            <a:ext cx="2495520" cy="1828800"/>
          </a:xfrm>
          <a:prstGeom prst="rect">
            <a:avLst/>
          </a:prstGeom>
          <a:ln w="0">
            <a:noFill/>
          </a:ln>
        </p:spPr>
      </p:pic>
      <p:pic>
        <p:nvPicPr>
          <p:cNvPr id="1200" name="" descr=""/>
          <p:cNvPicPr/>
          <p:nvPr/>
        </p:nvPicPr>
        <p:blipFill>
          <a:blip r:embed="rId2"/>
          <a:stretch/>
        </p:blipFill>
        <p:spPr>
          <a:xfrm>
            <a:off x="1763640" y="3284640"/>
            <a:ext cx="2371680" cy="838080"/>
          </a:xfrm>
          <a:prstGeom prst="rect">
            <a:avLst/>
          </a:prstGeom>
          <a:ln w="0">
            <a:noFill/>
          </a:ln>
        </p:spPr>
      </p:pic>
      <p:pic>
        <p:nvPicPr>
          <p:cNvPr id="1201" name="" descr=""/>
          <p:cNvPicPr/>
          <p:nvPr/>
        </p:nvPicPr>
        <p:blipFill>
          <a:blip r:embed="rId3"/>
          <a:stretch/>
        </p:blipFill>
        <p:spPr>
          <a:xfrm>
            <a:off x="3276720" y="4724280"/>
            <a:ext cx="2286000" cy="571680"/>
          </a:xfrm>
          <a:prstGeom prst="rect">
            <a:avLst/>
          </a:prstGeom>
          <a:ln w="0">
            <a:noFill/>
          </a:ln>
        </p:spPr>
      </p:pic>
      <p:sp>
        <p:nvSpPr>
          <p:cNvPr id="1202" name=""/>
          <p:cNvSpPr/>
          <p:nvPr/>
        </p:nvSpPr>
        <p:spPr>
          <a:xfrm>
            <a:off x="3276720" y="1341360"/>
            <a:ext cx="295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trikák és elemi metrikák</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
          <p:cNvSpPr/>
          <p:nvPr/>
        </p:nvSpPr>
        <p:spPr>
          <a:xfrm>
            <a:off x="4643280" y="3357720"/>
            <a:ext cx="32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égterméket minősítő metrikák</a:t>
            </a:r>
            <a:endParaRPr b="0" lang="en-US" sz="1800" spc="-1" strike="noStrike">
              <a:solidFill>
                <a:srgbClr val="ffffff"/>
              </a:solidFill>
              <a:latin typeface="Arial"/>
            </a:endParaRPr>
          </a:p>
        </p:txBody>
      </p:sp>
      <p:sp>
        <p:nvSpPr>
          <p:cNvPr id="1204" name=""/>
          <p:cNvSpPr/>
          <p:nvPr/>
        </p:nvSpPr>
        <p:spPr>
          <a:xfrm>
            <a:off x="5724360" y="4724280"/>
            <a:ext cx="20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 közbeni </a:t>
            </a:r>
            <a:br>
              <a:rPr sz="1800"/>
            </a:br>
            <a:r>
              <a:rPr b="0" lang="hu-HU" sz="1800" spc="-1" strike="noStrike">
                <a:solidFill>
                  <a:srgbClr val="ffffff"/>
                </a:solidFill>
                <a:latin typeface="Tahoma"/>
              </a:rPr>
              <a:t>jellemzők</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D0EA85B-6211-42CE-97DB-52DFA542FDC7}" type="slidenum">
              <a:t>308</a:t>
            </a:fld>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lan J. Albrecht, 197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rendszert kisebb komponensekre bontja, így azok jobban elemezhetők.</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funkciópont kvantitatív jellemző, ami a logikai tervezésen alapul.</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tranzakciók és adattárak közötti kapcsolatot értelmezi. Két absztrakt adatstruktúrát definiál:</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yugalmi adatot (későbbi felhasználásra).</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ozgásban lévő adatot (részt vesz tranzakciók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4C5E5CA-2357-427E-B9D1-E71F53532C6A}" type="slidenum">
              <a:t>30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első erőforrásokra vonatkozó információk rendezett nyilvántartása: munkaerő, berendezés, gép, eszköz, anyag,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gazdasági folyamatok informális irányítása: beszerzési, termelési és/vagy elosztási és szállítási tevékenységek ütemezése, allokálása, ellenőrzése,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értékinformációk nyilvántartása, elemzése: költségek regisztrálása, elosztása, kalkulációja, pénzforgalom, számlázás, könyvelés, stb.</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C69E4A6-98BB-43CA-97E8-DA659177E636}" type="slidenum">
              <a:t>31</a:t>
            </a:fld>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ek méretének meghatározásár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s metrikától eltérően ez a mérés megismételhető, így más elemzők ugyanazt a következtetést vonják 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gíti az egységnyi költség meghatározásá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E97C15E-EC96-409C-974A-01EB565F3C02}" type="slidenum">
              <a:t>310</a:t>
            </a:fld>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FPA egyéb használati lehetőségei</a:t>
            </a:r>
            <a:endParaRPr b="0" lang="en-US" sz="4000" spc="-1" strike="noStrike">
              <a:solidFill>
                <a:srgbClr val="ffffcc"/>
              </a:solidFill>
              <a:latin typeface="Tahoma"/>
            </a:endParaRPr>
          </a:p>
        </p:txBody>
      </p:sp>
      <p:sp>
        <p:nvSpPr>
          <p:cNvPr id="12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kor és mit tervezzünk új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szt esetek szám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elékenység határainak feltár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oftverek valódi költségének meghatároz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ljes projekt költségének, ütemezésének és ráfordítás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arbantartás költségeine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etrikák kiválasztásáb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0BF3955-1A6E-42AC-A718-5670860998DE}" type="slidenum">
              <a:t>311</a:t>
            </a:fld>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FPA elfogadottsága</a:t>
            </a:r>
            <a:endParaRPr b="0" lang="en-US" sz="4400" spc="-1" strike="noStrike">
              <a:solidFill>
                <a:srgbClr val="ffffcc"/>
              </a:solidFill>
              <a:latin typeface="Tahoma"/>
            </a:endParaRPr>
          </a:p>
        </p:txBody>
      </p:sp>
      <p:pic>
        <p:nvPicPr>
          <p:cNvPr id="1212" name="" descr=""/>
          <p:cNvPicPr/>
          <p:nvPr/>
        </p:nvPicPr>
        <p:blipFill>
          <a:blip r:embed="rId1"/>
          <a:stretch/>
        </p:blipFill>
        <p:spPr>
          <a:xfrm>
            <a:off x="971640" y="1773360"/>
            <a:ext cx="6826320" cy="36925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03144E3-A44B-4EDB-BC3B-FDFFA777B9D9}" type="slidenum">
              <a:t>312</a:t>
            </a:fld>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nkciópont számítás fajtái</a:t>
            </a:r>
            <a:endParaRPr b="0" lang="en-US" sz="4400" spc="-1" strike="noStrike">
              <a:solidFill>
                <a:srgbClr val="ffffcc"/>
              </a:solidFill>
              <a:latin typeface="Tahoma"/>
            </a:endParaRPr>
          </a:p>
        </p:txBody>
      </p:sp>
      <p:sp>
        <p:nvSpPr>
          <p:cNvPr id="12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ejlesztési projektek funkciópontj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gények felmerülésétől az implementációig</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vábbfejlesztési projekte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ár létező projektek továbbfejlesztésér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kalmazáso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étező alkalmazásokhoz</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37AED47-A8E2-4F3D-B53B-992683009B3D}" type="slidenum">
              <a:t>313</a:t>
            </a:fld>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Számítógépes alkalmazásokat modellező eljárások</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5C4F52F4-ACCD-4C61-868A-BE365FFE818D}" type="slidenum">
              <a:t>314</a:t>
            </a:fld>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orientált eljárások</a:t>
            </a:r>
            <a:endParaRPr b="0" lang="en-US" sz="4400" spc="-1" strike="noStrike">
              <a:solidFill>
                <a:srgbClr val="ffffcc"/>
              </a:solidFill>
              <a:latin typeface="Tahoma"/>
            </a:endParaRPr>
          </a:p>
        </p:txBody>
      </p:sp>
      <p:sp>
        <p:nvSpPr>
          <p:cNvPr id="12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óorientált eljárás-konstrukció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P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ackson-féle rendszerfejlesztés (JS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strukturált tervezés (SSA/D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tervezési módszertana (SSAD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átmeneti diagram (STD) és mátrix (ST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etri hál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Objektum-orientált analízis és tervez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0AE28DE-006D-40BC-A5CE-74D05653DD35}" type="slidenum">
              <a:t>315</a:t>
            </a:fld>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datorientált modellezés</a:t>
            </a:r>
            <a:endParaRPr b="0" lang="en-US" sz="4400" spc="-1" strike="noStrike">
              <a:solidFill>
                <a:srgbClr val="ffffcc"/>
              </a:solidFill>
              <a:latin typeface="Tahoma"/>
            </a:endParaRPr>
          </a:p>
        </p:txBody>
      </p:sp>
      <p:sp>
        <p:nvSpPr>
          <p:cNvPr id="12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datorientált modellezé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emantikai adatmodellek</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R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ER 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erarchikus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ál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áci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um-orientált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tárhá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893B8D5-A40B-49E5-8B53-41A3F0FE177A}"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PO: Hierarchy - Input - Process – Outpu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éretű feladatok megoldásánál a kezelhetőséget a modularizálással biztosítják</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programok, modulok kapcsolatrendszere, mivel a meghívott modul maga is hívhat meg egy újabb modult, egy </a:t>
            </a:r>
            <a:r>
              <a:rPr b="0" i="1" lang="hu-HU" sz="2800" spc="-1" strike="noStrike">
                <a:solidFill>
                  <a:srgbClr val="ffffff"/>
                </a:solidFill>
                <a:latin typeface="Tahoma"/>
              </a:rPr>
              <a:t>hierarchikus struktúrát</a:t>
            </a:r>
            <a:r>
              <a:rPr b="0" lang="hu-HU" sz="2800" spc="-1" strike="noStrike">
                <a:solidFill>
                  <a:srgbClr val="ffffff"/>
                </a:solidFill>
                <a:latin typeface="Tahoma"/>
              </a:rPr>
              <a:t> alko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odulok megtervezésének természetes módja az általánosabb, magasabb absztrakciós szintről kiindulva megtervezni az egyre mélyebben elhelyezkedő modulokat. </a:t>
            </a:r>
            <a:br>
              <a:rPr sz="2800"/>
            </a:br>
            <a:r>
              <a:rPr b="0" lang="hu-HU" sz="2800" spc="-1" strike="noStrike">
                <a:solidFill>
                  <a:srgbClr val="ffffff"/>
                </a:solidFill>
                <a:latin typeface="Tahoma"/>
              </a:rPr>
              <a:t>('</a:t>
            </a:r>
            <a:r>
              <a:rPr b="0" i="1" lang="hu-HU" sz="2800" spc="-1" strike="noStrike">
                <a:solidFill>
                  <a:srgbClr val="ffffff"/>
                </a:solidFill>
                <a:latin typeface="Tahoma"/>
              </a:rPr>
              <a:t>top-down</a:t>
            </a:r>
            <a:r>
              <a:rPr b="0" lang="hu-HU" sz="2800" spc="-1" strike="noStrike">
                <a:solidFill>
                  <a:srgbClr val="ffffff"/>
                </a:solidFill>
                <a:latin typeface="Tahoma"/>
              </a:rPr>
              <a:t>‘ megközelíté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49E9F7D-D41F-46BF-9792-5B78EC0CB0E0}" type="slidenum">
              <a:t>317</a:t>
            </a:fld>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3" name=""/>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4" name=""/>
          <p:cNvGraphicFramePr/>
          <p:nvPr/>
        </p:nvGraphicFramePr>
        <p:xfrm>
          <a:off x="1979640" y="1628640"/>
          <a:ext cx="5904000" cy="4448160"/>
        </p:xfrm>
        <a:graphic>
          <a:graphicData uri="http://schemas.openxmlformats.org/presentationml/2006/ole">
            <p:oleObj r:id="rId1" spid="">
              <p:embed/>
              <p:pic>
                <p:nvPicPr>
                  <p:cNvPr id="1225" name="" descr=""/>
                  <p:cNvPicPr/>
                  <p:nvPr/>
                </p:nvPicPr>
                <p:blipFill>
                  <a:blip r:embed="rId2"/>
                  <a:stretch/>
                </p:blipFill>
                <p:spPr>
                  <a:xfrm>
                    <a:off x="1979640" y="1628640"/>
                    <a:ext cx="5904000" cy="44481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0F57514-2069-4A8A-B8B1-E7D06F70DA0F}" type="slidenum">
              <a:t>318</a:t>
            </a:fld>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 modellt a tervezés különböző fázisaiban, különböző absztrakciós szinteken is meg lehet valósítani. </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szint, amikor emberi nyelven írják le a specifikációkat, és csak a lényegi elemek kerülnek megemlítésre. </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gram-modul szint, az absztrakció másik véglete, már a programkódot tartalmazhatja a kiválasztott programozási nyelv szabályainak megfelelően. </a:t>
            </a:r>
            <a:endParaRPr b="0" lang="en-US" sz="20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hoz tartozó dokumentációk minden szinten három finomsági fokozatnak megfelelő diagramokat tartalmaznak:</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tétel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ttekintő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észletező diagra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53F04B1-3624-4B4C-AFFF-5D48128B432E}"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pozitív változás</a:t>
            </a:r>
            <a:r>
              <a:rPr b="0" lang="hu-HU" sz="3200" spc="-1" strike="noStrike">
                <a:solidFill>
                  <a:srgbClr val="ffffff"/>
                </a:solidFill>
                <a:latin typeface="Tahoma"/>
              </a:rPr>
              <a:t> következett be a munka minőségének növelésével (szakismeret kiterjesztése, manualitás és egyhangúság csökkenése, felelősség növelése, munkakörülmények javulása, stb.)</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3EAE85-86C2-4C57-B6BE-2D26FB54D4C6}"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9"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0" name=""/>
          <p:cNvGraphicFramePr/>
          <p:nvPr/>
        </p:nvGraphicFramePr>
        <p:xfrm>
          <a:off x="1547640" y="1413000"/>
          <a:ext cx="6264360" cy="4681440"/>
        </p:xfrm>
        <a:graphic>
          <a:graphicData uri="http://schemas.openxmlformats.org/presentationml/2006/ole">
            <p:oleObj r:id="rId1" spid="">
              <p:embed/>
              <p:pic>
                <p:nvPicPr>
                  <p:cNvPr id="1231" name="" descr=""/>
                  <p:cNvPicPr/>
                  <p:nvPr/>
                </p:nvPicPr>
                <p:blipFill>
                  <a:blip r:embed="rId2"/>
                  <a:stretch/>
                </p:blipFill>
                <p:spPr>
                  <a:xfrm>
                    <a:off x="1547640" y="1413000"/>
                    <a:ext cx="6264360" cy="4681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07790EE-F688-4FC5-B886-64B2D8231FEC}"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összetétel diagramok</a:t>
            </a:r>
            <a:r>
              <a:rPr b="0" lang="hu-HU" sz="2000" spc="-1" strike="noStrike">
                <a:solidFill>
                  <a:srgbClr val="ffffff"/>
                </a:solidFill>
                <a:latin typeface="Tahoma"/>
              </a:rPr>
              <a:t> megjelölik a főbb modulokat és azok kapcsolatát. Minden modul egy, a hierarchián belüli pozícióra utaló azonosító sorszámot kap.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áttekintő diagram</a:t>
            </a:r>
            <a:r>
              <a:rPr b="0" lang="hu-HU" sz="2000" spc="-1" strike="noStrike">
                <a:solidFill>
                  <a:srgbClr val="ffffff"/>
                </a:solidFill>
                <a:latin typeface="Tahoma"/>
              </a:rPr>
              <a:t>  megadja a modulhoz tartozó be- és kimenő adategységeket, valamint a modulon belüli tevékenységek áttekintő leírásá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részletező diagram</a:t>
            </a:r>
            <a:r>
              <a:rPr b="0" lang="hu-HU" sz="2000" spc="-1" strike="noStrike">
                <a:solidFill>
                  <a:srgbClr val="ffffff"/>
                </a:solidFill>
                <a:latin typeface="Tahoma"/>
              </a:rPr>
              <a:t> tartalmazza az adatok és a végrehajtandó utasítások részletes specifikációjá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módszertan a modell elkészítése után tartalmazza a modell ellenőrzésére vonatkozó lépéseke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rendszer hátrányai közé sorolják, hogy csak statikus jelleggel írja le a funkciókat, a rendszer dinamikus viselkedését már nem fedi le. A HIPO-ban emellett a nem-hierarchikus kapcsolatok reprezentálása is nehézséget ok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91DF6A9-1977-48C8-8BBA-B28479A5AC7C}"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ackson-féle rendszer fejlesztés</a:t>
            </a:r>
            <a:endParaRPr b="0" lang="en-US" sz="4400" spc="-1" strike="noStrike">
              <a:solidFill>
                <a:srgbClr val="ffffcc"/>
              </a:solidFill>
              <a:latin typeface="Tahoma"/>
            </a:endParaRPr>
          </a:p>
        </p:txBody>
      </p:sp>
      <p:sp>
        <p:nvSpPr>
          <p:cNvPr id="12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1980-as években kifejlesztett </a:t>
            </a:r>
            <a:r>
              <a:rPr b="0" i="1" lang="hu-HU" sz="2000" spc="-1" strike="noStrike">
                <a:solidFill>
                  <a:srgbClr val="ffffff"/>
                </a:solidFill>
                <a:latin typeface="Tahoma"/>
              </a:rPr>
              <a:t>Jackson-féle rendszer fejlesztés (JSD) szoftverfejlesztési</a:t>
            </a:r>
            <a:r>
              <a:rPr b="0" lang="hu-HU" sz="2000" spc="-1" strike="noStrike">
                <a:solidFill>
                  <a:srgbClr val="ffffff"/>
                </a:solidFill>
                <a:latin typeface="Tahoma"/>
              </a:rPr>
              <a:t> módszer sok közös vonást hordoz a korábban megjelent Jackson-féle strukturált programozás (</a:t>
            </a:r>
            <a:r>
              <a:rPr b="0" i="1" lang="hu-HU" sz="2000" spc="-1" strike="noStrike">
                <a:solidFill>
                  <a:srgbClr val="ffffff"/>
                </a:solidFill>
                <a:latin typeface="Tahoma"/>
              </a:rPr>
              <a:t>JSP</a:t>
            </a:r>
            <a:r>
              <a:rPr b="0" lang="hu-HU" sz="2000" spc="-1" strike="noStrike">
                <a:solidFill>
                  <a:srgbClr val="ffffff"/>
                </a:solidFill>
                <a:latin typeface="Tahoma"/>
              </a:rPr>
              <a:t>) elveive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íg a JSP egy szűkebb értelmű programozási technikát takar, addig JSD egy tágabb szoftverfejlesztési koncepciót fed l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SP egy nyelvfüggetlen általános leírásként szolgál a program algoritmusának és adatszerkezetének leírására. </a:t>
            </a:r>
            <a:br>
              <a:rPr sz="2000"/>
            </a:br>
            <a:r>
              <a:rPr b="0" lang="hu-HU" sz="2000" spc="-1" strike="noStrike">
                <a:solidFill>
                  <a:srgbClr val="ffffff"/>
                </a:solidFill>
                <a:latin typeface="Tahoma"/>
              </a:rPr>
              <a:t>A leírás egy </a:t>
            </a:r>
            <a:r>
              <a:rPr b="0" i="1" lang="hu-HU" sz="2000" spc="-1" strike="noStrike">
                <a:solidFill>
                  <a:srgbClr val="ffffff"/>
                </a:solidFill>
                <a:latin typeface="Tahoma"/>
              </a:rPr>
              <a:t>struktúra diagram</a:t>
            </a:r>
            <a:r>
              <a:rPr b="0" lang="hu-HU" sz="2000" spc="-1" strike="noStrike">
                <a:solidFill>
                  <a:srgbClr val="ffffff"/>
                </a:solidFill>
                <a:latin typeface="Tahoma"/>
              </a:rPr>
              <a:t> segítségével történik, amelynek elemei:</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emi komponensek (egységként kezelt objektumo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sszetett komponense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kven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lekció,</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teráció.</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5E7D82-850A-43A9-8EB3-BA380E755B5A}"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SP elemei</a:t>
            </a:r>
            <a:endParaRPr b="0" lang="en-US" sz="4400" spc="-1" strike="noStrike">
              <a:solidFill>
                <a:srgbClr val="ffffcc"/>
              </a:solidFill>
              <a:latin typeface="Tahoma"/>
            </a:endParaRPr>
          </a:p>
        </p:txBody>
      </p:sp>
      <p:sp>
        <p:nvSpPr>
          <p:cNvPr id="1237" name=""/>
          <p:cNvSpPr/>
          <p:nvPr/>
        </p:nvSpPr>
        <p:spPr>
          <a:xfrm>
            <a:off x="0" y="178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8" name=""/>
          <p:cNvGraphicFramePr/>
          <p:nvPr/>
        </p:nvGraphicFramePr>
        <p:xfrm>
          <a:off x="2843280" y="1413000"/>
          <a:ext cx="3855960" cy="4732200"/>
        </p:xfrm>
        <a:graphic>
          <a:graphicData uri="http://schemas.openxmlformats.org/presentationml/2006/ole">
            <p:oleObj r:id="rId1" spid="">
              <p:embed/>
              <p:pic>
                <p:nvPicPr>
                  <p:cNvPr id="1239" name="" descr=""/>
                  <p:cNvPicPr/>
                  <p:nvPr/>
                </p:nvPicPr>
                <p:blipFill>
                  <a:blip r:embed="rId2"/>
                  <a:stretch/>
                </p:blipFill>
                <p:spPr>
                  <a:xfrm>
                    <a:off x="2843280" y="1413000"/>
                    <a:ext cx="3855960" cy="4732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8B5AB8F-6A27-4460-9A41-12D1B640C574}"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 struktúra diagram </a:t>
            </a:r>
            <a:endParaRPr b="0" lang="en-US" sz="4400" spc="-1" strike="noStrike">
              <a:solidFill>
                <a:srgbClr val="ffffcc"/>
              </a:solidFill>
              <a:latin typeface="Tahoma"/>
            </a:endParaRPr>
          </a:p>
        </p:txBody>
      </p:sp>
      <p:sp>
        <p:nvSpPr>
          <p:cNvPr id="1241" name=""/>
          <p:cNvSpPr/>
          <p:nvPr/>
        </p:nvSpPr>
        <p:spPr>
          <a:xfrm>
            <a:off x="0" y="216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2" name=""/>
          <p:cNvGraphicFramePr/>
          <p:nvPr/>
        </p:nvGraphicFramePr>
        <p:xfrm>
          <a:off x="1692360" y="2421000"/>
          <a:ext cx="6121440" cy="2984400"/>
        </p:xfrm>
        <a:graphic>
          <a:graphicData uri="http://schemas.openxmlformats.org/presentationml/2006/ole">
            <p:oleObj r:id="rId1" spid="">
              <p:embed/>
              <p:pic>
                <p:nvPicPr>
                  <p:cNvPr id="1243" name="" descr=""/>
                  <p:cNvPicPr/>
                  <p:nvPr/>
                </p:nvPicPr>
                <p:blipFill>
                  <a:blip r:embed="rId2"/>
                  <a:stretch/>
                </p:blipFill>
                <p:spPr>
                  <a:xfrm>
                    <a:off x="1692360" y="2421000"/>
                    <a:ext cx="6121440" cy="2984400"/>
                  </a:xfrm>
                  <a:prstGeom prst="rect">
                    <a:avLst/>
                  </a:prstGeom>
                  <a:ln w="0">
                    <a:noFill/>
                  </a:ln>
                </p:spPr>
              </p:pic>
            </p:oleObj>
          </a:graphicData>
        </a:graphic>
      </p:graphicFrame>
      <p:sp>
        <p:nvSpPr>
          <p:cNvPr id="1244" name=""/>
          <p:cNvSpPr/>
          <p:nvPr/>
        </p:nvSpPr>
        <p:spPr>
          <a:xfrm>
            <a:off x="539640" y="17733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élda: egy ember adatait tároló objektum leírása</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7EE45B5-D8D6-4E94-9ABD-5F29D2F1EFF3}"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rogram struktúra diagram </a:t>
            </a:r>
            <a:endParaRPr b="0" lang="en-US" sz="4400" spc="-1" strike="noStrike">
              <a:solidFill>
                <a:srgbClr val="ffffcc"/>
              </a:solidFill>
              <a:latin typeface="Tahoma"/>
            </a:endParaRPr>
          </a:p>
        </p:txBody>
      </p:sp>
      <p:sp>
        <p:nvSpPr>
          <p:cNvPr id="1246" name=""/>
          <p:cNvSpPr/>
          <p:nvPr/>
        </p:nvSpPr>
        <p:spPr>
          <a:xfrm>
            <a:off x="0" y="17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7" name=""/>
          <p:cNvGraphicFramePr/>
          <p:nvPr/>
        </p:nvGraphicFramePr>
        <p:xfrm>
          <a:off x="1979640" y="1844640"/>
          <a:ext cx="4535640" cy="4159440"/>
        </p:xfrm>
        <a:graphic>
          <a:graphicData uri="http://schemas.openxmlformats.org/presentationml/2006/ole">
            <p:oleObj r:id="rId1" spid="">
              <p:embed/>
              <p:pic>
                <p:nvPicPr>
                  <p:cNvPr id="1248" name="" descr=""/>
                  <p:cNvPicPr/>
                  <p:nvPr/>
                </p:nvPicPr>
                <p:blipFill>
                  <a:blip r:embed="rId2"/>
                  <a:stretch/>
                </p:blipFill>
                <p:spPr>
                  <a:xfrm>
                    <a:off x="1979640" y="1844640"/>
                    <a:ext cx="4535640" cy="4159440"/>
                  </a:xfrm>
                  <a:prstGeom prst="rect">
                    <a:avLst/>
                  </a:prstGeom>
                  <a:ln w="0">
                    <a:noFill/>
                  </a:ln>
                </p:spPr>
              </p:pic>
            </p:oleObj>
          </a:graphicData>
        </a:graphic>
      </p:graphicFrame>
      <p:sp>
        <p:nvSpPr>
          <p:cNvPr id="1249" name=""/>
          <p:cNvSpPr/>
          <p:nvPr/>
        </p:nvSpPr>
        <p:spPr>
          <a:xfrm>
            <a:off x="468360" y="148428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bankkártya-automatánál történő pénzfelvétel egyszerűsített folyamat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05DC845-C51A-40F1-BEE6-1788D8CAB7F4}" type="slidenum">
              <a:t>325</a:t>
            </a:fld>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olyamatábra jelölésrendszer </a:t>
            </a:r>
            <a:endParaRPr b="0" lang="en-US" sz="4400" spc="-1" strike="noStrike">
              <a:solidFill>
                <a:srgbClr val="ffffcc"/>
              </a:solidFill>
              <a:latin typeface="Tahoma"/>
            </a:endParaRPr>
          </a:p>
        </p:txBody>
      </p:sp>
      <p:sp>
        <p:nvSpPr>
          <p:cNvPr id="1251" name=""/>
          <p:cNvSpPr/>
          <p:nvPr/>
        </p:nvSpPr>
        <p:spPr>
          <a:xfrm>
            <a:off x="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2" name=""/>
          <p:cNvGraphicFramePr/>
          <p:nvPr/>
        </p:nvGraphicFramePr>
        <p:xfrm>
          <a:off x="1547640" y="1341360"/>
          <a:ext cx="6985080" cy="4629240"/>
        </p:xfrm>
        <a:graphic>
          <a:graphicData uri="http://schemas.openxmlformats.org/presentationml/2006/ole">
            <p:oleObj r:id="rId1" spid="">
              <p:embed/>
              <p:pic>
                <p:nvPicPr>
                  <p:cNvPr id="1253" name="" descr=""/>
                  <p:cNvPicPr/>
                  <p:nvPr/>
                </p:nvPicPr>
                <p:blipFill>
                  <a:blip r:embed="rId2"/>
                  <a:stretch/>
                </p:blipFill>
                <p:spPr>
                  <a:xfrm>
                    <a:off x="1547640" y="1341360"/>
                    <a:ext cx="6985080" cy="46292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12A1860-13E3-4488-B324-DE948559933B}"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P lépései</a:t>
            </a:r>
            <a:endParaRPr b="0" lang="en-US" sz="4400" spc="-1" strike="noStrike">
              <a:solidFill>
                <a:srgbClr val="ffffcc"/>
              </a:solidFill>
              <a:latin typeface="Tahoma"/>
            </a:endParaRPr>
          </a:p>
        </p:txBody>
      </p:sp>
      <p:sp>
        <p:nvSpPr>
          <p:cNvPr id="12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JSP lépései a következőkben foglalhatók össz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struktúra diagram kialakít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rogram struktúra diagram elkészítés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ükséges atomi műveletek meghatározása és hozzárendelése a diagram egységekhez,</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utasítás szöveg elkészítése az egyes atomi műveletekhe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F6ACDB0-5F70-4EF4-8E4D-73FBC13000E9}"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D fontosabb lépései</a:t>
            </a:r>
            <a:endParaRPr b="0" lang="en-US" sz="4400" spc="-1" strike="noStrike">
              <a:solidFill>
                <a:srgbClr val="ffffcc"/>
              </a:solidFill>
              <a:latin typeface="Tahoma"/>
            </a:endParaRPr>
          </a:p>
        </p:txBody>
      </p:sp>
      <p:sp>
        <p:nvSpPr>
          <p:cNvPr id="1257" name="PlaceHolder 2"/>
          <p:cNvSpPr>
            <a:spLocks noGrp="1"/>
          </p:cNvSpPr>
          <p:nvPr>
            <p:ph/>
          </p:nvPr>
        </p:nvSpPr>
        <p:spPr>
          <a:xfrm>
            <a:off x="301320" y="1599840"/>
            <a:ext cx="463068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SD a JSP-vel ellentétben az analízist-tervezést támogató módszertan.</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zéppontjában a rendszerben lezajlódó cselekvések, tevékenységek állnak</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9" name=""/>
          <p:cNvGraphicFramePr/>
          <p:nvPr/>
        </p:nvGraphicFramePr>
        <p:xfrm>
          <a:off x="5435640" y="1557360"/>
          <a:ext cx="2755800" cy="4608360"/>
        </p:xfrm>
        <a:graphic>
          <a:graphicData uri="http://schemas.openxmlformats.org/presentationml/2006/ole">
            <p:oleObj r:id="rId1" spid="">
              <p:embed/>
              <p:pic>
                <p:nvPicPr>
                  <p:cNvPr id="1260" name="" descr=""/>
                  <p:cNvPicPr/>
                  <p:nvPr/>
                </p:nvPicPr>
                <p:blipFill>
                  <a:blip r:embed="rId2"/>
                  <a:stretch/>
                </p:blipFill>
                <p:spPr>
                  <a:xfrm>
                    <a:off x="5435640" y="1557360"/>
                    <a:ext cx="2755800" cy="4608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A0A4B7F-4519-4B26-94B6-A7C4159AEF4E}"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Egyed egyed-struktúra diagram (SED)</a:t>
            </a:r>
            <a:r>
              <a:rPr b="0" lang="hu-HU" sz="4000" spc="-1" strike="noStrike">
                <a:solidFill>
                  <a:srgbClr val="ffffcc"/>
                </a:solidFill>
                <a:latin typeface="Tahoma"/>
              </a:rPr>
              <a:t> </a:t>
            </a:r>
            <a:endParaRPr b="0" lang="en-US" sz="4000" spc="-1" strike="noStrike">
              <a:solidFill>
                <a:srgbClr val="ffffcc"/>
              </a:solidFill>
              <a:latin typeface="Tahoma"/>
            </a:endParaRPr>
          </a:p>
        </p:txBody>
      </p:sp>
      <p:sp>
        <p:nvSpPr>
          <p:cNvPr id="1262" name=""/>
          <p:cNvSpPr/>
          <p:nvPr/>
        </p:nvSpPr>
        <p:spPr>
          <a:xfrm>
            <a:off x="0" y="246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63" name=""/>
          <p:cNvGraphicFramePr/>
          <p:nvPr/>
        </p:nvGraphicFramePr>
        <p:xfrm>
          <a:off x="1403280" y="2133720"/>
          <a:ext cx="6624720" cy="3470040"/>
        </p:xfrm>
        <a:graphic>
          <a:graphicData uri="http://schemas.openxmlformats.org/presentationml/2006/ole">
            <p:oleObj r:id="rId1" spid="">
              <p:embed/>
              <p:pic>
                <p:nvPicPr>
                  <p:cNvPr id="1264" name="" descr=""/>
                  <p:cNvPicPr/>
                  <p:nvPr/>
                </p:nvPicPr>
                <p:blipFill>
                  <a:blip r:embed="rId2"/>
                  <a:stretch/>
                </p:blipFill>
                <p:spPr>
                  <a:xfrm>
                    <a:off x="1403280" y="2133720"/>
                    <a:ext cx="6624720" cy="3470040"/>
                  </a:xfrm>
                  <a:prstGeom prst="rect">
                    <a:avLst/>
                  </a:prstGeom>
                  <a:ln w="0">
                    <a:noFill/>
                  </a:ln>
                </p:spPr>
              </p:pic>
            </p:oleObj>
          </a:graphicData>
        </a:graphic>
      </p:graphicFrame>
      <p:sp>
        <p:nvSpPr>
          <p:cNvPr id="1265" name=""/>
          <p:cNvSpPr/>
          <p:nvPr/>
        </p:nvSpPr>
        <p:spPr>
          <a:xfrm>
            <a:off x="755640" y="148428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gy hallgató egyed egyed-struktúra diagramja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DBA46B2-5170-4FA0-9AD9-8E770C14F317}"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negatív változás</a:t>
            </a:r>
            <a:r>
              <a:rPr b="0" lang="hu-HU" sz="3200" spc="-1" strike="noStrike">
                <a:solidFill>
                  <a:srgbClr val="ffffff"/>
                </a:solidFill>
                <a:latin typeface="Tahoma"/>
              </a:rPr>
              <a:t>ok élhetők meg a szigorodó munkafeltételek (döntési szabadság csökkenése, a munkafelügyelet fokozódása, a munkaütem kötöttsége, munkaintenzitás növekedése,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ACB64CB-A7E9-4C55-B722-E0F98F9D2E05}"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kapcsolatok leírása</a:t>
            </a:r>
            <a:endParaRPr b="0" lang="en-US" sz="4400" spc="-1" strike="noStrike">
              <a:solidFill>
                <a:srgbClr val="ffffcc"/>
              </a:solidFill>
              <a:latin typeface="Tahoma"/>
            </a:endParaRPr>
          </a:p>
        </p:txBody>
      </p:sp>
      <p:sp>
        <p:nvSpPr>
          <p:cNvPr id="12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következő fázisában az egyedek közötti kapcsolatokat írják le.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 alapja az adatok közös felhasználás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rendszer leírására a </a:t>
            </a:r>
            <a:r>
              <a:rPr b="0" i="1" lang="hu-HU" sz="2400" spc="-1" strike="noStrike">
                <a:solidFill>
                  <a:srgbClr val="ffffff"/>
                </a:solidFill>
                <a:latin typeface="Tahoma"/>
              </a:rPr>
              <a:t>rendszer-specifikációs diagram</a:t>
            </a:r>
            <a:r>
              <a:rPr b="0" lang="hu-HU" sz="2400" spc="-1" strike="noStrike">
                <a:solidFill>
                  <a:srgbClr val="ffffff"/>
                </a:solidFill>
                <a:latin typeface="Tahoma"/>
              </a:rPr>
              <a:t> (SSD) szolgál. Az egyedek kapcsolatainak leírására kétféle eszköz áll rendelkezésr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datfolyam diagram</a:t>
            </a:r>
            <a:r>
              <a:rPr b="0" lang="hu-HU" sz="2000" spc="-1" strike="noStrike">
                <a:solidFill>
                  <a:srgbClr val="ffffff"/>
                </a:solidFill>
                <a:latin typeface="Tahoma"/>
              </a:rPr>
              <a:t>: az egyik egyed által előállított adatot a másik egyed felhasználja bemenő adatként,</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állapotvektor diagram</a:t>
            </a:r>
            <a:r>
              <a:rPr b="0" lang="hu-HU" sz="2000" spc="-1" strike="noStrike">
                <a:solidFill>
                  <a:srgbClr val="ffffff"/>
                </a:solidFill>
                <a:latin typeface="Tahoma"/>
              </a:rPr>
              <a:t>: az egyedek vektorokat használnak állapotaik leírására, amelyeket elolvasva más egyedek is tudomást szerezhetnek az egyed helyzetérő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431683D-0477-4C3B-8199-55D4DA2DE23D}"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D új elemei</a:t>
            </a:r>
            <a:endParaRPr b="0" lang="en-US" sz="4400" spc="-1" strike="noStrike">
              <a:solidFill>
                <a:srgbClr val="ffffcc"/>
              </a:solidFill>
              <a:latin typeface="Tahoma"/>
            </a:endParaRPr>
          </a:p>
        </p:txBody>
      </p:sp>
      <p:sp>
        <p:nvSpPr>
          <p:cNvPr id="1269" name=""/>
          <p:cNvSpPr/>
          <p:nvPr/>
        </p:nvSpPr>
        <p:spPr>
          <a:xfrm>
            <a:off x="0" y="275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0" name=""/>
          <p:cNvGraphicFramePr/>
          <p:nvPr/>
        </p:nvGraphicFramePr>
        <p:xfrm>
          <a:off x="1187280" y="1844640"/>
          <a:ext cx="7417080" cy="1954080"/>
        </p:xfrm>
        <a:graphic>
          <a:graphicData uri="http://schemas.openxmlformats.org/presentationml/2006/ole">
            <p:oleObj r:id="rId1" spid="">
              <p:embed/>
              <p:pic>
                <p:nvPicPr>
                  <p:cNvPr id="1271" name="" descr=""/>
                  <p:cNvPicPr/>
                  <p:nvPr/>
                </p:nvPicPr>
                <p:blipFill>
                  <a:blip r:embed="rId2"/>
                  <a:stretch/>
                </p:blipFill>
                <p:spPr>
                  <a:xfrm>
                    <a:off x="1187280" y="1844640"/>
                    <a:ext cx="7417080" cy="1954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8760C76-921C-469C-A59F-C962BCC4E5B9}" type="slidenum">
              <a:t>331</a:t>
            </a:fld>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strukturált tervezés (SSA/DT) </a:t>
            </a:r>
            <a:endParaRPr b="0" lang="en-US" sz="4000" spc="-1" strike="noStrike">
              <a:solidFill>
                <a:srgbClr val="ffffcc"/>
              </a:solidFill>
              <a:latin typeface="Tahoma"/>
            </a:endParaRPr>
          </a:p>
        </p:txBody>
      </p:sp>
      <p:sp>
        <p:nvSpPr>
          <p:cNvPr id="12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ódszer az 1970-es években fejlődött ki</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esíti az </a:t>
            </a:r>
            <a:r>
              <a:rPr b="0" i="1" lang="hu-HU" sz="2800" spc="-1" strike="noStrike">
                <a:solidFill>
                  <a:srgbClr val="ffffff"/>
                </a:solidFill>
                <a:latin typeface="Tahoma"/>
              </a:rPr>
              <a:t>analízis</a:t>
            </a:r>
            <a:r>
              <a:rPr b="0" lang="hu-HU" sz="2800" spc="-1" strike="noStrike">
                <a:solidFill>
                  <a:srgbClr val="ffffff"/>
                </a:solidFill>
                <a:latin typeface="Tahoma"/>
              </a:rPr>
              <a:t> és a </a:t>
            </a:r>
            <a:r>
              <a:rPr b="0" i="1" lang="hu-HU" sz="2800" spc="-1" strike="noStrike">
                <a:solidFill>
                  <a:srgbClr val="ffffff"/>
                </a:solidFill>
                <a:latin typeface="Tahoma"/>
              </a:rPr>
              <a:t>tervezés</a:t>
            </a:r>
            <a:r>
              <a:rPr b="0" lang="hu-HU" sz="2800" spc="-1" strike="noStrike">
                <a:solidFill>
                  <a:srgbClr val="ffffff"/>
                </a:solidFill>
                <a:latin typeface="Tahoma"/>
              </a:rPr>
              <a:t> részt.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rész a modellezett problémakör absztrakt leírását szolgálj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 során a megvalósítás részletei kerülnek kidolgozásr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SA/DT a hagyományos 'top-down' stratégián alapul, vagyis előbb az absztraktabb szinten, globálisan gondolkodva adják meg a rendszer leírását, amit később, több fázisban, fokozatosan a konkrétabb, részletesebb szintre hozna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BF180D8-DAFF-4429-B40A-ABF42B3B57BC}" type="slidenum">
              <a:t>332</a:t>
            </a:fld>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SSA/DT főbb lépései</a:t>
            </a:r>
            <a:endParaRPr b="0" lang="en-US" sz="4000" spc="-1" strike="noStrike">
              <a:solidFill>
                <a:srgbClr val="ffffcc"/>
              </a:solidFill>
              <a:latin typeface="Tahoma"/>
            </a:endParaRPr>
          </a:p>
        </p:txBody>
      </p:sp>
      <p:sp>
        <p:nvSpPr>
          <p:cNvPr id="1275" name=""/>
          <p:cNvSpPr/>
          <p:nvPr/>
        </p:nvSpPr>
        <p:spPr>
          <a:xfrm>
            <a:off x="0" y="10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6" name=""/>
          <p:cNvGraphicFramePr/>
          <p:nvPr/>
        </p:nvGraphicFramePr>
        <p:xfrm>
          <a:off x="1476360" y="981000"/>
          <a:ext cx="1881360" cy="5112000"/>
        </p:xfrm>
        <a:graphic>
          <a:graphicData uri="http://schemas.openxmlformats.org/presentationml/2006/ole">
            <p:oleObj r:id="rId1" spid="">
              <p:embed/>
              <p:pic>
                <p:nvPicPr>
                  <p:cNvPr id="1277" name="" descr=""/>
                  <p:cNvPicPr/>
                  <p:nvPr/>
                </p:nvPicPr>
                <p:blipFill>
                  <a:blip r:embed="rId2"/>
                  <a:stretch/>
                </p:blipFill>
                <p:spPr>
                  <a:xfrm>
                    <a:off x="1476360" y="981000"/>
                    <a:ext cx="1881360" cy="5112000"/>
                  </a:xfrm>
                  <a:prstGeom prst="rect">
                    <a:avLst/>
                  </a:prstGeom>
                  <a:ln w="0">
                    <a:noFill/>
                  </a:ln>
                </p:spPr>
              </p:pic>
            </p:oleObj>
          </a:graphicData>
        </a:graphic>
      </p:graphicFrame>
      <p:sp>
        <p:nvSpPr>
          <p:cNvPr id="1278" name=""/>
          <p:cNvSpPr/>
          <p:nvPr/>
        </p:nvSpPr>
        <p:spPr>
          <a:xfrm>
            <a:off x="3492360" y="55897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FD = Data Flow Diagram: adatfolyam diagram)</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F7304C2-191F-4A97-9698-CC27216B119E}" type="slidenum">
              <a:t>333</a:t>
            </a:fld>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DFD négy alapelemet használ a folyamatok leírásár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r (vagy ellipszis), amely egy tevékenységet, műveletet szimbolizá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églalap, mely külső információforrást vagy -nyelőt jelen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árhuzamos vonal adatállományt jelö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ányított él, mely az adat, az információ áramlását mutatja.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28A698-6F2F-43E7-8BF2-08582645EEAC}" type="slidenum">
              <a:t>334</a:t>
            </a:fld>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2" name="PlaceHolder 2"/>
          <p:cNvSpPr>
            <a:spLocks noGrp="1"/>
          </p:cNvSpPr>
          <p:nvPr>
            <p:ph/>
          </p:nvPr>
        </p:nvSpPr>
        <p:spPr>
          <a:xfrm>
            <a:off x="324000" y="1557000"/>
            <a:ext cx="8540640" cy="576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 DFD formalizmusban.</a:t>
            </a:r>
            <a:endParaRPr b="0" lang="en-US" sz="1800" spc="-1" strike="noStrike">
              <a:solidFill>
                <a:srgbClr val="ffffff"/>
              </a:solidFill>
              <a:latin typeface="Tahoma"/>
            </a:endParaRPr>
          </a:p>
        </p:txBody>
      </p:sp>
      <p:sp>
        <p:nvSpPr>
          <p:cNvPr id="1283"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84" name=""/>
          <p:cNvGraphicFramePr/>
          <p:nvPr/>
        </p:nvGraphicFramePr>
        <p:xfrm>
          <a:off x="1403280" y="2185920"/>
          <a:ext cx="6048360" cy="3868920"/>
        </p:xfrm>
        <a:graphic>
          <a:graphicData uri="http://schemas.openxmlformats.org/presentationml/2006/ole">
            <p:oleObj r:id="rId1" spid="">
              <p:embed/>
              <p:pic>
                <p:nvPicPr>
                  <p:cNvPr id="1285" name="" descr=""/>
                  <p:cNvPicPr/>
                  <p:nvPr/>
                </p:nvPicPr>
                <p:blipFill>
                  <a:blip r:embed="rId2"/>
                  <a:stretch/>
                </p:blipFill>
                <p:spPr>
                  <a:xfrm>
                    <a:off x="1403280" y="2185920"/>
                    <a:ext cx="6048360" cy="3868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03053F-EC47-4BD5-BC63-38D36F067A18}" type="slidenum">
              <a:t>335</a:t>
            </a:fld>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T lépései</a:t>
            </a:r>
            <a:endParaRPr b="0" lang="en-US" sz="4400" spc="-1" strike="noStrike">
              <a:solidFill>
                <a:srgbClr val="ffffcc"/>
              </a:solidFill>
              <a:latin typeface="Tahoma"/>
            </a:endParaRPr>
          </a:p>
        </p:txBody>
      </p:sp>
      <p:sp>
        <p:nvSpPr>
          <p:cNvPr id="12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emzés során a 'top-down' elvnek megfelelően egy alap DFD-ből indulnak ki, mely egyetlen egy funkcióból áll, mely az egész modellezett problémát lefed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sőbbiekben ezt felbontják több részlépés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FD-t felbontják különálló részcsoportokra, ahol a felbontás alapját a valóságban lezajló műveletsorok alkotjá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készítik a </a:t>
            </a:r>
            <a:r>
              <a:rPr b="0" i="1" lang="hu-HU" sz="2000" spc="-1" strike="noStrike">
                <a:solidFill>
                  <a:srgbClr val="ffffff"/>
                </a:solidFill>
                <a:latin typeface="Tahoma"/>
              </a:rPr>
              <a:t>struktúra diagramot</a:t>
            </a:r>
            <a:r>
              <a:rPr b="0" lang="hu-HU" sz="2000" spc="-1" strike="noStrike">
                <a:solidFill>
                  <a:srgbClr val="ffffff"/>
                </a:solidFill>
                <a:latin typeface="Tahoma"/>
              </a:rPr>
              <a:t> (</a:t>
            </a:r>
            <a:r>
              <a:rPr b="0" i="1" lang="hu-HU" sz="2000" spc="-1" strike="noStrike">
                <a:solidFill>
                  <a:srgbClr val="ffffff"/>
                </a:solidFill>
                <a:latin typeface="Tahoma"/>
              </a:rPr>
              <a:t>SC, structure chart</a:t>
            </a:r>
            <a:r>
              <a:rPr b="0" lang="hu-HU" sz="2000" spc="-1" strike="noStrike">
                <a:solidFill>
                  <a:srgbClr val="ffffff"/>
                </a:solidFill>
                <a:latin typeface="Tahoma"/>
              </a:rPr>
              <a:t>) amely  már a szoftverrendszer belső struktúrájának a leírására szolgál, ugyanis tartalmazza a definiálandó eljárásokat és azok hívási kapcsolatait.</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járásokat hierarchikus struktúrába lehet rendez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SA/DT tervezési fázisa az egyes modell ellenőrzésével, az átfedések, ellentmondások felderítésével és kiküszöbölésével fejeződik be.</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38A891D-6A23-4720-BDE9-1B549D298EE9}" type="slidenum">
              <a:t>336</a:t>
            </a:fld>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truktúra leírás</a:t>
            </a:r>
            <a:endParaRPr b="0" lang="en-US" sz="4400" spc="-1" strike="noStrike">
              <a:solidFill>
                <a:srgbClr val="ffffcc"/>
              </a:solidFill>
              <a:latin typeface="Tahoma"/>
            </a:endParaRPr>
          </a:p>
        </p:txBody>
      </p:sp>
      <p:sp>
        <p:nvSpPr>
          <p:cNvPr id="1289" name="PlaceHolder 2"/>
          <p:cNvSpPr>
            <a:spLocks noGrp="1"/>
          </p:cNvSpPr>
          <p:nvPr>
            <p:ph/>
          </p:nvPr>
        </p:nvSpPr>
        <p:spPr>
          <a:xfrm>
            <a:off x="395280" y="1557360"/>
            <a:ext cx="3456000" cy="3989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ruktúra leírás grafikus elemei:</a:t>
            </a:r>
            <a:endParaRPr b="0" lang="en-US" sz="24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églalap, mely egy eljárást azonosít;</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l, mely egy eljárás meghívását jelöli;</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 mely  az adatáramlás irányát mutatja.</a:t>
            </a:r>
            <a:endParaRPr b="0" lang="en-US" sz="2000" spc="-1" strike="noStrike">
              <a:solidFill>
                <a:srgbClr val="ffffff"/>
              </a:solidFill>
              <a:latin typeface="Tahoma"/>
            </a:endParaRPr>
          </a:p>
        </p:txBody>
      </p:sp>
      <p:sp>
        <p:nvSpPr>
          <p:cNvPr id="1290" name=""/>
          <p:cNvSpPr/>
          <p:nvPr/>
        </p:nvSpPr>
        <p:spPr>
          <a:xfrm>
            <a:off x="0" y="230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1" name=""/>
          <p:cNvGraphicFramePr/>
          <p:nvPr/>
        </p:nvGraphicFramePr>
        <p:xfrm>
          <a:off x="3492360" y="1916280"/>
          <a:ext cx="5185080" cy="2624040"/>
        </p:xfrm>
        <a:graphic>
          <a:graphicData uri="http://schemas.openxmlformats.org/presentationml/2006/ole">
            <p:oleObj r:id="rId1" spid="">
              <p:embed/>
              <p:pic>
                <p:nvPicPr>
                  <p:cNvPr id="1292" name="" descr=""/>
                  <p:cNvPicPr/>
                  <p:nvPr/>
                </p:nvPicPr>
                <p:blipFill>
                  <a:blip r:embed="rId2"/>
                  <a:stretch/>
                </p:blipFill>
                <p:spPr>
                  <a:xfrm>
                    <a:off x="3492360" y="1916280"/>
                    <a:ext cx="5185080" cy="2624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B628EF-A5AB-4BED-8CA2-E3E638E307A1}" type="slidenum">
              <a:t>337</a:t>
            </a:fld>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tervezési módszertana (SSADM)</a:t>
            </a:r>
            <a:endParaRPr b="0" lang="en-US" sz="4000" spc="-1" strike="noStrike">
              <a:solidFill>
                <a:srgbClr val="ffffcc"/>
              </a:solidFill>
              <a:latin typeface="Tahoma"/>
            </a:endParaRPr>
          </a:p>
        </p:txBody>
      </p:sp>
      <p:sp>
        <p:nvSpPr>
          <p:cNvPr id="12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SSADM</a:t>
            </a:r>
            <a:r>
              <a:rPr b="0" lang="hu-HU" sz="2400" spc="-1" strike="noStrike">
                <a:solidFill>
                  <a:srgbClr val="ffffff"/>
                </a:solidFill>
                <a:latin typeface="Tahoma"/>
              </a:rPr>
              <a:t> az 1980-as évek elején jött létre Angliában, ahol nem sokkal megjelenése után szabvánnyá is vál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a szoftverfejlesztés </a:t>
            </a:r>
            <a:r>
              <a:rPr b="0" i="1" lang="hu-HU" sz="2400" spc="-1" strike="noStrike">
                <a:solidFill>
                  <a:srgbClr val="ffffff"/>
                </a:solidFill>
                <a:latin typeface="Tahoma"/>
              </a:rPr>
              <a:t>analízis</a:t>
            </a:r>
            <a:r>
              <a:rPr b="0" lang="hu-HU" sz="2400" spc="-1" strike="noStrike">
                <a:solidFill>
                  <a:srgbClr val="ffffff"/>
                </a:solidFill>
                <a:latin typeface="Tahoma"/>
              </a:rPr>
              <a:t> és</a:t>
            </a:r>
            <a:r>
              <a:rPr b="0" i="1" lang="hu-HU" sz="2400" spc="-1" strike="noStrike">
                <a:solidFill>
                  <a:srgbClr val="ffffff"/>
                </a:solidFill>
                <a:latin typeface="Tahoma"/>
              </a:rPr>
              <a:t> tervezés </a:t>
            </a:r>
            <a:r>
              <a:rPr b="0" lang="hu-HU" sz="2400" spc="-1" strike="noStrike">
                <a:solidFill>
                  <a:srgbClr val="ffffff"/>
                </a:solidFill>
                <a:latin typeface="Tahoma"/>
              </a:rPr>
              <a:t>fázisait fogja át.</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mint minden fejlesztési módszertan, a nagyobb méretű alkalmazások esetén nyújt jelentős segítsége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ennek megfelelően nagy súlyt fektet az egyes tervezési lépések eredményeinek folyamatos ellenőrzésére, a leendő felhasználókkal történő konzultációkra.</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ben az </a:t>
            </a:r>
            <a:r>
              <a:rPr b="0" i="1" lang="hu-HU" sz="2400" spc="-1" strike="noStrike">
                <a:solidFill>
                  <a:srgbClr val="ffffff"/>
                </a:solidFill>
                <a:latin typeface="Tahoma"/>
              </a:rPr>
              <a:t>adatorientált megközelítés</a:t>
            </a:r>
            <a:r>
              <a:rPr b="0" lang="hu-HU" sz="2400" spc="-1" strike="noStrike">
                <a:solidFill>
                  <a:srgbClr val="ffffff"/>
                </a:solidFill>
                <a:latin typeface="Tahoma"/>
              </a:rPr>
              <a:t> domináns. A tapasztalat szerint nagyobb eséllyel változik meg a feldolgozás módja, mint a feldolgozott anyag, ad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072122-806C-4FA0-B725-BB291452F868}" type="slidenum">
              <a:t>338</a:t>
            </a:fld>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SSADM lépései</a:t>
            </a:r>
            <a:endParaRPr b="0" lang="en-US" sz="4400" spc="-1" strike="noStrike">
              <a:solidFill>
                <a:srgbClr val="ffffcc"/>
              </a:solidFill>
              <a:latin typeface="Tahoma"/>
            </a:endParaRPr>
          </a:p>
        </p:txBody>
      </p:sp>
      <p:sp>
        <p:nvSpPr>
          <p:cNvPr id="1296" name=""/>
          <p:cNvSpPr/>
          <p:nvPr/>
        </p:nvSpPr>
        <p:spPr>
          <a:xfrm>
            <a:off x="0" y="5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7" name=""/>
          <p:cNvGraphicFramePr/>
          <p:nvPr/>
        </p:nvGraphicFramePr>
        <p:xfrm>
          <a:off x="826920" y="1197000"/>
          <a:ext cx="2100600" cy="4824360"/>
        </p:xfrm>
        <a:graphic>
          <a:graphicData uri="http://schemas.openxmlformats.org/presentationml/2006/ole">
            <p:oleObj r:id="rId1" spid="">
              <p:embed/>
              <p:pic>
                <p:nvPicPr>
                  <p:cNvPr id="1298" name="" descr=""/>
                  <p:cNvPicPr/>
                  <p:nvPr/>
                </p:nvPicPr>
                <p:blipFill>
                  <a:blip r:embed="rId2"/>
                  <a:stretch/>
                </p:blipFill>
                <p:spPr>
                  <a:xfrm>
                    <a:off x="826920" y="1197000"/>
                    <a:ext cx="2100600" cy="4824360"/>
                  </a:xfrm>
                  <a:prstGeom prst="rect">
                    <a:avLst/>
                  </a:prstGeom>
                  <a:ln w="0">
                    <a:noFill/>
                  </a:ln>
                </p:spPr>
              </p:pic>
            </p:oleObj>
          </a:graphicData>
        </a:graphic>
      </p:graphicFrame>
      <p:sp>
        <p:nvSpPr>
          <p:cNvPr id="1299" name=""/>
          <p:cNvSpPr/>
          <p:nvPr/>
        </p:nvSpPr>
        <p:spPr>
          <a:xfrm>
            <a:off x="3276720" y="5516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DS = Logical Data Structure logikai adatstruktúr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B26EB7E-9519-4A7C-98A1-3E54555C8FE1}" type="slidenum">
              <a:t>3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Új munkakörök jelentek meg közép- és felsőfokú képesítési igénnyel (pl.:  a törzskari, a fenntartó és a szolgáltató szervekbe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ámítástechnikusok és informatikusok szükségesek:</a:t>
            </a:r>
            <a:endParaRPr b="0" lang="en-US" sz="28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gyártó összeszerelő és forgalmazó cégeknél, </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es folyamatirányítást alkalmazó gyáraknál,</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i hálózatokat alkalmazó szolgáltató vállalatoknál.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74E1CB4-CCBC-46F5-B2EA-811522C1E072}" type="slidenum">
              <a:t>34</a:t>
            </a:fld>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M</a:t>
            </a:r>
            <a:endParaRPr b="0" lang="en-US" sz="4400" spc="-1" strike="noStrike">
              <a:solidFill>
                <a:srgbClr val="ffffcc"/>
              </a:solidFill>
              <a:latin typeface="Tahoma"/>
            </a:endParaRPr>
          </a:p>
        </p:txBody>
      </p:sp>
      <p:sp>
        <p:nvSpPr>
          <p:cNvPr id="13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SADM a rendszerfejlesztés során három különböző oldalról is megvizsgálja a problématerületet, három különböző részmodellt hozva létr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kapcsolatok leír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tevékenységek kapcsolata, az adatok áramlása a tevékenységek közöt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egyedek módosulásainak történe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291F18D-5D52-408E-9279-134AB934DEF2}" type="slidenum">
              <a:t>340</a:t>
            </a:fld>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LDS diagram</a:t>
            </a:r>
            <a:endParaRPr b="0" lang="en-US" sz="4400" spc="-1" strike="noStrike">
              <a:solidFill>
                <a:srgbClr val="ffffcc"/>
              </a:solidFill>
              <a:latin typeface="Tahoma"/>
            </a:endParaRPr>
          </a:p>
        </p:txBody>
      </p:sp>
      <p:sp>
        <p:nvSpPr>
          <p:cNvPr id="1303" name=""/>
          <p:cNvSpPr/>
          <p:nvPr/>
        </p:nvSpPr>
        <p:spPr>
          <a:xfrm>
            <a:off x="0" y="212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04" name=""/>
          <p:cNvGraphicFramePr/>
          <p:nvPr/>
        </p:nvGraphicFramePr>
        <p:xfrm>
          <a:off x="611280" y="1916280"/>
          <a:ext cx="7632720" cy="3787560"/>
        </p:xfrm>
        <a:graphic>
          <a:graphicData uri="http://schemas.openxmlformats.org/presentationml/2006/ole">
            <p:oleObj r:id="rId1" spid="">
              <p:embed/>
              <p:pic>
                <p:nvPicPr>
                  <p:cNvPr id="1305" name="" descr=""/>
                  <p:cNvPicPr/>
                  <p:nvPr/>
                </p:nvPicPr>
                <p:blipFill>
                  <a:blip r:embed="rId2"/>
                  <a:stretch/>
                </p:blipFill>
                <p:spPr>
                  <a:xfrm>
                    <a:off x="611280" y="1916280"/>
                    <a:ext cx="7632720" cy="3787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E872F93-7ED6-4D0D-A508-335BBED8E9CA}" type="slidenum">
              <a:t>341</a:t>
            </a:fld>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datfolyam diagramok</a:t>
            </a:r>
            <a:r>
              <a:rPr b="0" lang="hu-HU" sz="2400" spc="-1" strike="noStrike">
                <a:solidFill>
                  <a:srgbClr val="ffffff"/>
                </a:solidFill>
                <a:latin typeface="Tahoma"/>
              </a:rPr>
              <a:t> az információ áramlását mutatják be, s ezen keresztül a rendszer dinamikus jellegét képezik l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agram pontosan definiálja a rendszer környezetét is, megadva, hogy milyen funkciók részei a rendszernek, illetve mely adatok származnak a környezetből.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datfolyam diagram funkciójában és formalizmusában is szoros rokonságot mutat fel az SSA/DT rendszer DFD diagramjával. A két modell között eltérés az egyes elemek jelölésrendszerében illetve az adatok kijelölésében található.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CA9E763-A925-47C9-9490-E638398E4555}" type="slidenum">
              <a:t>342</a:t>
            </a:fld>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9" name=""/>
          <p:cNvSpPr/>
          <p:nvPr/>
        </p:nvSpPr>
        <p:spPr>
          <a:xfrm>
            <a:off x="0" y="208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0" name=""/>
          <p:cNvGraphicFramePr/>
          <p:nvPr/>
        </p:nvGraphicFramePr>
        <p:xfrm>
          <a:off x="1619280" y="2168640"/>
          <a:ext cx="6048360" cy="3662280"/>
        </p:xfrm>
        <a:graphic>
          <a:graphicData uri="http://schemas.openxmlformats.org/presentationml/2006/ole">
            <p:oleObj r:id="rId1" spid="">
              <p:embed/>
              <p:pic>
                <p:nvPicPr>
                  <p:cNvPr id="1311" name="" descr=""/>
                  <p:cNvPicPr/>
                  <p:nvPr/>
                </p:nvPicPr>
                <p:blipFill>
                  <a:blip r:embed="rId2"/>
                  <a:stretch/>
                </p:blipFill>
                <p:spPr>
                  <a:xfrm>
                    <a:off x="1619280" y="2168640"/>
                    <a:ext cx="6048360" cy="3662280"/>
                  </a:xfrm>
                  <a:prstGeom prst="rect">
                    <a:avLst/>
                  </a:prstGeom>
                  <a:ln w="0">
                    <a:noFill/>
                  </a:ln>
                </p:spPr>
              </p:pic>
            </p:oleObj>
          </a:graphicData>
        </a:graphic>
      </p:graphicFrame>
      <p:sp>
        <p:nvSpPr>
          <p:cNvPr id="1312" name=""/>
          <p:cNvSpPr/>
          <p:nvPr/>
        </p:nvSpPr>
        <p:spPr>
          <a:xfrm>
            <a:off x="324000" y="170028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16B09DB-9278-46C6-9AE3-BE12A8567EF1}" type="slidenum">
              <a:t>343</a:t>
            </a:fld>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 </a:t>
            </a:r>
            <a:endParaRPr b="0" lang="en-US" sz="4400" spc="-1" strike="noStrike">
              <a:solidFill>
                <a:srgbClr val="ffffcc"/>
              </a:solidFill>
              <a:latin typeface="Tahoma"/>
            </a:endParaRPr>
          </a:p>
        </p:txBody>
      </p:sp>
      <p:sp>
        <p:nvSpPr>
          <p:cNvPr id="13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egyed-történet diagramok</a:t>
            </a:r>
            <a:r>
              <a:rPr b="0" lang="hu-HU" sz="2800" spc="-1" strike="noStrike">
                <a:solidFill>
                  <a:srgbClr val="ffffff"/>
                </a:solidFill>
                <a:latin typeface="Tahoma"/>
              </a:rPr>
              <a:t> a rendszer adatainak a bekövetkező események hatására történő megváltozását mutatják be.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minden egyedre megadja az egyedhez tartozó eseményeket, tevékenységeket és azok időbeli kapcsolatai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formalizmusa megegyezik a korábbi struktúra diagramok formalizmusával.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semények alkothatnak szekvenciát, ciklus (iterációt) és elágazás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EDC244D-14C1-4633-A16B-74CD3BEF9587}"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a:t>
            </a:r>
            <a:endParaRPr b="0" lang="en-US" sz="4400" spc="-1" strike="noStrike">
              <a:solidFill>
                <a:srgbClr val="ffffcc"/>
              </a:solidFill>
              <a:latin typeface="Tahoma"/>
            </a:endParaRPr>
          </a:p>
        </p:txBody>
      </p:sp>
      <p:sp>
        <p:nvSpPr>
          <p:cNvPr id="1316"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7" name=""/>
          <p:cNvGraphicFramePr/>
          <p:nvPr/>
        </p:nvGraphicFramePr>
        <p:xfrm>
          <a:off x="1042920" y="2205000"/>
          <a:ext cx="7345440" cy="2497320"/>
        </p:xfrm>
        <a:graphic>
          <a:graphicData uri="http://schemas.openxmlformats.org/presentationml/2006/ole">
            <p:oleObj r:id="rId1" spid="">
              <p:embed/>
              <p:pic>
                <p:nvPicPr>
                  <p:cNvPr id="1318" name="" descr=""/>
                  <p:cNvPicPr/>
                  <p:nvPr/>
                </p:nvPicPr>
                <p:blipFill>
                  <a:blip r:embed="rId2"/>
                  <a:stretch/>
                </p:blipFill>
                <p:spPr>
                  <a:xfrm>
                    <a:off x="1042920" y="2205000"/>
                    <a:ext cx="7345440" cy="24973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9DA72A3-3F4A-4D10-8E36-E9FE3DD3A17A}" type="slidenum">
              <a:t>345</a:t>
            </a:fld>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mátrix </a:t>
            </a:r>
            <a:endParaRPr b="0" lang="en-US" sz="4400" spc="-1" strike="noStrike">
              <a:solidFill>
                <a:srgbClr val="ffffcc"/>
              </a:solidFill>
              <a:latin typeface="Tahoma"/>
            </a:endParaRPr>
          </a:p>
        </p:txBody>
      </p:sp>
      <p:sp>
        <p:nvSpPr>
          <p:cNvPr id="1320"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1" name=""/>
          <p:cNvGraphicFramePr/>
          <p:nvPr/>
        </p:nvGraphicFramePr>
        <p:xfrm>
          <a:off x="900000" y="2708280"/>
          <a:ext cx="7488360" cy="3403440"/>
        </p:xfrm>
        <a:graphic>
          <a:graphicData uri="http://schemas.openxmlformats.org/presentationml/2006/ole">
            <p:oleObj r:id="rId1" spid="">
              <p:embed/>
              <p:pic>
                <p:nvPicPr>
                  <p:cNvPr id="1322" name="" descr=""/>
                  <p:cNvPicPr/>
                  <p:nvPr/>
                </p:nvPicPr>
                <p:blipFill>
                  <a:blip r:embed="rId2"/>
                  <a:stretch/>
                </p:blipFill>
                <p:spPr>
                  <a:xfrm>
                    <a:off x="900000" y="2708280"/>
                    <a:ext cx="7488360" cy="3403440"/>
                  </a:xfrm>
                  <a:prstGeom prst="rect">
                    <a:avLst/>
                  </a:prstGeom>
                  <a:ln w="0">
                    <a:noFill/>
                  </a:ln>
                </p:spPr>
              </p:pic>
            </p:oleObj>
          </a:graphicData>
        </a:graphic>
      </p:graphicFrame>
      <p:sp>
        <p:nvSpPr>
          <p:cNvPr id="1323" name=""/>
          <p:cNvSpPr/>
          <p:nvPr/>
        </p:nvSpPr>
        <p:spPr>
          <a:xfrm>
            <a:off x="684360" y="14130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ek és a tevékenységek, események kapcsolatát összefoglalóan, az össze egyedre és az összes eseményre vonatkozóan az </a:t>
            </a:r>
            <a:r>
              <a:rPr b="0" i="1" lang="hu-HU" sz="1800" spc="-1" strike="noStrike">
                <a:solidFill>
                  <a:srgbClr val="ffffff"/>
                </a:solidFill>
                <a:latin typeface="Tahoma"/>
              </a:rPr>
              <a:t>egyed-történet mátrix</a:t>
            </a:r>
            <a:r>
              <a:rPr b="0" lang="hu-HU" sz="1800" spc="-1" strike="noStrike">
                <a:solidFill>
                  <a:srgbClr val="ffffff"/>
                </a:solidFill>
                <a:latin typeface="Tahoma"/>
              </a:rPr>
              <a:t> mutatja be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7AD81B0-75EF-47B7-B7D4-1A09E91CC693}"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ialógusvázlat (LDO)</a:t>
            </a:r>
            <a:endParaRPr b="0" lang="en-US" sz="4400" spc="-1" strike="noStrike">
              <a:solidFill>
                <a:srgbClr val="ffffcc"/>
              </a:solidFill>
              <a:latin typeface="Tahoma"/>
            </a:endParaRPr>
          </a:p>
        </p:txBody>
      </p:sp>
      <p:sp>
        <p:nvSpPr>
          <p:cNvPr id="1325" name="PlaceHolder 2"/>
          <p:cNvSpPr>
            <a:spLocks noGrp="1"/>
          </p:cNvSpPr>
          <p:nvPr>
            <p:ph/>
          </p:nvPr>
        </p:nvSpPr>
        <p:spPr>
          <a:xfrm>
            <a:off x="324000" y="1628280"/>
            <a:ext cx="4341600" cy="3745080"/>
          </a:xfrm>
          <a:prstGeom prst="rect">
            <a:avLst/>
          </a:prstGeom>
          <a:noFill/>
          <a:ln w="0">
            <a:noFill/>
          </a:ln>
        </p:spPr>
        <p:txBody>
          <a:bodyPr lIns="90000" rIns="90000" tIns="46800" bIns="46800"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 vázlat technika lehetővé teszi az ember-gép kapcsolat, párbeszéd megtervezését. Minden interaktív eseményhez készül egy dialógusvázl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vázlat leírja az ember-gép párbeszéd logikai felépítését és az érintett adatok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3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7" name=""/>
          <p:cNvGraphicFramePr/>
          <p:nvPr/>
        </p:nvGraphicFramePr>
        <p:xfrm>
          <a:off x="4932360" y="1628640"/>
          <a:ext cx="3949560" cy="3203640"/>
        </p:xfrm>
        <a:graphic>
          <a:graphicData uri="http://schemas.openxmlformats.org/presentationml/2006/ole">
            <p:oleObj r:id="rId1" spid="">
              <p:embed/>
              <p:pic>
                <p:nvPicPr>
                  <p:cNvPr id="1328" name="" descr=""/>
                  <p:cNvPicPr/>
                  <p:nvPr/>
                </p:nvPicPr>
                <p:blipFill>
                  <a:blip r:embed="rId2"/>
                  <a:stretch/>
                </p:blipFill>
                <p:spPr>
                  <a:xfrm>
                    <a:off x="4932360" y="1628640"/>
                    <a:ext cx="3949560" cy="32036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B712A5-2841-4821-AB7F-7639D1681C76}" type="slidenum">
              <a:t>347</a:t>
            </a:fld>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zsgált rendszer viselkedésnek, dinamikus vetületének leírására az egyik gyakran alkalmazott módszer az </a:t>
            </a:r>
            <a:r>
              <a:rPr b="0" i="1" lang="hu-HU" sz="2400" spc="-1" strike="noStrike">
                <a:solidFill>
                  <a:srgbClr val="ffffff"/>
                </a:solidFill>
                <a:latin typeface="Tahoma"/>
              </a:rPr>
              <a:t>állapot átmenet diagram</a:t>
            </a:r>
            <a:r>
              <a:rPr b="0" lang="hu-HU" sz="2400" spc="-1" strike="noStrike">
                <a:solidFill>
                  <a:srgbClr val="ffffff"/>
                </a:solidFill>
                <a:latin typeface="Tahoma"/>
              </a:rPr>
              <a:t> (State Transition Diagram = </a:t>
            </a:r>
            <a:r>
              <a:rPr b="0" i="1" lang="hu-HU" sz="2400" spc="-1" strike="noStrike">
                <a:solidFill>
                  <a:srgbClr val="ffffff"/>
                </a:solidFill>
                <a:latin typeface="Tahoma"/>
              </a:rPr>
              <a:t>STD</a:t>
            </a:r>
            <a:r>
              <a:rPr b="0" lang="hu-H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TD olyan rendszerekhez használható adekvát módon, amelyek a </a:t>
            </a:r>
            <a:r>
              <a:rPr b="0" i="1" lang="hu-HU" sz="2400" spc="-1" strike="noStrike">
                <a:solidFill>
                  <a:srgbClr val="ffffff"/>
                </a:solidFill>
                <a:latin typeface="Tahoma"/>
              </a:rPr>
              <a:t>véges automaták</a:t>
            </a:r>
            <a:r>
              <a:rPr b="0" lang="hu-HU" sz="2400" spc="-1" strike="noStrike">
                <a:solidFill>
                  <a:srgbClr val="ffffff"/>
                </a:solidFill>
                <a:latin typeface="Tahoma"/>
              </a:rPr>
              <a:t> (Finite State Machine = </a:t>
            </a:r>
            <a:r>
              <a:rPr b="0" i="1" lang="hu-HU" sz="2400" spc="-1" strike="noStrike">
                <a:solidFill>
                  <a:srgbClr val="ffffff"/>
                </a:solidFill>
                <a:latin typeface="Tahoma"/>
              </a:rPr>
              <a:t>FSM</a:t>
            </a:r>
            <a:r>
              <a:rPr b="0" lang="hu-HU" sz="2400" spc="-1" strike="noStrike">
                <a:solidFill>
                  <a:srgbClr val="ffffff"/>
                </a:solidFill>
                <a:latin typeface="Tahoma"/>
              </a:rPr>
              <a:t>) köréhez tartoznak.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FSM elnevezés olyan rendszert jelöl, melynek véges sok különböző állapota lehet, s minden időpontban pontosan egy adott állapotban van a rendszer. A rendszer az idő múlásával megváltoztathatja állapotát, ahol az állapotváltozás, az új állapot a rendszer aktuális állapotától, s a környezettől kapott bemenő adatoktól függ. Az állapotváltozással párhuzamosan kimenő adatokat is generálhat a rendszer.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21F71F-2FB1-4D1E-8D4F-015F0BA1E12D}" type="slidenum">
              <a:t>348</a:t>
            </a:fld>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TD az állapotok jelzésére és a közöttük lezajló állapotátmenetek megadására szolgáló formalizmus, amely az alábbi négy alkotóelemből épül fel:</a:t>
            </a:r>
            <a:endParaRPr b="0" lang="en-US" sz="28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melyet egy téglalap vagy ellipszis reprezentál, s a téglalapban (ellipszisben) megadják az állapot jellemzésére szolgáló leírást;</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átmenetek, melyek jelzésére nyilakat alkalmaznak;</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 feltételei, melyeket szöveges formában adnak meg;</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nél bekövetkező tevékenységek, amit szintén az átmenethez tartozó nyílnál adnak meg.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7D0D1DA-CB13-4350-9FD1-FDDD4CB455C5}" type="slidenum">
              <a:t>34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izonyos informatikai szakágazatok hagyományosan specializáltak maradta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talános adatfeldolgoz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szer</a:t>
            </a:r>
            <a:r>
              <a:rPr b="0" lang="en-US" sz="2400" spc="-1" strike="noStrike">
                <a:solidFill>
                  <a:srgbClr val="ffffff"/>
                </a:solidFill>
                <a:latin typeface="Tahoma"/>
              </a:rPr>
              <a:t>-</a:t>
            </a:r>
            <a:r>
              <a:rPr b="0" lang="hu-HU" sz="2400" spc="-1" strike="noStrike">
                <a:solidFill>
                  <a:srgbClr val="ffffff"/>
                </a:solidFill>
                <a:latin typeface="Tahoma"/>
              </a:rPr>
              <a:t>technikusok, </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technológuso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61744F7-960B-41F5-8954-3D323F619242}" type="slidenum">
              <a:t>35</a:t>
            </a:fld>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3" name=""/>
          <p:cNvSpPr/>
          <p:nvPr/>
        </p:nvSpPr>
        <p:spPr>
          <a:xfrm>
            <a:off x="0" y="24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4" name=""/>
          <p:cNvGraphicFramePr/>
          <p:nvPr/>
        </p:nvGraphicFramePr>
        <p:xfrm>
          <a:off x="395280" y="2406600"/>
          <a:ext cx="8424720" cy="3360960"/>
        </p:xfrm>
        <a:graphic>
          <a:graphicData uri="http://schemas.openxmlformats.org/presentationml/2006/ole">
            <p:oleObj r:id="rId1" spid="">
              <p:embed/>
              <p:pic>
                <p:nvPicPr>
                  <p:cNvPr id="1335" name="" descr=""/>
                  <p:cNvPicPr/>
                  <p:nvPr/>
                </p:nvPicPr>
                <p:blipFill>
                  <a:blip r:embed="rId2"/>
                  <a:stretch/>
                </p:blipFill>
                <p:spPr>
                  <a:xfrm>
                    <a:off x="395280" y="2406600"/>
                    <a:ext cx="8424720" cy="3360960"/>
                  </a:xfrm>
                  <a:prstGeom prst="rect">
                    <a:avLst/>
                  </a:prstGeom>
                  <a:ln w="0">
                    <a:noFill/>
                  </a:ln>
                </p:spPr>
              </p:pic>
            </p:oleObj>
          </a:graphicData>
        </a:graphic>
      </p:graphicFrame>
      <p:sp>
        <p:nvSpPr>
          <p:cNvPr id="1336" name=""/>
          <p:cNvSpPr/>
          <p:nvPr/>
        </p:nvSpPr>
        <p:spPr>
          <a:xfrm>
            <a:off x="468360" y="1197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telefonálás folyamatát leíró modell</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5101843-3BA0-450A-AA6B-8588DC0E11EB}" type="slidenum">
              <a:t>350</a:t>
            </a:fld>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8"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9" name=""/>
          <p:cNvGraphicFramePr/>
          <p:nvPr/>
        </p:nvGraphicFramePr>
        <p:xfrm>
          <a:off x="900000" y="2335320"/>
          <a:ext cx="7272360" cy="3608280"/>
        </p:xfrm>
        <a:graphic>
          <a:graphicData uri="http://schemas.openxmlformats.org/presentationml/2006/ole">
            <p:oleObj r:id="rId1" spid="">
              <p:embed/>
              <p:pic>
                <p:nvPicPr>
                  <p:cNvPr id="1340" name="" descr=""/>
                  <p:cNvPicPr/>
                  <p:nvPr/>
                </p:nvPicPr>
                <p:blipFill>
                  <a:blip r:embed="rId2"/>
                  <a:stretch/>
                </p:blipFill>
                <p:spPr>
                  <a:xfrm>
                    <a:off x="900000" y="2335320"/>
                    <a:ext cx="7272360" cy="3608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2604570-5CF2-47D7-9195-3A3291AB04E3}" type="slidenum">
              <a:t>351</a:t>
            </a:fld>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 </a:t>
            </a:r>
            <a:endParaRPr b="0" lang="en-US" sz="4400" spc="-1" strike="noStrike">
              <a:solidFill>
                <a:srgbClr val="ffffcc"/>
              </a:solidFill>
              <a:latin typeface="Tahoma"/>
            </a:endParaRPr>
          </a:p>
        </p:txBody>
      </p:sp>
      <p:sp>
        <p:nvSpPr>
          <p:cNvPr id="13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döntési táblázat</a:t>
            </a:r>
            <a:r>
              <a:rPr b="0" lang="hu-HU" sz="2800" spc="-1" strike="noStrike">
                <a:solidFill>
                  <a:srgbClr val="ffffff"/>
                </a:solidFill>
                <a:latin typeface="Tahoma"/>
              </a:rPr>
              <a:t> két részből áll.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 rész minden sora megfelel egy-egy input eseménynek, feltételnek. Az egyes oszlopok a feltételek együttes előfordulásainak felelnek meg. Minden oszlop egy-egy kombinációt reprezentál.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blázat másik része a választevékenységeket tartalmazza. Ebben minden sor egy-egy választevékenységet jelent. A második táblázat oszlopainak darabszáma megegyezik az első táblázat oszlopszámával. Az egymás alatti oszlopok egy feltétel és egy választevékenység kombinációt kötnek ös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AF513F-DDDB-4310-96C4-ACCC910B6079}" type="slidenum">
              <a:t>352</a:t>
            </a:fld>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a:t>
            </a:r>
            <a:endParaRPr b="0" lang="en-US" sz="4400" spc="-1" strike="noStrike">
              <a:solidFill>
                <a:srgbClr val="ffffcc"/>
              </a:solidFill>
              <a:latin typeface="Tahoma"/>
            </a:endParaRPr>
          </a:p>
        </p:txBody>
      </p:sp>
      <p:sp>
        <p:nvSpPr>
          <p:cNvPr id="1344" name="PlaceHolder 2"/>
          <p:cNvSpPr>
            <a:spLocks noGrp="1"/>
          </p:cNvSpPr>
          <p:nvPr>
            <p:ph/>
          </p:nvPr>
        </p:nvSpPr>
        <p:spPr>
          <a:xfrm>
            <a:off x="301680" y="1600200"/>
            <a:ext cx="8540640" cy="60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utomata lifthez tartozó döntési táblázat</a:t>
            </a:r>
            <a:endParaRPr b="0" lang="en-US" sz="2800" spc="-1" strike="noStrike">
              <a:solidFill>
                <a:srgbClr val="ffffff"/>
              </a:solidFill>
              <a:latin typeface="Tahoma"/>
            </a:endParaRPr>
          </a:p>
        </p:txBody>
      </p:sp>
      <p:sp>
        <p:nvSpPr>
          <p:cNvPr id="13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46" name=""/>
          <p:cNvGraphicFramePr/>
          <p:nvPr/>
        </p:nvGraphicFramePr>
        <p:xfrm>
          <a:off x="611280" y="3068640"/>
          <a:ext cx="7848360" cy="2050920"/>
        </p:xfrm>
        <a:graphic>
          <a:graphicData uri="http://schemas.openxmlformats.org/presentationml/2006/ole">
            <p:oleObj r:id="rId1" spid="">
              <p:embed/>
              <p:pic>
                <p:nvPicPr>
                  <p:cNvPr id="1347" name="" descr=""/>
                  <p:cNvPicPr/>
                  <p:nvPr/>
                </p:nvPicPr>
                <p:blipFill>
                  <a:blip r:embed="rId2"/>
                  <a:stretch/>
                </p:blipFill>
                <p:spPr>
                  <a:xfrm>
                    <a:off x="611280" y="3068640"/>
                    <a:ext cx="7848360" cy="2050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220A8D2-D4D4-41BB-86BC-914AED2C1790}" type="slidenum">
              <a:t>353</a:t>
            </a:fld>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a:t>
            </a:r>
            <a:r>
              <a:rPr b="0" i="1" lang="hu-HU" sz="3200" spc="-1" strike="noStrike">
                <a:solidFill>
                  <a:srgbClr val="ffffff"/>
                </a:solidFill>
                <a:latin typeface="Tahoma"/>
              </a:rPr>
              <a:t>Petri-hálók</a:t>
            </a:r>
            <a:r>
              <a:rPr b="0" lang="hu-HU" sz="3200" spc="-1" strike="noStrike">
                <a:solidFill>
                  <a:srgbClr val="ffffff"/>
                </a:solidFill>
                <a:latin typeface="Tahoma"/>
              </a:rPr>
              <a:t> speciális gráfoknak tekinthetők, amelyek az alábbi elemekből épülnek fel:</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eltételek (körö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semények (téglalapo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alakulások (irányított él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jelzők (fekete pontok), az aktuális állapot jelzésér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6105D21-983C-4D26-BAC4-CA170504F720}" type="slidenum">
              <a:t>354</a:t>
            </a:fld>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2" name=""/>
          <p:cNvGraphicFramePr/>
          <p:nvPr/>
        </p:nvGraphicFramePr>
        <p:xfrm>
          <a:off x="1979640" y="2421000"/>
          <a:ext cx="5400720" cy="2971800"/>
        </p:xfrm>
        <a:graphic>
          <a:graphicData uri="http://schemas.openxmlformats.org/presentationml/2006/ole">
            <p:oleObj r:id="rId1" spid="">
              <p:embed/>
              <p:pic>
                <p:nvPicPr>
                  <p:cNvPr id="1353" name="" descr=""/>
                  <p:cNvPicPr/>
                  <p:nvPr/>
                </p:nvPicPr>
                <p:blipFill>
                  <a:blip r:embed="rId2"/>
                  <a:stretch/>
                </p:blipFill>
                <p:spPr>
                  <a:xfrm>
                    <a:off x="1979640" y="2421000"/>
                    <a:ext cx="5400720" cy="2971800"/>
                  </a:xfrm>
                  <a:prstGeom prst="rect">
                    <a:avLst/>
                  </a:prstGeom>
                  <a:ln w="0">
                    <a:noFill/>
                  </a:ln>
                </p:spPr>
              </p:pic>
            </p:oleObj>
          </a:graphicData>
        </a:graphic>
      </p:graphicFrame>
      <p:sp>
        <p:nvSpPr>
          <p:cNvPr id="1354" name=""/>
          <p:cNvSpPr/>
          <p:nvPr/>
        </p:nvSpPr>
        <p:spPr>
          <a:xfrm>
            <a:off x="971640" y="1557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évszakok ütemezés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C3C4640-BBEC-480D-A638-9FE3E676503C}" type="slidenum">
              <a:t>355</a:t>
            </a:fld>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6"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7" name=""/>
          <p:cNvGraphicFramePr/>
          <p:nvPr/>
        </p:nvGraphicFramePr>
        <p:xfrm>
          <a:off x="1042920" y="2781360"/>
          <a:ext cx="6994440" cy="2214360"/>
        </p:xfrm>
        <a:graphic>
          <a:graphicData uri="http://schemas.openxmlformats.org/presentationml/2006/ole">
            <p:oleObj r:id="rId1" spid="">
              <p:embed/>
              <p:pic>
                <p:nvPicPr>
                  <p:cNvPr id="1358" name="" descr=""/>
                  <p:cNvPicPr/>
                  <p:nvPr/>
                </p:nvPicPr>
                <p:blipFill>
                  <a:blip r:embed="rId2"/>
                  <a:stretch/>
                </p:blipFill>
                <p:spPr>
                  <a:xfrm>
                    <a:off x="1042920" y="2781360"/>
                    <a:ext cx="6994440" cy="2214360"/>
                  </a:xfrm>
                  <a:prstGeom prst="rect">
                    <a:avLst/>
                  </a:prstGeom>
                  <a:ln w="0">
                    <a:noFill/>
                  </a:ln>
                </p:spPr>
              </p:pic>
            </p:oleObj>
          </a:graphicData>
        </a:graphic>
      </p:graphicFrame>
      <p:sp>
        <p:nvSpPr>
          <p:cNvPr id="1359" name=""/>
          <p:cNvSpPr/>
          <p:nvPr/>
        </p:nvSpPr>
        <p:spPr>
          <a:xfrm>
            <a:off x="826920" y="191628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semény végrehajtás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8145AA0-D22C-4901-BE1E-5F526229B4BB}" type="slidenum">
              <a:t>356</a:t>
            </a:fld>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ok játsszák a fő szerepe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bjektumok</a:t>
            </a:r>
            <a:r>
              <a:rPr b="0" lang="hu-HU" sz="2400" spc="-1" strike="noStrike">
                <a:solidFill>
                  <a:srgbClr val="ffffff"/>
                </a:solidFill>
                <a:latin typeface="Tahoma"/>
              </a:rPr>
              <a:t> a valóság fogalmainak, egyedeinek felelnek meg. Az objektumok mind statikus, mind dinamikus komponenssel rendelkezhetne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atikus rész az objektum állapotát leíró tulajdonságokat fogja össze.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namikus rész az objektumhoz kapcsolódó műveleteket öleli fel.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 orientált szemléletmódban az alkalmazások az objektumok egymás közötti kommunikációjának felelnek meg, azaz az alkalmazás nem más, mint objektumok születésének, megszűnésének és egymás közötti kommunikációjuknak a rendszere.</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AC07E6-A3D8-4B69-988E-3723CCC43A5F}" type="slidenum">
              <a:t>357</a:t>
            </a:fld>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objektum orientáltság főbb jellemzői:</a:t>
            </a:r>
            <a:endParaRPr b="0" lang="en-US" sz="32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gas szintű absztrakció;</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ségbe zárás, a belső struktúra elrejtése;</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öröklési hierarchia, amely arra utal, hogy az objektumok felépítésében, az osztályoknál az általánosítás és specializáció kapcsolatai alapján egy hierarchikus rendszer építhető fel;</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ommunikáció az objektumok között, ahol a kommunikáció az objektum valamely műveletének a meghívását jelenti</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FED521-5F6E-4F2D-B24D-6724997D4964}" type="slidenum">
              <a:t>358</a:t>
            </a:fld>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hoz kapcsolható egy</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állapot</a:t>
            </a:r>
            <a:r>
              <a:rPr b="0" lang="hu-HU" sz="1800" spc="-1" strike="noStrike">
                <a:solidFill>
                  <a:srgbClr val="ffffff"/>
                </a:solidFill>
                <a:latin typeface="Tahoma"/>
              </a:rPr>
              <a:t> (a tulajdonságainak aktuális érték</a:t>
            </a:r>
            <a:r>
              <a:rPr b="0" lang="en-US" sz="1800" spc="-1" strike="noStrike">
                <a:solidFill>
                  <a:srgbClr val="ffffff"/>
                </a:solidFill>
                <a:latin typeface="Tahoma"/>
              </a:rPr>
              <a:t>-</a:t>
            </a:r>
            <a:r>
              <a:rPr b="0" lang="hu-HU" sz="1800" spc="-1" strike="noStrike">
                <a:solidFill>
                  <a:srgbClr val="ffffff"/>
                </a:solidFill>
                <a:latin typeface="Tahoma"/>
              </a:rPr>
              <a:t>együtte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viselkedés</a:t>
            </a:r>
            <a:r>
              <a:rPr b="0" lang="hu-HU" sz="1800" spc="-1" strike="noStrike">
                <a:solidFill>
                  <a:srgbClr val="ffffff"/>
                </a:solidFill>
                <a:latin typeface="Tahoma"/>
              </a:rPr>
              <a:t> (a műveleteinek összesség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gyediség</a:t>
            </a:r>
            <a:r>
              <a:rPr b="0" lang="hu-HU" sz="1800" spc="-1" strike="noStrike">
                <a:solidFill>
                  <a:srgbClr val="ffffff"/>
                </a:solidFill>
                <a:latin typeface="Tahoma"/>
              </a:rPr>
              <a:t> (minden objektum a többi objektumtól elhatárolható, önálló egység, melynek önállósága, egyedisége a tulajdonságértékektől független paraméter).</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között üzenetküldési és tartalmazási reláció állhat fenn. Az </a:t>
            </a:r>
            <a:r>
              <a:rPr b="0" i="1" lang="hu-HU" sz="2000" spc="-1" strike="noStrike">
                <a:solidFill>
                  <a:srgbClr val="ffffff"/>
                </a:solidFill>
                <a:latin typeface="Tahoma"/>
              </a:rPr>
              <a:t>üzenetküldés</a:t>
            </a:r>
            <a:r>
              <a:rPr b="0" lang="hu-HU" sz="2000" spc="-1" strike="noStrike">
                <a:solidFill>
                  <a:srgbClr val="ffffff"/>
                </a:solidFill>
                <a:latin typeface="Tahoma"/>
              </a:rPr>
              <a:t> azt jelenti, hogy az egyik objektum egyik művelete, amit </a:t>
            </a:r>
            <a:r>
              <a:rPr b="0" i="1" lang="hu-HU" sz="2000" spc="-1" strike="noStrike">
                <a:solidFill>
                  <a:srgbClr val="ffffff"/>
                </a:solidFill>
                <a:latin typeface="Tahoma"/>
              </a:rPr>
              <a:t>metódusnak</a:t>
            </a:r>
            <a:r>
              <a:rPr b="0" lang="hu-HU" sz="2000" spc="-1" strike="noStrike">
                <a:solidFill>
                  <a:srgbClr val="ffffff"/>
                </a:solidFill>
                <a:latin typeface="Tahoma"/>
              </a:rPr>
              <a:t> is szoktak nevezni, meghív egy másik objektumhoz tartozó metódu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szerkezeti leírását, típusát </a:t>
            </a:r>
            <a:r>
              <a:rPr b="0" i="1" lang="hu-HU" sz="2000" spc="-1" strike="noStrike">
                <a:solidFill>
                  <a:srgbClr val="ffffff"/>
                </a:solidFill>
                <a:latin typeface="Tahoma"/>
              </a:rPr>
              <a:t>osztálynak</a:t>
            </a:r>
            <a:r>
              <a:rPr b="0" lang="hu-HU" sz="2000" spc="-1" strike="noStrike">
                <a:solidFill>
                  <a:srgbClr val="ffffff"/>
                </a:solidFill>
                <a:latin typeface="Tahoma"/>
              </a:rPr>
              <a:t> nevezik. Az objektumok az osztályok előfordulásainak tekinthetők. Az osztály belső felépítése, vagyis  a tulajdonságok és a metódusok implementációja,  az osztály saját belügyének tekinthető, azaz a többi osztály, a külvilág elől elrejtve marad a belső felépítése. Az osztály külső megjelenését a kívülről is elérhető elemei határozzák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02D33F6-4C15-4918-9D0B-8FB730D15E7A}" type="slidenum">
              <a:t>35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vállalatgazdaságban</a:t>
            </a:r>
            <a:endParaRPr b="0" lang="en-US" sz="4000" spc="-1" strike="noStrike">
              <a:solidFill>
                <a:srgbClr val="ffffcc"/>
              </a:solidFill>
              <a:latin typeface="Tahoma"/>
            </a:endParaRPr>
          </a:p>
        </p:txBody>
      </p:sp>
      <p:sp>
        <p:nvSpPr>
          <p:cNvPr id="4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érszámfejt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aktív kommunikáció,</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isztribúciós terv,</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zás, 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iacelemzés és prognózi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iókhálózati készletnyilvántartá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89DC307-1B3A-44C8-ABC5-EEE7993364C1}" type="slidenum">
              <a:t>36</a:t>
            </a:fld>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sztályok között többféle kapcsolattípus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öröklés</a:t>
            </a:r>
            <a:r>
              <a:rPr b="0" lang="hu-HU" sz="2400" spc="-1" strike="noStrike">
                <a:solidFill>
                  <a:srgbClr val="ffffff"/>
                </a:solidFill>
                <a:latin typeface="Tahoma"/>
              </a:rPr>
              <a:t>: amikor egy osztály, a </a:t>
            </a:r>
            <a:r>
              <a:rPr b="0" i="1" lang="hu-HU" sz="2400" spc="-1" strike="noStrike">
                <a:solidFill>
                  <a:srgbClr val="ffffff"/>
                </a:solidFill>
                <a:latin typeface="Tahoma"/>
              </a:rPr>
              <a:t>leszármazott osztály</a:t>
            </a:r>
            <a:r>
              <a:rPr b="0" lang="hu-HU" sz="2400" spc="-1" strike="noStrike">
                <a:solidFill>
                  <a:srgbClr val="ffffff"/>
                </a:solidFill>
                <a:latin typeface="Tahoma"/>
              </a:rPr>
              <a:t> rendelkezik mindazon tulajdonságokkal és metódusokkal, melyeket egy másik osztály, a </a:t>
            </a:r>
            <a:r>
              <a:rPr b="0" i="1" lang="hu-HU" sz="2400" spc="-1" strike="noStrike">
                <a:solidFill>
                  <a:srgbClr val="ffffff"/>
                </a:solidFill>
                <a:latin typeface="Tahoma"/>
              </a:rPr>
              <a:t>szülőosztály</a:t>
            </a:r>
            <a:r>
              <a:rPr b="0" lang="hu-HU" sz="2400" spc="-1" strike="noStrike">
                <a:solidFill>
                  <a:srgbClr val="ffffff"/>
                </a:solidFill>
                <a:latin typeface="Tahoma"/>
              </a:rPr>
              <a:t> is birtokol;</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sszociáció</a:t>
            </a:r>
            <a:r>
              <a:rPr b="0" lang="hu-HU" sz="2400" spc="-1" strike="noStrike">
                <a:solidFill>
                  <a:srgbClr val="ffffff"/>
                </a:solidFill>
                <a:latin typeface="Tahoma"/>
              </a:rPr>
              <a:t>: két osztály objektumai közötti társítás, kapcsolat, pl. az autó és az ember osztályok között egy tulajdonosi kapcsolat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ggregáció</a:t>
            </a:r>
            <a:r>
              <a:rPr b="0" lang="hu-HU" sz="2400" spc="-1" strike="noStrike">
                <a:solidFill>
                  <a:srgbClr val="ffffff"/>
                </a:solidFill>
                <a:latin typeface="Tahoma"/>
              </a:rPr>
              <a:t>: egyik osztály objektumai magukba foglalnak egy másik osztálybeli objektumot építőelemeként;</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meghívási reláció</a:t>
            </a:r>
            <a:r>
              <a:rPr b="0" lang="hu-HU" sz="2400" spc="-1" strike="noStrike">
                <a:solidFill>
                  <a:srgbClr val="ffffff"/>
                </a:solidFill>
                <a:latin typeface="Tahoma"/>
              </a:rPr>
              <a:t>: az egyik osztály metódusa meghívja a másik osztály valamely metódu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ACB1CF-3A5D-4AE3-9C36-FFD883D17DC1}" type="slidenum">
              <a:t>360</a:t>
            </a:fld>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Kódolási szabványok</a:t>
            </a:r>
            <a:endParaRPr b="0" lang="en-US" sz="5400" spc="-1" strike="noStrike">
              <a:solidFill>
                <a:srgbClr val="ffffcc"/>
              </a:solidFill>
              <a:latin typeface="Tahoma"/>
            </a:endParaRPr>
          </a:p>
        </p:txBody>
      </p:sp>
      <p:sp>
        <p:nvSpPr>
          <p:cNvPr id="13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ngarian notation</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0BBA9F41-51C0-46BE-BFCC-EBB714A6C86F}" type="slidenum">
              <a:t>361</a:t>
            </a:fld>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ngarian notation</a:t>
            </a:r>
            <a:endParaRPr b="0" lang="en-US" sz="4400" spc="-1" strike="noStrike">
              <a:solidFill>
                <a:srgbClr val="ffffcc"/>
              </a:solidFill>
              <a:latin typeface="Tahoma"/>
            </a:endParaRPr>
          </a:p>
        </p:txBody>
      </p:sp>
      <p:sp>
        <p:nvSpPr>
          <p:cNvPr id="13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Simonyi</a:t>
            </a:r>
            <a:r>
              <a:rPr b="0" lang="hu-HU" sz="2800" spc="-1" strike="noStrike">
                <a:solidFill>
                  <a:srgbClr val="ffffff"/>
                </a:solidFill>
                <a:latin typeface="Tahoma"/>
              </a:rPr>
              <a:t>, </a:t>
            </a:r>
            <a:r>
              <a:rPr b="0" lang="en-US" sz="2800" spc="-1" strike="noStrike">
                <a:solidFill>
                  <a:srgbClr val="ffffff"/>
                </a:solidFill>
                <a:latin typeface="Tahoma"/>
              </a:rPr>
              <a:t>Microsof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mikor a programozó új változót vesz fel, a következő tényezőket kell figyelembe venni:</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lékeztető – hogy a programozó megjegyezze a neve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uggesztív – hogy mások is el tudják olvasni a kódo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nzisztens – hasonló mennyiségekre hasonló nevek </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 döntés – ne keljen sokat gondolkozni a névadáson, se túl hosszú nevet begépelni</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apötlet: minden változót a típusa alapján nevezzünk e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E11D9F-12DF-482E-89C5-C4880E45B25A}" type="slidenum">
              <a:t>362</a:t>
            </a:fld>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a:t>
            </a:r>
            <a:endParaRPr b="0" lang="en-US" sz="4400" spc="-1" strike="noStrike">
              <a:solidFill>
                <a:srgbClr val="ffffcc"/>
              </a:solidFill>
              <a:latin typeface="Tahoma"/>
            </a:endParaRPr>
          </a:p>
        </p:txBody>
      </p:sp>
      <p:sp>
        <p:nvSpPr>
          <p:cNvPr id="13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nyiségeket a típusok alapján nevezzük el, amit egy módosító követhet. Az megfelelő írásjelek használata megengedett. Például C nyelven megengedett a </a:t>
            </a:r>
            <a:r>
              <a:rPr b="0" lang="en-US" sz="2000" spc="-1" strike="noStrike">
                <a:solidFill>
                  <a:srgbClr val="ffffff"/>
                </a:solidFill>
                <a:latin typeface="Tahoma"/>
              </a:rPr>
              <a:t>rowFirst</a:t>
            </a:r>
            <a:r>
              <a:rPr b="0" lang="hu-HU" sz="2000" spc="-1" strike="noStrike">
                <a:solidFill>
                  <a:srgbClr val="ffffff"/>
                </a:solidFill>
                <a:latin typeface="Tahoma"/>
              </a:rPr>
              <a:t> használata: itt row a típus, First a minősítő.</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ítők megkülönböztetik az ugyanolyan típusú mennyiségeket, amelyek az adott kontextusban előfordulnak. </a:t>
            </a:r>
            <a:br>
              <a:rPr sz="2000"/>
            </a:br>
            <a:r>
              <a:rPr b="0" lang="hu-HU" sz="2000" spc="-1" strike="noStrike">
                <a:solidFill>
                  <a:srgbClr val="ffffff"/>
                </a:solidFill>
                <a:latin typeface="Tahoma"/>
              </a:rPr>
              <a:t>A kontextus felölelheti az egész rendszert, egy blokkot, egy eljárást, egy adatstruktúrát (mezőket) a programozási környezettől függően. Ha egy szabványos minősítő alkalmazható, akkor azt alkalmazni is kell, egyébként szabadon megváltoztatható.</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szerű adattípusokat rövid címkével lássuk el.</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tett adattípusok neveit az őket alkotó típusok alapján határozzuk meg. Számos séma létezik hogyan formáljunk pointer, tömb illetve egyéb típusú neveke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DC7522-9F2E-4498-8D41-E28E2D4650BE}" type="slidenum">
              <a:t>363</a:t>
            </a:fld>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 eljárásokhoz</a:t>
            </a:r>
            <a:endParaRPr b="0" lang="en-US" sz="4400" spc="-1" strike="noStrike">
              <a:solidFill>
                <a:srgbClr val="ffffcc"/>
              </a:solidFill>
              <a:latin typeface="Tahoma"/>
            </a:endParaRPr>
          </a:p>
        </p:txBody>
      </p:sp>
      <p:sp>
        <p:nvSpPr>
          <p:cNvPr id="13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smertetett névadási szabályok nem működnek eljárások esetén, mivel számos eljárásnak nincsenek paraméterei illetve nem tér vissza semmilyen értékkel.</a:t>
            </a:r>
            <a:endParaRPr b="0" lang="en-US" sz="24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lönböztessük meg írásjelekkel a függvény neveket a változó nevektől. Kezdődjenek a függvény nevek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ődjön a függvény neve a visszatérési értékkel, ha van ilyen</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két szóban írja le a függvény neve, mit csinál. (Ez általában tárgyas ige.) Kezdődjön minden szó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ben szükséges fűzzük a névhez a paraméterek címkéi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396DDD-7F97-4210-ACAB-149BFE8FDED5}" type="slidenum">
              <a:t>364</a:t>
            </a:fld>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abványos minősítők</a:t>
            </a:r>
            <a:endParaRPr b="0" lang="en-US" sz="4400" spc="-1" strike="noStrike">
              <a:solidFill>
                <a:srgbClr val="ffffcc"/>
              </a:solidFill>
              <a:latin typeface="Tahoma"/>
            </a:endParaRPr>
          </a:p>
        </p:txBody>
      </p:sp>
      <p:graphicFrame>
        <p:nvGraphicFramePr>
          <p:cNvPr id="1377" name=""/>
          <p:cNvGraphicFramePr/>
          <p:nvPr/>
        </p:nvGraphicFramePr>
        <p:xfrm>
          <a:off x="301680" y="1600200"/>
          <a:ext cx="8540640" cy="4556160"/>
        </p:xfrm>
        <a:graphic>
          <a:graphicData uri="http://schemas.openxmlformats.org/drawingml/2006/table">
            <a:tbl>
              <a:tblPr/>
              <a:tblGrid>
                <a:gridCol w="1966680"/>
                <a:gridCol w="657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Minősítő</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Leí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ir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első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La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utolsó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kise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x</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nagyo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aktuális legnagyobb elem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a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en elmentett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r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r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e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DC5FAE4-0D3C-4F67-8E26-9230E26F8543}" type="slidenum">
              <a:t>365</a:t>
            </a:fld>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laptípusok</a:t>
            </a:r>
            <a:endParaRPr b="0" lang="en-US" sz="4400" spc="-1" strike="noStrike">
              <a:solidFill>
                <a:srgbClr val="ffffcc"/>
              </a:solidFill>
              <a:latin typeface="Tahoma"/>
            </a:endParaRPr>
          </a:p>
        </p:txBody>
      </p:sp>
      <p:graphicFrame>
        <p:nvGraphicFramePr>
          <p:cNvPr id="1379" name=""/>
          <p:cNvGraphicFramePr/>
          <p:nvPr/>
        </p:nvGraphicFramePr>
        <p:xfrm>
          <a:off x="324000" y="1341360"/>
          <a:ext cx="8540640" cy="4689360"/>
        </p:xfrm>
        <a:graphic>
          <a:graphicData uri="http://schemas.openxmlformats.org/drawingml/2006/table">
            <a:tbl>
              <a:tblPr/>
              <a:tblGrid>
                <a:gridCol w="1317600"/>
                <a:gridCol w="72230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Címk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Leírá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lo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c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bájtos karakte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y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o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 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nsig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o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Pascal-t</a:t>
                      </a:r>
                      <a:r>
                        <a:rPr b="0" lang="hu-HU" sz="1600" spc="-1" strike="noStrike">
                          <a:solidFill>
                            <a:srgbClr val="ffffff"/>
                          </a:solidFill>
                          <a:latin typeface="Tahoma"/>
                        </a:rPr>
                        <a:t>ip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z</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null-terminated (C-st</a:t>
                      </a:r>
                      <a:r>
                        <a:rPr b="0" lang="hu-HU" sz="1600" spc="-1" strike="noStrike">
                          <a:solidFill>
                            <a:srgbClr val="ffffff"/>
                          </a:solidFill>
                          <a:latin typeface="Tahoma"/>
                        </a:rPr>
                        <a:t>íl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üggvény (majdnem mindig a p előtaggal használat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4D7A93C-7228-4D1E-A194-A1C6F41D7DA9}" type="slidenum">
              <a:t>366</a:t>
            </a:fld>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refixumok</a:t>
            </a:r>
            <a:endParaRPr b="0" lang="en-US" sz="4400" spc="-1" strike="noStrike">
              <a:solidFill>
                <a:srgbClr val="ffffcc"/>
              </a:solidFill>
              <a:latin typeface="Tahoma"/>
            </a:endParaRPr>
          </a:p>
        </p:txBody>
      </p:sp>
      <p:graphicFrame>
        <p:nvGraphicFramePr>
          <p:cNvPr id="1381" name=""/>
          <p:cNvGraphicFramePr/>
          <p:nvPr/>
        </p:nvGraphicFramePr>
        <p:xfrm>
          <a:off x="324000" y="1197000"/>
          <a:ext cx="8540640" cy="4878360"/>
        </p:xfrm>
        <a:graphic>
          <a:graphicData uri="http://schemas.openxmlformats.org/drawingml/2006/table">
            <a:tbl>
              <a:tblPr/>
              <a:tblGrid>
                <a:gridCol w="4270320"/>
                <a:gridCol w="4270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lőta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Leírá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ong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ge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rr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dex</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ámossá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ülönbsé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nd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ap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lobáli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ku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sta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8DA26C1-8CD5-47A5-8C1C-01A5604D0D14}" type="slidenum">
              <a:t>367</a:t>
            </a:fld>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élda</a:t>
            </a:r>
            <a:endParaRPr b="0" lang="en-US" sz="4400" spc="-1" strike="noStrike">
              <a:solidFill>
                <a:srgbClr val="ffffcc"/>
              </a:solidFill>
              <a:latin typeface="Tahoma"/>
            </a:endParaRPr>
          </a:p>
        </p:txBody>
      </p:sp>
      <p:sp>
        <p:nvSpPr>
          <p:cNvPr id="13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support.microsoft.com:80/support/kb/articles/Q110/2/64.asp&amp;NoWebContent=1</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FD73A20-7440-4EE6-8FA0-CD7C87167A4A}" type="slidenum">
              <a:t>368</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z ipari  termelésirányításban</a:t>
            </a:r>
            <a:endParaRPr b="0" lang="en-US" sz="40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nyag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önköltség-szám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észlet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kiad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öntés-előkészít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B11B505-A856-4E42-9CC9-680F9FDD7D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banktechnikában</a:t>
            </a:r>
            <a:endParaRPr b="0" lang="en-US" sz="40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k vezetése,</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gneskártyás azonosítá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írás rekogníció (felismeré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öltségkalkuláció,</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akivonat készítés,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7FC0082-9D93-45D1-8521-455FA0C8B1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özlekedésbeli  alkalmazása</a:t>
            </a:r>
            <a:endParaRPr b="0" lang="en-US" sz="4000" spc="-1" strike="noStrike">
              <a:solidFill>
                <a:srgbClr val="ffffcc"/>
              </a:solidFill>
              <a:latin typeface="Tahoma"/>
            </a:endParaRPr>
          </a:p>
        </p:txBody>
      </p:sp>
      <p:sp>
        <p:nvSpPr>
          <p:cNvPr id="4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helynyilvántartás és -fogla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áratszervez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netrendkészítés, </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mmunikációs hálóza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ző-pályaudvari 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csiszámlálás és azonos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bességmérés radarra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956866E-7565-4F59-9A8D-2BB6949EFE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minőség</a:t>
            </a:r>
            <a:r>
              <a:rPr b="0" lang="hu-HU" sz="2800" spc="-1" strike="noStrike">
                <a:solidFill>
                  <a:srgbClr val="ffffff"/>
                </a:solidFill>
                <a:latin typeface="Tahoma"/>
              </a:rPr>
              <a:t> a termék vagy szolgáltatás olyan tulajdonságainak és jellemzőinek összessége, amelyek hatással vannak a terméknek vagy a szolgáltatásnak arra a képességére, hogy kifejezett vagy elvárható igényeket kielégítsen (MSZ ISO </a:t>
            </a:r>
            <a:r>
              <a:rPr b="0" lang="en-US" sz="2800" spc="-1" strike="noStrike">
                <a:solidFill>
                  <a:srgbClr val="ffffff"/>
                </a:solidFill>
                <a:latin typeface="Tahoma"/>
              </a:rPr>
              <a:t>8402</a:t>
            </a:r>
            <a:r>
              <a:rPr b="0" lang="hu-HU"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999839B-997F-44DA-8FE7-CD75FEE435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gépipari alkatrészgyártásban </a:t>
            </a:r>
            <a:endParaRPr b="0" lang="en-US" sz="40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apcsolások, befogások,</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erszámváltás és utánállítá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3 dimenziós szerszámpálya-vezérlé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 megfigyelés (monitoring).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EAD2D2-7452-4963-9CB0-636909F3E2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ezdeti alkalmazása az energiaipari rendszerek terén</a:t>
            </a:r>
            <a:endParaRPr b="0" lang="en-US" sz="4000" spc="-1" strike="noStrike">
              <a:solidFill>
                <a:srgbClr val="ffffcc"/>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rőművi vezérlések,</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optimá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iztonsági felügyele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losztó-hálózati táv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gramkapcsolások.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A10675-0F94-4281-BF83-80241B1767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i alkalmazások bevezetésének előnyei</a:t>
            </a:r>
            <a:endParaRPr b="0" lang="en-US" sz="40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gsokszorozódott a termelékenység</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odai munkában 10-szeres</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gyártásban 100-szoro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csökkent az önköltség (a gépi munkahelyeken mintegy felér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növekedett az extra profit (az árak csak kismértékben csökkente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elentősen javult a termelés minősége és megbízhatósága (piaci előnyszerz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B96FBE-9937-4992-8821-546A1B9A2D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chnikai fejlődés jellemzői</a:t>
            </a:r>
            <a:endParaRPr b="0" lang="en-US" sz="4400" spc="-1" strike="noStrike">
              <a:solidFill>
                <a:srgbClr val="ffffcc"/>
              </a:solidFill>
              <a:latin typeface="Tahoma"/>
            </a:endParaRPr>
          </a:p>
        </p:txBody>
      </p:sp>
      <p:sp>
        <p:nvSpPr>
          <p:cNvPr id="4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chnikai lehetőségeket (számítógépipart, tőkét) nem volt képes követni a gazdasági menedzsment és a munkaerőpiac viszonylagosan konzervatív szerkezet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ődés csak olyan központokhoz kötődött, amelyekben az új ágazat szakemberei koncentrálódhatta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technika hódítási törekvései egyediségre törő sokszínűséggel jelentek meg a versenyben, következőleg inkompatibilitások nehezítették a tervezé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ástechnikai beruházások jelentős része az új alkalmazók felkészületlensége miatt (kihasználatlanság, szervezetlenség, párhuzamosságok, stb.) gazdaságtalannak tűn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lang="hu-HU" sz="2400" spc="-1" strike="noStrike">
                <a:solidFill>
                  <a:srgbClr val="ffffff"/>
                </a:solidFill>
                <a:latin typeface="Tahoma"/>
              </a:rPr>
              <a:t>számítástechnikai</a:t>
            </a:r>
            <a:r>
              <a:rPr b="0" lang="hu-HU" sz="2000" spc="-1" strike="noStrike">
                <a:solidFill>
                  <a:srgbClr val="ffffff"/>
                </a:solidFill>
                <a:latin typeface="Tahoma"/>
              </a:rPr>
              <a:t> eszközök, gépek életciklusa rendkívül lerövidült, és így szakszerű kihasználásuk is csak ott volt gazdaságos, ahol az új típusú eszközrendszert az alkalmazó gazdasági közeg amortizálni tudt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F696D3A-208B-4105-BDBB-3FC5E08506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ek, mikroprocesszorok, helyi és nagytávolságú hálózatok alkalmazása egyre több esetben gazdasági kényszer, amelynek nincs alternatívája.</a:t>
            </a:r>
            <a:endParaRPr b="0" lang="en-US" sz="2000" spc="-1" strike="noStrike">
              <a:solidFill>
                <a:srgbClr val="ffffff"/>
              </a:solidFill>
              <a:latin typeface="Tahoma"/>
            </a:endParaRPr>
          </a:p>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 a kutatás- és fejlesztésnek több alternatívája létezik (lehetséges), az információ-technológiát alkalmazó versenytársak előnyre tesznek szert egyéb (K+F) változatokkal szemben a termelési, irányítási, tervezési és szolgáltatási feladatok teljes körénél. Az informatika alkalmazása ezért hozzásegít a minőségi értelemben vett gazdasági növekedés új irányainak megtalálásá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98AB25A-988A-4F83-9FA2-C45A2319ED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alkalmazása enyhíti a gazdasági gondokat, mert növeli a versenyképességet. Informatikai támogatás nélkül ma már lehetetlen versenyképesnek maradni a világon.</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inden más technológia fejlődését alátámasztja és alapvető eszköz a gazdasági és társadalmi fejlődés új struktúráinak kialakításához.</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ás technikai/technológiai újdonságokkal szemben azzal a rendkívüli előnnyel rendelkezik, hogy egyesíti magában mindazokat a tényezőket, amelyek lehetővé tesznek és meggyorsítanak más fejlesztése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FD3B60-E239-407F-80E1-C0A88B0FD7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ffcc"/>
                </a:solidFill>
                <a:latin typeface="Tahoma"/>
              </a:rPr>
              <a:t>Vállalati modellek</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F8487F47-3925-41B5-8EA9-DD4168D854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Gazdaságtani</a:t>
            </a:r>
            <a:r>
              <a:rPr b="1" lang="hu-HU" sz="4400" spc="-1" strike="noStrike">
                <a:solidFill>
                  <a:srgbClr val="ffffcc"/>
                </a:solidFill>
                <a:latin typeface="Tahoma"/>
              </a:rPr>
              <a:t> </a:t>
            </a:r>
            <a:r>
              <a:rPr b="0" lang="hu-HU" sz="4400" spc="-1" strike="noStrike">
                <a:solidFill>
                  <a:srgbClr val="ffffcc"/>
                </a:solidFill>
                <a:latin typeface="Tahoma"/>
              </a:rPr>
              <a:t>háttér</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ezdeti verbális eszköztár</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t>
            </a:r>
            <a:r>
              <a:rPr b="0" lang="hu-HU" sz="3200" spc="-1" strike="noStrike">
                <a:solidFill>
                  <a:srgbClr val="ffffff"/>
                </a:solidFill>
                <a:latin typeface="Tahoma"/>
              </a:rPr>
              <a:t> </a:t>
            </a:r>
            <a:r>
              <a:rPr b="0" lang="en-US" sz="3200" spc="-1" strike="noStrike">
                <a:solidFill>
                  <a:srgbClr val="ffffff"/>
                </a:solidFill>
                <a:latin typeface="Tahoma"/>
              </a:rPr>
              <a:t>XX. </a:t>
            </a:r>
            <a:r>
              <a:rPr b="0" lang="hu-HU" sz="3200" spc="-1" strike="noStrike">
                <a:solidFill>
                  <a:srgbClr val="ffffff"/>
                </a:solidFill>
                <a:latin typeface="Tahoma"/>
              </a:rPr>
              <a:t>század elején eljut azokhoz a matematikai fogalmakhoz, amelyeket a természettudományok már két és fél évszázaddal  korábban használatba vettek</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ewton, </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eibniz: szélsőérték-számítás</a:t>
            </a:r>
            <a:r>
              <a:rPr b="0" lang="en-US"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rshall, Keynes: határhaszon-elméle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08DADBF-C6A7-41B0-A892-13F0753ADB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 alapgondolata</a:t>
            </a:r>
            <a:endParaRPr b="0" lang="en-US" sz="4000" spc="-1" strike="noStrike">
              <a:solidFill>
                <a:srgbClr val="ffffcc"/>
              </a:solidFill>
              <a:latin typeface="Tahoma"/>
            </a:endParaRPr>
          </a:p>
        </p:txBody>
      </p:sp>
      <p:sp>
        <p:nvSpPr>
          <p:cNvPr id="4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0" lang="hu-HU" sz="3200" spc="-1" strike="noStrike">
                <a:solidFill>
                  <a:srgbClr val="ffffff"/>
                </a:solidFill>
                <a:latin typeface="Tahoma"/>
              </a:rPr>
              <a:t>célszerű viselkedés mindig valamilyen feltételes optimumra törekszik. Ez határozza meg a gazdasági élet szereplőinek viselkedését is. Bármilyen mérhető aktivitás (munka, termelés, befektetés, ráfordítás, stb.) hatását vizsgáljuk valamilyen mérhető hozadékra (profit, szükséglet kielégítése, megtakarítás, stb.)</a:t>
            </a:r>
            <a:r>
              <a:rPr b="0" lang="en-US" sz="3200" spc="-1" strike="noStrike">
                <a:solidFill>
                  <a:srgbClr val="ffffff"/>
                </a:solidFill>
                <a:latin typeface="Tahoma"/>
              </a:rPr>
              <a:t>.</a:t>
            </a:r>
            <a:r>
              <a:rPr b="0" lang="hu-HU" sz="3200" spc="-1" strike="noStrike">
                <a:solidFill>
                  <a:srgbClr val="ffffff"/>
                </a:solidFill>
                <a:latin typeface="Tahoma"/>
              </a:rPr>
              <a:t> </a:t>
            </a:r>
            <a:r>
              <a:rPr b="0" lang="en-US" sz="3200" spc="-1" strike="noStrike">
                <a:solidFill>
                  <a:srgbClr val="ffffff"/>
                </a:solidFill>
                <a:latin typeface="Tahoma"/>
              </a:rPr>
              <a:t>L</a:t>
            </a:r>
            <a:r>
              <a:rPr b="0" lang="hu-HU" sz="3200" spc="-1" strike="noStrike">
                <a:solidFill>
                  <a:srgbClr val="ffffff"/>
                </a:solidFill>
                <a:latin typeface="Tahoma"/>
              </a:rPr>
              <a:t>étezhet olyan aktivitás érték, amelynél  az aktivitás növelése már nem eredményez hozadéknövekedés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4A307B-BAD6-4ABE-B24D-C327ACB478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1"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alamely termelő vállalat hitel lehetőséghez jutott, és azt akarja eldönteni, hogy egy termékének termelési volumenét (</a:t>
            </a:r>
            <a:r>
              <a:rPr b="0" i="1" lang="hu-HU" sz="2000" spc="-1" strike="noStrike">
                <a:solidFill>
                  <a:srgbClr val="ffffff"/>
                </a:solidFill>
                <a:latin typeface="Tahoma"/>
              </a:rPr>
              <a:t>N</a:t>
            </a:r>
            <a:r>
              <a:rPr b="0" i="1" lang="hu-HU" sz="2000" spc="-1" strike="noStrike" baseline="-25000">
                <a:solidFill>
                  <a:srgbClr val="ffffff"/>
                </a:solidFill>
                <a:latin typeface="Tahoma"/>
              </a:rPr>
              <a:t>K</a:t>
            </a:r>
            <a:r>
              <a:rPr b="0" i="1" lang="hu-HU" sz="2000" spc="-1" strike="noStrike">
                <a:solidFill>
                  <a:srgbClr val="ffffff"/>
                </a:solidFill>
                <a:latin typeface="Tahoma"/>
              </a:rPr>
              <a:t>,</a:t>
            </a:r>
            <a:r>
              <a:rPr b="0" lang="hu-HU" sz="2000" spc="-1" strike="noStrike">
                <a:solidFill>
                  <a:srgbClr val="ffffff"/>
                </a:solidFill>
                <a:latin typeface="Tahoma"/>
              </a:rPr>
              <a:t> </a:t>
            </a:r>
            <a:r>
              <a:rPr b="0" i="1" lang="hu-HU" sz="2000" spc="-1" strike="noStrike">
                <a:solidFill>
                  <a:srgbClr val="ffffff"/>
                </a:solidFill>
                <a:latin typeface="Tahoma"/>
              </a:rPr>
              <a:t>db/év</a:t>
            </a:r>
            <a:r>
              <a:rPr b="0" lang="hu-HU" sz="2000" spc="-1" strike="noStrike">
                <a:solidFill>
                  <a:srgbClr val="ffffff"/>
                </a:solidFill>
                <a:latin typeface="Tahoma"/>
              </a:rPr>
              <a:t>) meddig érdemes növelni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hez álljanak rendelkezésre a következő becslő függvények az egyszerűség kedvéért lineáris alakban (</a:t>
            </a:r>
            <a:r>
              <a:rPr b="0" i="1" lang="hu-HU" sz="2000" spc="-1" strike="noStrike">
                <a:solidFill>
                  <a:srgbClr val="ffffff"/>
                </a:solidFill>
                <a:latin typeface="Tahoma"/>
              </a:rPr>
              <a:t>E</a:t>
            </a:r>
            <a:r>
              <a:rPr b="0" lang="hu-HU" sz="2000" spc="-1" strike="noStrike">
                <a:solidFill>
                  <a:srgbClr val="ffffff"/>
                </a:solidFill>
                <a:latin typeface="Tahoma"/>
              </a:rPr>
              <a:t>: pénzegység):</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kció a piacot telítheti, (</a:t>
            </a:r>
            <a:r>
              <a:rPr b="0" i="1" lang="hu-HU" sz="2000" spc="-1" strike="noStrike">
                <a:solidFill>
                  <a:srgbClr val="ffffff"/>
                </a:solidFill>
                <a:latin typeface="Tahoma"/>
              </a:rPr>
              <a:t>N</a:t>
            </a:r>
            <a:r>
              <a:rPr b="0" i="1" lang="hu-HU" sz="2000" spc="-1" strike="noStrike" baseline="-25000">
                <a:solidFill>
                  <a:srgbClr val="ffffff"/>
                </a:solidFill>
                <a:latin typeface="Tahoma"/>
              </a:rPr>
              <a:t>m</a:t>
            </a:r>
            <a:r>
              <a:rPr b="0" lang="hu-HU" sz="2000" spc="-1" strike="noStrike">
                <a:solidFill>
                  <a:srgbClr val="ffffff"/>
                </a:solidFill>
                <a:latin typeface="Tahoma"/>
              </a:rPr>
              <a:t>), vagyis  ha növeli a termelést, csökkentenie kell az árat, hogy bővüljön a piaca (</a:t>
            </a:r>
            <a:r>
              <a:rPr b="0" i="1" lang="hu-HU" sz="2000" spc="-1" strike="noStrike">
                <a:solidFill>
                  <a:srgbClr val="ffffff"/>
                </a:solidFill>
                <a:latin typeface="Tahoma"/>
              </a:rPr>
              <a:t>E/db</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N) = a</a:t>
            </a:r>
            <a:r>
              <a:rPr b="0" i="1" lang="hu-HU" sz="2000" spc="-1" strike="noStrike" baseline="-25000">
                <a:solidFill>
                  <a:srgbClr val="ffffff"/>
                </a:solidFill>
                <a:latin typeface="Tahoma"/>
              </a:rPr>
              <a:t>o</a:t>
            </a:r>
            <a:r>
              <a:rPr b="0" i="1" lang="hu-HU" sz="2000" spc="-1" strike="noStrike">
                <a:solidFill>
                  <a:srgbClr val="ffffff"/>
                </a:solidFill>
                <a:latin typeface="Tahoma"/>
              </a:rPr>
              <a:t>-BN, (N &lt; 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a:t>
            </a:r>
            <a:r>
              <a:rPr b="0" i="1" lang="hu-HU" sz="2000" spc="-1" strike="noStrike" baseline="-25000">
                <a:solidFill>
                  <a:srgbClr val="ffffff"/>
                </a:solidFill>
                <a:latin typeface="Tahoma"/>
              </a:rPr>
              <a:t>m</a:t>
            </a:r>
            <a:r>
              <a:rPr b="0" i="1" lang="hu-HU" sz="2000" spc="-1" strike="noStrike">
                <a:solidFill>
                  <a:srgbClr val="ffffff"/>
                </a:solidFill>
                <a:latin typeface="Tahoma"/>
              </a:rPr>
              <a:t> = a(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 állandó és arányos költségei ismertek (</a:t>
            </a:r>
            <a:r>
              <a:rPr b="0" i="1" lang="hu-HU" sz="2000" spc="-1" strike="noStrike">
                <a:solidFill>
                  <a:srgbClr val="ffffff"/>
                </a:solidFill>
                <a:latin typeface="Tahoma"/>
              </a:rPr>
              <a:t>E/év</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C(N)=C</a:t>
            </a:r>
            <a:r>
              <a:rPr b="0" i="1" lang="hu-HU" sz="2000" spc="-1" strike="noStrike" baseline="-25000">
                <a:solidFill>
                  <a:srgbClr val="ffffff"/>
                </a:solidFill>
                <a:latin typeface="Tahoma"/>
              </a:rPr>
              <a:t>o</a:t>
            </a:r>
            <a:r>
              <a:rPr b="0" i="1" lang="hu-HU" sz="2000" spc="-1" strike="noStrike">
                <a:solidFill>
                  <a:srgbClr val="ffffff"/>
                </a:solidFill>
                <a:latin typeface="Tahoma"/>
              </a:rPr>
              <a:t>+(c</a:t>
            </a:r>
            <a:r>
              <a:rPr b="0" i="1" lang="hu-HU" sz="2000" spc="-1" strike="noStrike" baseline="-25000">
                <a:solidFill>
                  <a:srgbClr val="ffffff"/>
                </a:solidFill>
                <a:latin typeface="Tahoma"/>
              </a:rPr>
              <a:t>o</a:t>
            </a:r>
            <a:r>
              <a:rPr b="0" i="1" lang="hu-HU" sz="2000" spc="-1" strike="noStrike">
                <a:solidFill>
                  <a:srgbClr val="ffffff"/>
                </a:solidFill>
                <a:latin typeface="Tahoma"/>
              </a:rPr>
              <a:t>+DN)N.</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DN az a költségtényező, amely a termelés bővítésével növekszik (erőforrások bővítése, felújítása, fejlesztése, beruházása, stb. lépcsős függvény).</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1530761-6853-4549-BC67-3D9E061748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ás megközelítések a minőségről</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mozgó célpont” (Feigenbaum)</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 termék egész élettartama alatt múlja felül a vásárló igényeit (Deming)</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felelés: a  szabványnak, a használatra, a felhasználásra való alkalmasságnak, a vevő kinyilvánított és látens igényeinek (Shiba)</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 Nem kell vele törődni. A túlélés nem kötelező !</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et a vevők, felhasználók ítélik meg.</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z, amikor a vevő jön vissza, nem a term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A1CC10-B60E-4B45-A1A5-07D2DD0476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ajlagos költség</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rofi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ptimu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érhető max. profitnövekedés:</a:t>
            </a:r>
            <a:endParaRPr b="0" lang="en-US" sz="2400" spc="-1" strike="noStrike">
              <a:solidFill>
                <a:srgbClr val="ffffff"/>
              </a:solidFill>
              <a:latin typeface="Tahoma"/>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5" name=""/>
              <p:cNvSpPr txBox="1"/>
              <p:nvPr/>
            </p:nvSpPr>
            <p:spPr>
              <a:xfrm>
                <a:off x="3203640" y="1916280"/>
                <a:ext cx="2590560" cy="722160"/>
              </a:xfrm>
              <a:prstGeom prst="rect">
                <a:avLst/>
              </a:prstGeom>
            </p:spPr>
            <p:txBody>
              <a:bodyPr/>
              <a:p>
                <a14:m>
                  <m:oMath xmlns:m="http://schemas.openxmlformats.org/officeDocument/2006/math">
                    <m:r>
                      <m:t xml:space="preserve">c</m:t>
                    </m:r>
                    <m:r>
                      <m:t xml:space="preserve">(</m:t>
                    </m:r>
                    <m:r>
                      <m:t xml:space="preserve">N</m:t>
                    </m:r>
                    <m:r>
                      <m:t xml:space="preserve">)</m:t>
                    </m:r>
                    <m:r>
                      <m:t xml:space="preserve">=</m:t>
                    </m:r>
                    <m:f>
                      <m:num>
                        <m:sSub>
                          <m:e>
                            <m:r>
                              <m:t xml:space="preserve">C</m:t>
                            </m:r>
                          </m:e>
                          <m:sub>
                            <m:r>
                              <m:t xml:space="preserve">0</m:t>
                            </m:r>
                          </m:sub>
                        </m:sSub>
                      </m:num>
                      <m:den>
                        <m:r>
                          <m:t xml:space="preserve">N</m:t>
                        </m:r>
                      </m:den>
                    </m:f>
                    <m:r>
                      <m:t xml:space="preserve">+</m:t>
                    </m:r>
                    <m:sSub>
                      <m:e>
                        <m:r>
                          <m:t xml:space="preserve">c</m:t>
                        </m:r>
                      </m:e>
                      <m:sub>
                        <m:r>
                          <m:t xml:space="preserve">0</m:t>
                        </m:r>
                      </m:sub>
                    </m:sSub>
                    <m:r>
                      <m:t xml:space="preserve">+</m:t>
                    </m:r>
                    <m:r>
                      <m:rPr>
                        <m:lit/>
                        <m:nor/>
                      </m:rPr>
                      <m:t xml:space="preserve">DN</m:t>
                    </m:r>
                  </m:oMath>
                </a14:m>
              </a:p>
            </p:txBody>
          </p:sp>
        </mc:Choice>
        <mc:Fallback/>
      </mc:AlternateContent>
      <p:sp>
        <p:nvSpPr>
          <p:cNvPr id="49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7" name=""/>
              <p:cNvSpPr txBox="1"/>
              <p:nvPr/>
            </p:nvSpPr>
            <p:spPr>
              <a:xfrm>
                <a:off x="1763640" y="2997360"/>
                <a:ext cx="5905440" cy="70956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r>
                      <m:t xml:space="preserve">a</m:t>
                    </m:r>
                    <m:r>
                      <m:t xml:space="preserve">(</m:t>
                    </m:r>
                    <m:r>
                      <m:t xml:space="preserve">N</m:t>
                    </m:r>
                    <m:r>
                      <m:t xml:space="preserve">)</m:t>
                    </m:r>
                    <m:r>
                      <m:t xml:space="preserve">−</m:t>
                    </m:r>
                    <m:r>
                      <m:t xml:space="preserve">c</m:t>
                    </m:r>
                    <m:r>
                      <m:t xml:space="preserve">(</m:t>
                    </m:r>
                    <m:r>
                      <m:t xml:space="preserve">N</m:t>
                    </m:r>
                    <m:r>
                      <m:t xml:space="preserve">)</m:t>
                    </m:r>
                    <m:r>
                      <m:t xml:space="preserve">=</m:t>
                    </m:r>
                    <m:r>
                      <m:t xml:space="preserve">(</m:t>
                    </m:r>
                    <m:sSub>
                      <m:e>
                        <m:r>
                          <m:t xml:space="preserve">a</m:t>
                        </m:r>
                      </m:e>
                      <m:sub>
                        <m:r>
                          <m:t xml:space="preserve">0</m:t>
                        </m:r>
                      </m:sub>
                    </m:sSub>
                    <m:r>
                      <m:t xml:space="preserve">−</m:t>
                    </m:r>
                    <m:sSub>
                      <m:e>
                        <m:r>
                          <m:t xml:space="preserve">c</m:t>
                        </m:r>
                      </m:e>
                      <m:sub>
                        <m:r>
                          <m:t xml:space="preserve">0</m:t>
                        </m:r>
                      </m:sub>
                    </m:sSub>
                    <m:r>
                      <m:t xml:space="preserve">)</m:t>
                    </m:r>
                    <m:r>
                      <m:t xml:space="preserve">−</m:t>
                    </m:r>
                    <m:r>
                      <m:t xml:space="preserve">(</m:t>
                    </m:r>
                    <m:r>
                      <m:t xml:space="preserve">B</m:t>
                    </m:r>
                    <m:r>
                      <m:t xml:space="preserve">+</m:t>
                    </m:r>
                    <m:r>
                      <m:t xml:space="preserve">D</m:t>
                    </m:r>
                    <m:r>
                      <m:t xml:space="preserve">)</m:t>
                    </m:r>
                    <m:r>
                      <m:t xml:space="preserve">N</m:t>
                    </m:r>
                    <m:r>
                      <m:t xml:space="preserve">−</m:t>
                    </m:r>
                    <m:f>
                      <m:num>
                        <m:sSub>
                          <m:e>
                            <m:r>
                              <m:t xml:space="preserve">C</m:t>
                            </m:r>
                          </m:e>
                          <m:sub>
                            <m:r>
                              <m:t xml:space="preserve">0</m:t>
                            </m:r>
                          </m:sub>
                        </m:sSub>
                      </m:num>
                      <m:den>
                        <m:r>
                          <m:t xml:space="preserve">N</m:t>
                        </m:r>
                      </m:den>
                    </m:f>
                  </m:oMath>
                </a14:m>
              </a:p>
            </p:txBody>
          </p:sp>
        </mc:Choice>
        <mc:Fallback/>
      </mc:AlternateContent>
      <p:sp>
        <p:nvSpPr>
          <p:cNvPr id="4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9" name=""/>
              <p:cNvSpPr txBox="1"/>
              <p:nvPr/>
            </p:nvSpPr>
            <p:spPr>
              <a:xfrm>
                <a:off x="1547640" y="4149720"/>
                <a:ext cx="3672000" cy="706320"/>
              </a:xfrm>
              <a:prstGeom prst="rect">
                <a:avLst/>
              </a:prstGeom>
            </p:spPr>
            <p:txBody>
              <a:bodyPr/>
              <a:p>
                <a14:m>
                  <m:oMath xmlns:m="http://schemas.openxmlformats.org/officeDocument/2006/math">
                    <m:f>
                      <m:num>
                        <m:r>
                          <m:rPr>
                            <m:lit/>
                            <m:nor/>
                          </m:rPr>
                          <m:t xml:space="preserve">dp</m:t>
                        </m:r>
                      </m:num>
                      <m:den>
                        <m:r>
                          <m:rPr>
                            <m:lit/>
                            <m:nor/>
                          </m:rPr>
                          <m:t xml:space="preserve">dN</m:t>
                        </m:r>
                      </m:den>
                    </m:f>
                    <m:sSub>
                      <m:e>
                        <m:r>
                          <m:t xml:space="preserve">|</m:t>
                        </m:r>
                      </m:e>
                      <m:sub>
                        <m:r>
                          <m:t xml:space="preserve">N</m:t>
                        </m:r>
                        <m:r>
                          <m:t xml:space="preserve">=</m:t>
                        </m:r>
                        <m:sSub>
                          <m:e>
                            <m:r>
                              <m:t xml:space="preserve">N</m:t>
                            </m:r>
                          </m:e>
                          <m:sub>
                            <m:r>
                              <m:t xml:space="preserve">0</m:t>
                            </m:r>
                          </m:sub>
                        </m:sSub>
                      </m:sub>
                    </m:sSub>
                    <m:r>
                      <m:t xml:space="preserve">≃</m:t>
                    </m:r>
                    <m:r>
                      <m:t xml:space="preserve">−</m:t>
                    </m:r>
                    <m:r>
                      <m:t xml:space="preserve">(</m:t>
                    </m:r>
                    <m:r>
                      <m:t xml:space="preserve">B</m:t>
                    </m:r>
                    <m:r>
                      <m:t xml:space="preserve">+</m:t>
                    </m:r>
                    <m:r>
                      <m:t xml:space="preserve">D</m:t>
                    </m:r>
                    <m:r>
                      <m:t xml:space="preserve">)</m:t>
                    </m:r>
                    <m:r>
                      <m:t xml:space="preserve">+</m:t>
                    </m:r>
                    <m:f>
                      <m:num>
                        <m:sSub>
                          <m:e>
                            <m:r>
                              <m:t xml:space="preserve">C</m:t>
                            </m:r>
                          </m:e>
                          <m:sub>
                            <m:r>
                              <m:t xml:space="preserve">0</m:t>
                            </m:r>
                          </m:sub>
                        </m:sSub>
                      </m:num>
                      <m:den>
                        <m:sSup>
                          <m:e>
                            <m:r>
                              <m:t xml:space="preserve">N</m:t>
                            </m:r>
                          </m:e>
                          <m:sup>
                            <m:r>
                              <m:t xml:space="preserve">2</m:t>
                            </m:r>
                          </m:sup>
                        </m:sSup>
                      </m:den>
                    </m:f>
                    <m:r>
                      <m:t xml:space="preserve">=</m:t>
                    </m:r>
                    <m:r>
                      <m:t xml:space="preserve">0</m:t>
                    </m:r>
                    <m:r>
                      <m:t xml:space="preserve">,</m:t>
                    </m:r>
                  </m:oMath>
                </a14:m>
              </a:p>
            </p:txBody>
          </p:sp>
        </mc:Choice>
        <mc:Fallback/>
      </mc:AlternateContent>
      <p:sp>
        <p:nvSpPr>
          <p:cNvPr id="500" name=""/>
          <p:cNvSpPr/>
          <p:nvPr/>
        </p:nvSpPr>
        <p:spPr>
          <a:xfrm>
            <a:off x="5508720" y="4508640"/>
            <a:ext cx="792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2" name=""/>
              <p:cNvSpPr txBox="1"/>
              <p:nvPr/>
            </p:nvSpPr>
            <p:spPr>
              <a:xfrm>
                <a:off x="6588000" y="4138560"/>
                <a:ext cx="1366920" cy="676440"/>
              </a:xfrm>
              <a:prstGeom prst="rect">
                <a:avLst/>
              </a:prstGeom>
            </p:spPr>
            <p:txBody>
              <a:bodyPr/>
              <a:p>
                <a14:m>
                  <m:oMath xmlns:m="http://schemas.openxmlformats.org/officeDocument/2006/math">
                    <m:sSub>
                      <m:e>
                        <m:r>
                          <m:t xml:space="preserve">N</m:t>
                        </m:r>
                      </m:e>
                      <m:sub>
                        <m:r>
                          <m:t xml:space="preserve">0</m:t>
                        </m:r>
                      </m:sub>
                    </m:sSub>
                    <m:r>
                      <m:t xml:space="preserve">=</m:t>
                    </m:r>
                    <m:rad>
                      <m:radPr>
                        <m:degHide m:val="1"/>
                      </m:radPr>
                      <m:deg/>
                      <m:e>
                        <m:f>
                          <m:num>
                            <m:sSub>
                              <m:e>
                                <m:r>
                                  <m:t xml:space="preserve">C</m:t>
                                </m:r>
                              </m:e>
                              <m:sub>
                                <m:r>
                                  <m:t xml:space="preserve">0</m:t>
                                </m:r>
                              </m:sub>
                            </m:sSub>
                          </m:num>
                          <m:den>
                            <m:r>
                              <m:t xml:space="preserve">B</m:t>
                            </m:r>
                            <m:r>
                              <m:t xml:space="preserve">+</m:t>
                            </m:r>
                            <m:r>
                              <m:t xml:space="preserve">D</m:t>
                            </m:r>
                          </m:den>
                        </m:f>
                      </m:e>
                    </m:rad>
                  </m:oMath>
                </a14:m>
              </a:p>
            </p:txBody>
          </p:sp>
        </mc:Choice>
        <mc:Fallback/>
      </mc:AlternateContent>
      <p:sp>
        <p:nvSpPr>
          <p:cNvPr id="5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4" name=""/>
              <p:cNvSpPr txBox="1"/>
              <p:nvPr/>
            </p:nvSpPr>
            <p:spPr>
              <a:xfrm>
                <a:off x="1619280" y="5499000"/>
                <a:ext cx="4105080" cy="453960"/>
              </a:xfrm>
              <a:prstGeom prst="rect">
                <a:avLst/>
              </a:prstGeom>
            </p:spPr>
            <p:txBody>
              <a:bodyPr/>
              <a:p>
                <a14:m>
                  <m:oMath xmlns:m="http://schemas.openxmlformats.org/officeDocument/2006/math">
                    <m:sSub>
                      <m:e>
                        <m:r>
                          <m:t xml:space="preserve">ΔP</m:t>
                        </m:r>
                      </m:e>
                      <m:sub>
                        <m:r>
                          <m:rPr>
                            <m:lit/>
                            <m:nor/>
                          </m:rPr>
                          <m:t xml:space="preserve">max</m:t>
                        </m:r>
                      </m:sub>
                    </m:sSub>
                    <m:r>
                      <m:t xml:space="preserve">=</m:t>
                    </m:r>
                    <m:sSub>
                      <m:e>
                        <m:r>
                          <m:t xml:space="preserve">N</m:t>
                        </m:r>
                      </m:e>
                      <m:sub>
                        <m:r>
                          <m:t xml:space="preserve">0</m:t>
                        </m:r>
                      </m:sub>
                    </m:sSub>
                    <m:r>
                      <m:t xml:space="preserve">p</m:t>
                    </m:r>
                    <m:r>
                      <m:t xml:space="preserve">(</m:t>
                    </m:r>
                    <m:sSub>
                      <m:e>
                        <m:r>
                          <m:t xml:space="preserve">N</m:t>
                        </m:r>
                      </m:e>
                      <m:sub>
                        <m:r>
                          <m:t xml:space="preserve">0</m:t>
                        </m:r>
                      </m:sub>
                    </m:sSub>
                    <m:r>
                      <m:t xml:space="preserve">)</m:t>
                    </m:r>
                    <m:r>
                      <m:t xml:space="preserve">−</m:t>
                    </m:r>
                    <m:sSub>
                      <m:e>
                        <m:r>
                          <m:t xml:space="preserve">N</m:t>
                        </m:r>
                      </m:e>
                      <m:sub>
                        <m:r>
                          <m:t xml:space="preserve">K</m:t>
                        </m:r>
                      </m:sub>
                    </m:sSub>
                    <m:r>
                      <m:t xml:space="preserve">p</m:t>
                    </m:r>
                    <m:r>
                      <m:t xml:space="preserve">(</m:t>
                    </m:r>
                    <m:sSub>
                      <m:e>
                        <m:r>
                          <m:t xml:space="preserve">N</m:t>
                        </m:r>
                      </m:e>
                      <m:sub>
                        <m:r>
                          <m:t xml:space="preserve">K</m:t>
                        </m:r>
                      </m:sub>
                    </m:sSub>
                    <m:r>
                      <m:t xml:space="preserve">)</m:t>
                    </m:r>
                  </m:oMath>
                </a14:m>
              </a:p>
            </p:txBody>
          </p:sp>
        </mc:Choice>
        <mc:Fallback/>
      </mc:AlternateContent>
      <p:sp>
        <p:nvSpPr>
          <p:cNvPr id="5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6" name=""/>
              <p:cNvSpPr txBox="1"/>
              <p:nvPr/>
            </p:nvSpPr>
            <p:spPr>
              <a:xfrm>
                <a:off x="6440400" y="5537160"/>
                <a:ext cx="1800360" cy="419040"/>
              </a:xfrm>
              <a:prstGeom prst="rect">
                <a:avLst/>
              </a:prstGeom>
            </p:spPr>
            <p:txBody>
              <a:bodyPr/>
              <a:p>
                <a14:m>
                  <m:oMath xmlns:m="http://schemas.openxmlformats.org/officeDocument/2006/math">
                    <m:sSub>
                      <m:e>
                        <m:r>
                          <m:t xml:space="preserve">N</m:t>
                        </m:r>
                      </m:e>
                      <m:sub>
                        <m:r>
                          <m:t xml:space="preserve">k</m:t>
                        </m:r>
                      </m:sub>
                    </m:sSub>
                    <m:r>
                      <m:t xml:space="preserve">&lt;</m:t>
                    </m:r>
                    <m:sSub>
                      <m:e>
                        <m:r>
                          <m:t xml:space="preserve">N</m:t>
                        </m:r>
                      </m:e>
                      <m:sub>
                        <m:r>
                          <m:t xml:space="preserve">0</m:t>
                        </m:r>
                      </m:sub>
                    </m:sSub>
                    <m:r>
                      <m:t xml:space="preserve">&lt;</m:t>
                    </m:r>
                    <m:sSub>
                      <m:e>
                        <m:r>
                          <m:t xml:space="preserve">N</m:t>
                        </m:r>
                      </m:e>
                      <m:sub>
                        <m:r>
                          <m:t xml:space="preserve">m</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F034BF7-36F7-4BEF-AC03-678E10E447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2252520" y="228600"/>
            <a:ext cx="4638960" cy="58705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9A4E903-8904-4424-B1D5-B71EAB30D3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gy új vállalkozás létrejötte függ</a:t>
            </a:r>
            <a:r>
              <a:rPr b="0" lang="en-US" sz="3200" spc="-1" strike="noStrike">
                <a:solidFill>
                  <a:srgbClr val="ffffff"/>
                </a:solidFill>
                <a:latin typeface="Tahoma"/>
              </a:rPr>
              <a:t> a </a:t>
            </a:r>
            <a:r>
              <a:rPr b="0" lang="hu-HU" sz="3200" spc="-1" strike="noStrike">
                <a:solidFill>
                  <a:srgbClr val="ffffff"/>
                </a:solidFill>
                <a:latin typeface="Tahoma"/>
              </a:rPr>
              <a:t>közegtő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zeg általános jellemzői nagyon változóak és nehezen mérhetők, vagy prognosztizálhatók.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C036149-8EC0-4358-A65F-6BAA473685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Használati</a:t>
            </a:r>
            <a:r>
              <a:rPr b="0" lang="hu-HU" sz="2800" spc="-1" strike="noStrike">
                <a:solidFill>
                  <a:srgbClr val="ffffff"/>
                </a:solidFill>
                <a:latin typeface="Tahoma"/>
              </a:rPr>
              <a:t> érték: az áru tulajdonságai mennyire elégítik ki a használat  során felmerült szükségleteke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Minőségi</a:t>
            </a:r>
            <a:r>
              <a:rPr b="0" lang="hu-HU" sz="2800" spc="-1" strike="noStrike">
                <a:solidFill>
                  <a:srgbClr val="ffffff"/>
                </a:solidFill>
                <a:latin typeface="Tahoma"/>
              </a:rPr>
              <a:t> érték: csak relációként mérhető. Úgy kell megtervezni és előállítani az árut, hogy annak hasznos tulajdonságai majd a vevő előzetesen megfogalmazódó igényeinek megfeleljenek. (Előidejűsé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Piaci </a:t>
            </a:r>
            <a:r>
              <a:rPr b="0" lang="hu-HU" sz="2800" spc="-1" strike="noStrike">
                <a:solidFill>
                  <a:srgbClr val="ffffff"/>
                </a:solidFill>
                <a:latin typeface="Tahoma"/>
              </a:rPr>
              <a:t>érték:</a:t>
            </a:r>
            <a:r>
              <a:rPr b="0" i="1" lang="hu-HU" sz="2800" spc="-1" strike="noStrike">
                <a:solidFill>
                  <a:srgbClr val="ffffff"/>
                </a:solidFill>
                <a:latin typeface="Tahoma"/>
              </a:rPr>
              <a:t> "</a:t>
            </a:r>
            <a:r>
              <a:rPr b="0" lang="hu-HU" sz="2800" spc="-1" strike="noStrike">
                <a:solidFill>
                  <a:srgbClr val="ffffff"/>
                </a:solidFill>
                <a:latin typeface="Tahoma"/>
              </a:rPr>
              <a:t>Kereslet - kínálat" relációjával kifejezhető mérté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B7B22C1-DCFE-4218-A07B-5096D8B5EE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 egyedisége növeli a minőségi értékét.  A tömeggyártásról a kis- és középsorozatú rugalmas gyártás felé tolódik el a technológiai struktúra.</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ra fordított költségekben az árukészletezés és az elosztás költségének aránya megnő.</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 összetettségű termékek esetében a szerelési modulok kombinálásával növelik a termékek egyediségét és igyekeznek megtartani a részegységek nagysorozat-gyártását.</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sor végéhez ezáltal szervesen hozzákapcsolódik a marketing munka informatikai fázisa i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D1E265-D662-49FE-ABA9-9619E9EF6F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ndszerszemléleti alapok</a:t>
            </a:r>
            <a:r>
              <a:rPr b="0" lang="en-US" sz="2800" spc="-1" strike="noStrike">
                <a:solidFill>
                  <a:srgbClr val="ffffff"/>
                </a:solidFill>
                <a:latin typeface="Tahoma"/>
              </a:rPr>
              <a:t> (</a:t>
            </a:r>
            <a:r>
              <a:rPr b="0" i="1" lang="hu-HU" sz="2800" spc="-1" strike="noStrike">
                <a:solidFill>
                  <a:srgbClr val="ffffff"/>
                </a:solidFill>
                <a:latin typeface="Tahoma"/>
              </a:rPr>
              <a:t>C.W. Churchman</a:t>
            </a:r>
            <a:r>
              <a:rPr b="0" i="1" lang="en-US" sz="2800" spc="-1" strike="noStrike">
                <a:solidFill>
                  <a:srgbClr val="ffffff"/>
                </a:solidFill>
                <a:latin typeface="Tahoma"/>
              </a:rPr>
              <a:t>)</a:t>
            </a:r>
            <a:r>
              <a:rPr b="0" lang="hu-HU" sz="2800" spc="-1" strike="noStrike">
                <a:solidFill>
                  <a:srgbClr val="ffffff"/>
                </a:solidFill>
                <a:latin typeface="Tahoma"/>
              </a:rPr>
              <a:t>:</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gész (komplex) rendszer célja és működésének értékmérője (jósági fok, optimum</a:t>
            </a:r>
            <a:r>
              <a:rPr b="0" lang="en-US" sz="2800" spc="-1" strike="noStrike">
                <a:solidFill>
                  <a:srgbClr val="ffffff"/>
                </a:solidFill>
                <a:latin typeface="Tahoma"/>
              </a:rPr>
              <a:t>-</a:t>
            </a:r>
            <a:r>
              <a:rPr b="0" lang="hu-HU" sz="2800" spc="-1" strike="noStrike">
                <a:solidFill>
                  <a:srgbClr val="ffffff"/>
                </a:solidFill>
                <a:latin typeface="Tahoma"/>
              </a:rPr>
              <a:t>kritérium);</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környezete: a meg nem változtatható korláto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erőforrásai;</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alkotóelemei: tevékenységeik, céljaik, értékmérői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vezetése (irányítása).</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BADF6D-8B29-4092-872B-331608F16F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endParaRPr b="0" lang="en-US" sz="44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különböztetjük a </a:t>
            </a:r>
            <a:r>
              <a:rPr b="0" i="1" lang="hu-HU" sz="2400" spc="-1" strike="noStrike">
                <a:solidFill>
                  <a:srgbClr val="ffffff"/>
                </a:solidFill>
                <a:latin typeface="Tahoma"/>
              </a:rPr>
              <a:t>valóságosan</a:t>
            </a:r>
            <a:r>
              <a:rPr b="0" lang="hu-HU" sz="2400" spc="-1" strike="noStrike">
                <a:solidFill>
                  <a:srgbClr val="ffffff"/>
                </a:solidFill>
                <a:latin typeface="Tahoma"/>
              </a:rPr>
              <a:t> (tárgyilag) létező rendszert és annak elvont, gondolati, fizikai vagy más tudományos </a:t>
            </a:r>
            <a:r>
              <a:rPr b="0" i="1" lang="hu-HU" sz="2400" spc="-1" strike="noStrike">
                <a:solidFill>
                  <a:srgbClr val="ffffff"/>
                </a:solidFill>
                <a:latin typeface="Tahoma"/>
              </a:rPr>
              <a:t>modelljé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ttől is elválasztjuk a mennyiségi és formális logikai jellemzőkre felírható </a:t>
            </a:r>
            <a:r>
              <a:rPr b="0" i="1" lang="hu-HU" sz="2400" spc="-1" strike="noStrike">
                <a:solidFill>
                  <a:srgbClr val="ffffff"/>
                </a:solidFill>
                <a:latin typeface="Tahoma"/>
              </a:rPr>
              <a:t>matematikai modell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ét másnak tekintjük azt a logikai-matematikai tervezői gondolatsort, amely valamely anyagi rendszer vagy folyamat </a:t>
            </a:r>
            <a:r>
              <a:rPr b="0" i="1" lang="hu-HU" sz="2400" spc="-1" strike="noStrike">
                <a:solidFill>
                  <a:srgbClr val="ffffff"/>
                </a:solidFill>
                <a:latin typeface="Tahoma"/>
              </a:rPr>
              <a:t>megvalósítására</a:t>
            </a:r>
            <a:r>
              <a:rPr b="0" lang="hu-HU" sz="2400" spc="-1" strike="noStrike">
                <a:solidFill>
                  <a:srgbClr val="ffffff"/>
                </a:solidFill>
                <a:latin typeface="Tahoma"/>
              </a:rPr>
              <a:t> irányul. Ez is </a:t>
            </a:r>
            <a:r>
              <a:rPr b="0" i="1" lang="hu-HU" sz="2400" spc="-1" strike="noStrike">
                <a:solidFill>
                  <a:srgbClr val="ffffff"/>
                </a:solidFill>
                <a:latin typeface="Tahoma"/>
              </a:rPr>
              <a:t>rendszer</a:t>
            </a:r>
            <a:r>
              <a:rPr b="0" lang="hu-HU" sz="2400" spc="-1" strike="noStrike">
                <a:solidFill>
                  <a:srgbClr val="ffffff"/>
                </a:solidFill>
                <a:latin typeface="Tahoma"/>
              </a:rPr>
              <a:t>, ha a jól felépített fogalmak és algoritmikus kapcsolatok, mint gondolati eszközök, ismételten felhasználhatók. Ilyen jellegűek például a számítógéppel segített (CAxx) tervezőrendszerek, beleértve a CAQ (Computer Aided Quality [Assurance]) rendszereket i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C68F878-42CE-4ABD-88AA-181214280A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trukturális analízis</a:t>
            </a:r>
            <a:r>
              <a:rPr b="0" lang="en-US" sz="4400" spc="-1" strike="noStrike">
                <a:solidFill>
                  <a:srgbClr val="ffffcc"/>
                </a:solidFill>
                <a:latin typeface="Tahoma"/>
              </a:rPr>
              <a:t> – </a:t>
            </a:r>
            <a:r>
              <a:rPr b="0" lang="hu-HU" sz="4400" spc="-1" strike="noStrike">
                <a:solidFill>
                  <a:srgbClr val="ffffcc"/>
                </a:solidFill>
                <a:latin typeface="Tahoma"/>
              </a:rPr>
              <a:t>blokkvázla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20" name=""/>
          <p:cNvGraphicFramePr/>
          <p:nvPr/>
        </p:nvGraphicFramePr>
        <p:xfrm>
          <a:off x="4500720" y="1268280"/>
          <a:ext cx="2293920" cy="4821480"/>
        </p:xfrm>
        <a:graphic>
          <a:graphicData uri="http://schemas.openxmlformats.org/presentationml/2006/ole">
            <p:oleObj r:id="rId1" spid="">
              <p:embed/>
              <p:pic>
                <p:nvPicPr>
                  <p:cNvPr id="521" name="" descr=""/>
                  <p:cNvPicPr/>
                  <p:nvPr/>
                </p:nvPicPr>
                <p:blipFill>
                  <a:blip r:embed="rId2"/>
                  <a:stretch/>
                </p:blipFill>
                <p:spPr>
                  <a:xfrm>
                    <a:off x="4500720" y="1268280"/>
                    <a:ext cx="2293920" cy="4821480"/>
                  </a:xfrm>
                  <a:prstGeom prst="rect">
                    <a:avLst/>
                  </a:prstGeom>
                  <a:ln w="0">
                    <a:noFill/>
                  </a:ln>
                </p:spPr>
              </p:pic>
            </p:oleObj>
          </a:graphicData>
        </a:graphic>
      </p:graphicFrame>
      <p:sp>
        <p:nvSpPr>
          <p:cNvPr id="5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3" name=""/>
              <p:cNvSpPr txBox="1"/>
              <p:nvPr/>
            </p:nvSpPr>
            <p:spPr>
              <a:xfrm>
                <a:off x="1692360" y="1574640"/>
                <a:ext cx="172728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2</m:t>
                        </m:r>
                      </m:sub>
                    </m:sSub>
                    <m:r>
                      <m:t xml:space="preserve">(</m:t>
                    </m:r>
                    <m:sSub>
                      <m:e>
                        <m:r>
                          <m:t xml:space="preserve">a</m:t>
                        </m:r>
                      </m:e>
                      <m:sub>
                        <m:r>
                          <m:t xml:space="preserve">1</m:t>
                        </m:r>
                      </m:sub>
                    </m:sSub>
                    <m:sSub>
                      <m:e>
                        <m:r>
                          <m:t xml:space="preserve">x</m:t>
                        </m:r>
                      </m:e>
                      <m:sub>
                        <m:r>
                          <m:t xml:space="preserve">1</m:t>
                        </m:r>
                      </m:sub>
                    </m:sSub>
                    <m:r>
                      <m:t xml:space="preserve">)</m:t>
                    </m:r>
                  </m:oMath>
                </a14:m>
              </a:p>
            </p:txBody>
          </p:sp>
        </mc:Choice>
        <mc:Fallback/>
      </mc:AlternateContent>
      <p:sp>
        <p:nvSpPr>
          <p:cNvPr id="5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5" name=""/>
              <p:cNvSpPr txBox="1"/>
              <p:nvPr/>
            </p:nvSpPr>
            <p:spPr>
              <a:xfrm>
                <a:off x="1692360" y="2708280"/>
                <a:ext cx="1942920" cy="417600"/>
              </a:xfrm>
              <a:prstGeom prst="rect">
                <a:avLst/>
              </a:prstGeom>
            </p:spPr>
            <p:txBody>
              <a:bodyPr/>
              <a:p>
                <a14:m>
                  <m:oMath xmlns:m="http://schemas.openxmlformats.org/officeDocument/2006/math">
                    <m:sSub>
                      <m:e>
                        <m:r>
                          <m:t xml:space="preserve">x</m:t>
                        </m:r>
                      </m:e>
                      <m:sub>
                        <m:r>
                          <m:t xml:space="preserve">2</m:t>
                        </m:r>
                      </m:sub>
                    </m:sSub>
                    <m:r>
                      <m:t xml:space="preserve">=</m:t>
                    </m:r>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x</m:t>
                        </m:r>
                      </m:e>
                      <m:sub>
                        <m:r>
                          <m:t xml:space="preserve">1</m:t>
                        </m:r>
                      </m:sub>
                    </m:sSub>
                  </m:oMath>
                </a14:m>
              </a:p>
            </p:txBody>
          </p:sp>
        </mc:Choice>
        <mc:Fallback/>
      </mc:AlternateContent>
      <p:sp>
        <p:nvSpPr>
          <p:cNvPr id="5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7" name=""/>
              <p:cNvSpPr txBox="1"/>
              <p:nvPr/>
            </p:nvSpPr>
            <p:spPr>
              <a:xfrm>
                <a:off x="1619280" y="3860640"/>
                <a:ext cx="197784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1</m:t>
                        </m:r>
                      </m:sub>
                    </m:sSub>
                    <m:sSub>
                      <m:e>
                        <m:r>
                          <m:t xml:space="preserve">x</m:t>
                        </m:r>
                      </m:e>
                      <m:sub>
                        <m:r>
                          <m:t xml:space="preserve">1</m:t>
                        </m:r>
                      </m:sub>
                    </m:sSub>
                    <m:r>
                      <m:t xml:space="preserve">+</m:t>
                    </m:r>
                    <m:sSub>
                      <m:e>
                        <m:r>
                          <m:t xml:space="preserve">a</m:t>
                        </m:r>
                      </m:e>
                      <m:sub>
                        <m:r>
                          <m:t xml:space="preserve">2</m:t>
                        </m:r>
                      </m:sub>
                    </m:sSub>
                    <m:sSub>
                      <m:e>
                        <m:r>
                          <m:t xml:space="preserve">x</m:t>
                        </m:r>
                      </m:e>
                      <m:sub>
                        <m:r>
                          <m:t xml:space="preserve">2</m:t>
                        </m:r>
                      </m:sub>
                    </m:sSub>
                  </m:oMath>
                </a14:m>
              </a:p>
            </p:txBody>
          </p:sp>
        </mc:Choice>
        <mc:Fallback/>
      </mc:AlternateContent>
      <p:sp>
        <p:nvSpPr>
          <p:cNvPr id="52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9" name=""/>
              <p:cNvSpPr txBox="1"/>
              <p:nvPr/>
            </p:nvSpPr>
            <p:spPr>
              <a:xfrm>
                <a:off x="1619280" y="5013360"/>
                <a:ext cx="1871640" cy="817560"/>
              </a:xfrm>
              <a:prstGeom prst="rect">
                <a:avLst/>
              </a:prstGeom>
            </p:spPr>
            <p:txBody>
              <a:bodyPr/>
              <a:p>
                <a14:m>
                  <m:oMath xmlns:m="http://schemas.openxmlformats.org/officeDocument/2006/math">
                    <m:sSub>
                      <m:e>
                        <m:r>
                          <m:t xml:space="preserve">x</m:t>
                        </m:r>
                      </m:e>
                      <m:sub>
                        <m:r>
                          <m:t xml:space="preserve">2</m:t>
                        </m:r>
                      </m:sub>
                    </m:sSub>
                    <m:r>
                      <m:t xml:space="preserve">=</m:t>
                    </m:r>
                    <m:f>
                      <m:num>
                        <m:sSub>
                          <m:e>
                            <m:r>
                              <m:t xml:space="preserve">a</m:t>
                            </m:r>
                          </m:e>
                          <m:sub>
                            <m:r>
                              <m:t xml:space="preserve">1</m:t>
                            </m:r>
                          </m:sub>
                        </m:sSub>
                      </m:num>
                      <m:den>
                        <m:r>
                          <m:t xml:space="preserve">1</m:t>
                        </m:r>
                        <m:r>
                          <m:t xml:space="preserve">−</m:t>
                        </m:r>
                        <m:sSub>
                          <m:e>
                            <m:r>
                              <m:t xml:space="preserve">a</m:t>
                            </m:r>
                          </m:e>
                          <m:sub>
                            <m:r>
                              <m:t xml:space="preserve">1</m:t>
                            </m:r>
                          </m:sub>
                        </m:sSub>
                        <m:sSub>
                          <m:e>
                            <m:r>
                              <m:t xml:space="preserve">a</m:t>
                            </m:r>
                          </m:e>
                          <m:sub>
                            <m:r>
                              <m:t xml:space="preserve">2</m:t>
                            </m:r>
                          </m:sub>
                        </m:sSub>
                      </m:den>
                    </m:f>
                    <m:sSub>
                      <m:e>
                        <m:r>
                          <m:t xml:space="preserve">x</m:t>
                        </m:r>
                      </m:e>
                      <m:sub>
                        <m:r>
                          <m:t xml:space="preserve">1</m:t>
                        </m:r>
                      </m:sub>
                    </m:sSub>
                  </m:oMath>
                </a14:m>
              </a:p>
            </p:txBody>
          </p:sp>
        </mc:Choice>
        <mc:Fallback/>
      </mc:AlternateContent>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53F7526-2AA7-4C75-A3DC-BED004590C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ékek és szolgáltatások minősége a fogyasztók (felhasználók) szubjektív értékítélete kapcsán alakul ki.</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 az értékítélet a termékek és szolgáltatások komplex tulajdonságai alapján spontán és aggregát módon jön létre. </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az az oka, hogy például a fogyasztási cikkek minősége a funkcionális tulajdonságok és az ár mellett a forma, a megbízhatóság, a tartósság, a kapcsolódó szervízszolgáltatások, sőt a "divatosság" és újabban a "környezetkímélő" tulajdonságok bonyolult függvénye.</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D5C54D3-DF03-4492-BBFF-F8BA217626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 egy termék vagy szolgáltatás minőségét mérni akarjuk, akkor ez csak a </a:t>
            </a:r>
            <a:r>
              <a:rPr b="0" i="1" lang="hu-HU" sz="2400" spc="-1" strike="noStrike">
                <a:solidFill>
                  <a:srgbClr val="ffffff"/>
                </a:solidFill>
                <a:latin typeface="Tahoma"/>
              </a:rPr>
              <a:t>megfelelőség </a:t>
            </a:r>
            <a:r>
              <a:rPr b="0" lang="hu-HU" sz="2400" spc="-1" strike="noStrike">
                <a:solidFill>
                  <a:srgbClr val="ffffff"/>
                </a:solidFill>
                <a:latin typeface="Tahoma"/>
              </a:rPr>
              <a:t>alapján lehetséges. </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felelőségi elemzés alapja az </a:t>
            </a:r>
            <a:r>
              <a:rPr b="0" i="1" lang="hu-HU" sz="2400" spc="-1" strike="noStrike">
                <a:solidFill>
                  <a:srgbClr val="ffffff"/>
                </a:solidFill>
                <a:latin typeface="Tahoma"/>
              </a:rPr>
              <a:t>összehasonlítás</a:t>
            </a:r>
            <a:r>
              <a:rPr b="0" lang="hu-HU" sz="2400" spc="-1" strike="noStrike">
                <a:solidFill>
                  <a:srgbClr val="ffffff"/>
                </a:solidFill>
                <a:latin typeface="Tahoma"/>
              </a:rPr>
              <a:t>. Minden terméknek vagy szolgáltatásnak vannak olyan tulajdonságai, amelyek valamilyen módon megfigyelhetők és mérhetők. Ezek a mérhető tulajdonságok mindig összevethetők a rájuk vonatkozó követelményekkel.</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elmények sokféleképpen megfogalmazhatók és általában valamilyen </a:t>
            </a:r>
            <a:r>
              <a:rPr b="0" i="1" lang="hu-HU" sz="2400" spc="-1" strike="noStrike">
                <a:solidFill>
                  <a:srgbClr val="ffffff"/>
                </a:solidFill>
                <a:latin typeface="Tahoma"/>
              </a:rPr>
              <a:t>reláció</a:t>
            </a:r>
            <a:r>
              <a:rPr b="0" lang="hu-HU" sz="2400" spc="-1" strike="noStrike">
                <a:solidFill>
                  <a:srgbClr val="ffffff"/>
                </a:solidFill>
                <a:latin typeface="Tahoma"/>
              </a:rPr>
              <a:t> alakját öltik.</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láció a mért és a követelményként előírt (megállapodással, szabvánnyal, tapasztalati úton rögzített) </a:t>
            </a:r>
            <a:r>
              <a:rPr b="0" i="1" lang="hu-HU" sz="2400" spc="-1" strike="noStrike">
                <a:solidFill>
                  <a:srgbClr val="ffffff"/>
                </a:solidFill>
                <a:latin typeface="Tahoma"/>
              </a:rPr>
              <a:t>értékhalmazok</a:t>
            </a:r>
            <a:r>
              <a:rPr b="0" lang="hu-HU" sz="2400" spc="-1" strike="noStrike">
                <a:solidFill>
                  <a:srgbClr val="ffffff"/>
                </a:solidFill>
                <a:latin typeface="Tahoma"/>
              </a:rPr>
              <a:t> között teremt kapcsolato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9715D6-E5F0-4896-868C-B289978027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et alakító tényezők</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ü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iaci viszony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rsadalmi, gazdasági, környezeti eleme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rmék imázsa.</a:t>
            </a:r>
            <a:endParaRPr b="0" lang="en-US" sz="24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vezet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ztönz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beri erőforrás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ártás, gazdálkodá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ellenőrzés.</a:t>
            </a:r>
            <a:endParaRPr b="0" lang="en-US" sz="2400" spc="-1" strike="noStrike">
              <a:solidFill>
                <a:srgbClr val="ffffff"/>
              </a:solidFill>
              <a:latin typeface="Tahoma"/>
            </a:endParaRPr>
          </a:p>
        </p:txBody>
      </p:sp>
      <p:pic>
        <p:nvPicPr>
          <p:cNvPr id="403" name="" descr=""/>
          <p:cNvPicPr/>
          <p:nvPr/>
        </p:nvPicPr>
        <p:blipFill>
          <a:blip r:embed="rId1"/>
          <a:stretch/>
        </p:blipFill>
        <p:spPr>
          <a:xfrm>
            <a:off x="5076720" y="1844640"/>
            <a:ext cx="3240360" cy="3220920"/>
          </a:xfrm>
          <a:prstGeom prst="rect">
            <a:avLst/>
          </a:prstGeom>
          <a:ln w="0">
            <a:noFill/>
          </a:ln>
        </p:spPr>
      </p:pic>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AFC66E-724F-4053-A17E-734F7966C5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5" name="PlaceHolder 2"/>
          <p:cNvSpPr>
            <a:spLocks noGrp="1"/>
          </p:cNvSpPr>
          <p:nvPr>
            <p:ph/>
          </p:nvPr>
        </p:nvSpPr>
        <p:spPr>
          <a:xfrm>
            <a:off x="301680" y="1600200"/>
            <a:ext cx="8540640" cy="35575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ség megállapításánál leggyakrabban használt minősítő relációk: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egyezik",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sebb" vagy "kisebb-egyenlő",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nagyobb", vagy "nagyobb-egyenlő".</a:t>
            </a:r>
            <a:endParaRPr b="0" lang="en-US" sz="2400" spc="-1" strike="noStrike">
              <a:solidFill>
                <a:srgbClr val="ffffff"/>
              </a:solidFill>
              <a:latin typeface="Tahoma"/>
            </a:endParaRPr>
          </a:p>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tárértékek közé szorított mérhető tulajdonság esetében a megfelelőség relációját </a:t>
            </a:r>
            <a:r>
              <a:rPr b="0" i="1" lang="hu-HU" sz="2800" spc="-1" strike="noStrike">
                <a:solidFill>
                  <a:srgbClr val="ffffff"/>
                </a:solidFill>
                <a:latin typeface="Tahoma"/>
              </a:rPr>
              <a:t>tűrés</a:t>
            </a:r>
            <a:r>
              <a:rPr b="0" lang="hu-HU" sz="2800" spc="-1" strike="noStrike">
                <a:solidFill>
                  <a:srgbClr val="ffffff"/>
                </a:solidFill>
                <a:latin typeface="Tahoma"/>
              </a:rPr>
              <a:t>nek nevezik:</a:t>
            </a:r>
            <a:endParaRPr b="0" lang="en-US" sz="2800" spc="-1" strike="noStrike">
              <a:solidFill>
                <a:srgbClr val="ffffff"/>
              </a:solidFill>
              <a:latin typeface="Tahoma"/>
            </a:endParaRPr>
          </a:p>
        </p:txBody>
      </p:sp>
      <p:sp>
        <p:nvSpPr>
          <p:cNvPr id="5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37" name=""/>
              <p:cNvSpPr txBox="1"/>
              <p:nvPr/>
            </p:nvSpPr>
            <p:spPr>
              <a:xfrm>
                <a:off x="3851280" y="5229360"/>
                <a:ext cx="1512720" cy="496800"/>
              </a:xfrm>
              <a:prstGeom prst="rect">
                <a:avLst/>
              </a:prstGeom>
            </p:spPr>
            <p:txBody>
              <a:bodyPr/>
              <a:p>
                <a14:m>
                  <m:oMath xmlns:m="http://schemas.openxmlformats.org/officeDocument/2006/math">
                    <m:sSub>
                      <m:e>
                        <m:r>
                          <m:t xml:space="preserve">x</m:t>
                        </m:r>
                      </m:e>
                      <m:sub>
                        <m:r>
                          <m:t xml:space="preserve">a</m:t>
                        </m:r>
                      </m:sub>
                    </m:sSub>
                    <m:r>
                      <m:t xml:space="preserve">≤</m:t>
                    </m:r>
                    <m:r>
                      <m:t xml:space="preserve">x</m:t>
                    </m:r>
                    <m:r>
                      <m:t xml:space="preserve">≤</m:t>
                    </m:r>
                    <m:sSub>
                      <m:e>
                        <m:r>
                          <m:t xml:space="preserve">x</m:t>
                        </m:r>
                      </m:e>
                      <m:sub>
                        <m:r>
                          <m:t xml:space="preserve">f</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952C9C-6B4D-47FD-9692-75F49F00D6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m</a:t>
            </a:r>
            <a:r>
              <a:rPr b="0" lang="hu-HU" sz="4400" spc="-1" strike="noStrike">
                <a:solidFill>
                  <a:srgbClr val="ffffcc"/>
                </a:solidFill>
                <a:latin typeface="Tahoma"/>
              </a:rPr>
              <a:t>érési bizonytalanság kezelése</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mérési hiba</a:t>
            </a:r>
            <a:r>
              <a:rPr b="0" lang="hu-HU" sz="2000" spc="-1" strike="noStrike">
                <a:solidFill>
                  <a:srgbClr val="ffffff"/>
                </a:solidFill>
                <a:latin typeface="Tahoma"/>
              </a:rPr>
              <a:t> a mért érték </a:t>
            </a:r>
            <a:r>
              <a:rPr b="0" i="1" lang="hu-HU" sz="2000" spc="-1" strike="noStrike">
                <a:solidFill>
                  <a:srgbClr val="ffffff"/>
                </a:solidFill>
                <a:latin typeface="Tahoma"/>
              </a:rPr>
              <a:t>bizonytalanságának</a:t>
            </a:r>
            <a:r>
              <a:rPr b="0" lang="hu-HU" sz="2000" spc="-1" strike="noStrike">
                <a:solidFill>
                  <a:srgbClr val="ffffff"/>
                </a:solidFill>
                <a:latin typeface="Tahoma"/>
              </a:rPr>
              <a:t> kifejezése. A bizonytalanság a várt események bizonyos fokú </a:t>
            </a:r>
            <a:r>
              <a:rPr b="0" i="1" lang="hu-HU" sz="2000" spc="-1" strike="noStrike">
                <a:solidFill>
                  <a:srgbClr val="ffffff"/>
                </a:solidFill>
                <a:latin typeface="Tahoma"/>
              </a:rPr>
              <a:t>megjósolhatatlanságát </a:t>
            </a:r>
            <a:r>
              <a:rPr b="0" lang="hu-HU" sz="2000" spc="-1" strike="noStrike">
                <a:solidFill>
                  <a:srgbClr val="ffffff"/>
                </a:solidFill>
                <a:latin typeface="Tahoma"/>
              </a:rPr>
              <a:t>jellemzi.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izonytalanság matematikai modellezésére a </a:t>
            </a:r>
            <a:r>
              <a:rPr b="0" i="1" lang="hu-HU" sz="2000" spc="-1" strike="noStrike">
                <a:solidFill>
                  <a:srgbClr val="ffffff"/>
                </a:solidFill>
                <a:latin typeface="Tahoma"/>
              </a:rPr>
              <a:t>valószínűségszámítást </a:t>
            </a:r>
            <a:r>
              <a:rPr b="0" lang="hu-HU" sz="2000" spc="-1" strike="noStrike">
                <a:solidFill>
                  <a:srgbClr val="ffffff"/>
                </a:solidFill>
                <a:latin typeface="Tahoma"/>
              </a:rPr>
              <a:t>használják (</a:t>
            </a:r>
            <a:r>
              <a:rPr b="0" i="1" lang="hu-HU" sz="2000" spc="-1" strike="noStrike">
                <a:solidFill>
                  <a:srgbClr val="ffffff"/>
                </a:solidFill>
                <a:latin typeface="Tahoma"/>
              </a:rPr>
              <a:t>Kolmogorov</a:t>
            </a:r>
            <a:r>
              <a:rPr b="0" lang="hu-HU" sz="2000" spc="-1" strike="noStrike">
                <a:solidFill>
                  <a:srgbClr val="ffffff"/>
                </a:solidFill>
                <a:latin typeface="Tahoma"/>
              </a:rPr>
              <a:t> axiómái ). A minőségbiztosítási gyakorlatban főként a </a:t>
            </a:r>
            <a:r>
              <a:rPr b="0" i="1" lang="hu-HU" sz="2000" spc="-1" strike="noStrike">
                <a:solidFill>
                  <a:srgbClr val="ffffff"/>
                </a:solidFill>
                <a:latin typeface="Tahoma"/>
              </a:rPr>
              <a:t>matematikai statisztika</a:t>
            </a:r>
            <a:r>
              <a:rPr b="0" lang="hu-HU" sz="2000" spc="-1" strike="noStrike">
                <a:solidFill>
                  <a:srgbClr val="ffffff"/>
                </a:solidFill>
                <a:latin typeface="Tahoma"/>
              </a:rPr>
              <a:t> módszereit alkalmazzák.</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atematikai statisztika mintavételezéssel, mérési adatok gyűjtésével, ezek agregált feldolgozásával operál és ezek alapján döntéseket hoz. A döntések minősítő relációk, amelyek alapján a minőségi hurok beavatkozásokat, cselekvési terveket, változtatásokat kezdeményez és hajt végr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i folyamatok számos eleme olyan ismétlődő operációkból áll, amelyek rendszeres és</a:t>
            </a:r>
            <a:r>
              <a:rPr b="0" i="1" lang="hu-HU" sz="2000" spc="-1" strike="noStrike">
                <a:solidFill>
                  <a:srgbClr val="ffffff"/>
                </a:solidFill>
                <a:latin typeface="Tahoma"/>
              </a:rPr>
              <a:t> gazdaságos</a:t>
            </a:r>
            <a:r>
              <a:rPr b="0" lang="hu-HU" sz="2000" spc="-1" strike="noStrike">
                <a:solidFill>
                  <a:srgbClr val="ffffff"/>
                </a:solidFill>
                <a:latin typeface="Tahoma"/>
              </a:rPr>
              <a:t> ellenőrzése csak statisztikai módszerekkel lehetséges.</a:t>
            </a:r>
            <a:endParaRPr b="0" lang="en-US" sz="20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y" és "Nem megy" idomszerek alkalmazása</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olytonos mért jelek értékeit mérési űrlapokra rögzítése </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sztikai jellemzők (átlag, szórás, eloszlás, módusz, stb.) szám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EFAC15C-71A4-4CDB-A96E-336F85B0A5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ámítógépes minőségbiztosítás alkalmazása a mérésben</a:t>
            </a:r>
            <a:endParaRPr b="0" lang="en-US" sz="40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a mért adatok gyűjtésének, átalakításának, tárolásának, feldolgozása minden szakaszában támogatást adnak</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és a hozzájuk kapcsolódó szoftverek együttese a mérőeszközökkel (szenzorokkal), valamint az ellenőrző rendszerek szervezetével, struktúrájával komplex rendszert alkot: statisztikai folyamat ellenőrző rendszer (</a:t>
            </a:r>
            <a:r>
              <a:rPr b="0" i="1" lang="hu-HU" sz="2400" spc="-1" strike="noStrike">
                <a:solidFill>
                  <a:srgbClr val="ffffff"/>
                </a:solidFill>
                <a:latin typeface="Tahoma"/>
              </a:rPr>
              <a:t>Statistical Process Control</a:t>
            </a:r>
            <a:r>
              <a:rPr b="0" lang="hu-HU" sz="2400" spc="-1" strike="noStrike">
                <a:solidFill>
                  <a:srgbClr val="ffffff"/>
                </a:solidFill>
                <a:latin typeface="Tahoma"/>
              </a:rPr>
              <a:t>,  SPC)</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ítendő tulajdonságok és a mérési eredmények bizonytalanságának kezelésére új és hatékony modellezési technika jelent meg a hatvanas évek közepén, amelyet "elmosódott", "életlen", angol szakkifejezéssel </a:t>
            </a:r>
            <a:r>
              <a:rPr b="0" i="1" lang="hu-HU" sz="2400" spc="-1" strike="noStrike">
                <a:solidFill>
                  <a:srgbClr val="ffffff"/>
                </a:solidFill>
                <a:latin typeface="Tahoma"/>
              </a:rPr>
              <a:t>fuzzy</a:t>
            </a:r>
            <a:r>
              <a:rPr b="0" lang="hu-HU" sz="2400" spc="-1" strike="noStrike">
                <a:solidFill>
                  <a:srgbClr val="ffffff"/>
                </a:solidFill>
                <a:latin typeface="Tahoma"/>
              </a:rPr>
              <a:t> logikának neveznek (Zadeh</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2714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uzzy logika és a fuzzy relációs technika fuzzy halmazokkal operál</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C4AFE9D-95E5-4620-9D99-C758959E95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zzy logika</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ól definiálható érték-halmazokat "éles" halmazoknak nevezi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konkrét érték-elemről egyértelműen eldönthető: hozzátartozik-e a szóban forgó halmazhoz vagy nem.</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yelvi" változókkal definiált  érték-halmazok életlen” (fuzzy) halmazo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l. a "megbízhatóság" megfelelőségének minősítésére alkalmazhatjuk a "kis", "közepes" és "nagy" megbízhatóságú minősítés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zekhez a "nyelvi" változókhoz egy-egy speciális függvényt, az ún. </a:t>
            </a:r>
            <a:r>
              <a:rPr b="0" i="1" lang="hu-HU" sz="1800" spc="-1" strike="noStrike">
                <a:solidFill>
                  <a:srgbClr val="ffffff"/>
                </a:solidFill>
                <a:latin typeface="Tahoma"/>
              </a:rPr>
              <a:t>tagságfüggvényt</a:t>
            </a:r>
            <a:r>
              <a:rPr b="0" lang="hu-HU" sz="1800" spc="-1" strike="noStrike">
                <a:solidFill>
                  <a:srgbClr val="ffffff"/>
                </a:solidFill>
                <a:latin typeface="Tahoma"/>
              </a:rPr>
              <a:t> (membership function) rendeljük, akkor a megbízhatóság skáláján sokkal rugalmasabb besorolásra nyílik lehetőségünk</a:t>
            </a: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uzzy </a:t>
            </a:r>
            <a:r>
              <a:rPr b="0" i="1" lang="hu-HU" sz="1800" spc="-1" strike="noStrike">
                <a:solidFill>
                  <a:srgbClr val="ffffff"/>
                </a:solidFill>
                <a:latin typeface="Tahoma"/>
              </a:rPr>
              <a:t>tagságfüggvény </a:t>
            </a:r>
            <a:r>
              <a:rPr b="0" lang="hu-HU" sz="1800" spc="-1" strike="noStrike">
                <a:solidFill>
                  <a:srgbClr val="ffffff"/>
                </a:solidFill>
                <a:latin typeface="Tahoma"/>
              </a:rPr>
              <a:t>megadja az x változó,  fuzzy halmazhoz való tartozásának mértékét.</a:t>
            </a:r>
            <a:endParaRPr b="0" lang="en-US" sz="1800" spc="-1" strike="noStrike">
              <a:solidFill>
                <a:srgbClr val="ffffff"/>
              </a:solidFill>
              <a:latin typeface="Tahoma"/>
            </a:endParaRPr>
          </a:p>
        </p:txBody>
      </p:sp>
      <p:sp>
        <p:nvSpPr>
          <p:cNvPr id="5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45" name=""/>
              <p:cNvSpPr txBox="1"/>
              <p:nvPr/>
            </p:nvSpPr>
            <p:spPr>
              <a:xfrm>
                <a:off x="3851280" y="4869000"/>
                <a:ext cx="1368360" cy="372960"/>
              </a:xfrm>
              <a:prstGeom prst="rect">
                <a:avLst/>
              </a:prstGeom>
            </p:spPr>
            <p:txBody>
              <a:bodyPr/>
              <a:p>
                <a14:m>
                  <m:oMath xmlns:m="http://schemas.openxmlformats.org/officeDocument/2006/math">
                    <m:sSub>
                      <m:e>
                        <m:r>
                          <m:t xml:space="preserve">m</m:t>
                        </m:r>
                      </m:e>
                      <m:sub>
                        <m:sSub>
                          <m:e>
                            <m:r>
                              <m:t xml:space="preserve">A</m:t>
                            </m:r>
                          </m:e>
                          <m:sub>
                            <m:r>
                              <m:t xml:space="preserve">x</m:t>
                            </m:r>
                          </m:sub>
                        </m:sSub>
                      </m:sub>
                    </m:sSub>
                    <m:r>
                      <m:t xml:space="preserve">:</m:t>
                    </m:r>
                    <m:r>
                      <m:t xml:space="preserve">x</m:t>
                    </m:r>
                    <m:r>
                      <m:t xml:space="preserve">→</m:t>
                    </m:r>
                    <m:r>
                      <m:t xml:space="preserve">[</m:t>
                    </m:r>
                    <m:r>
                      <m:t xml:space="preserve">0,1</m:t>
                    </m:r>
                    <m:r>
                      <m:t xml:space="preserve">]</m:t>
                    </m: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891FEA-1B2B-41E3-90E8-8974086D0E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les és fuzzy halmaz</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47"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48" name=""/>
          <p:cNvGraphicFramePr/>
          <p:nvPr/>
        </p:nvGraphicFramePr>
        <p:xfrm>
          <a:off x="324000" y="2028960"/>
          <a:ext cx="8424720" cy="3070080"/>
        </p:xfrm>
        <a:graphic>
          <a:graphicData uri="http://schemas.openxmlformats.org/presentationml/2006/ole">
            <p:oleObj r:id="rId1" spid="">
              <p:embed/>
              <p:pic>
                <p:nvPicPr>
                  <p:cNvPr id="549" name="" descr=""/>
                  <p:cNvPicPr/>
                  <p:nvPr/>
                </p:nvPicPr>
                <p:blipFill>
                  <a:blip r:embed="rId2">
                    <a:alphaModFix amt="54000"/>
                  </a:blip>
                  <a:stretch/>
                </p:blipFill>
                <p:spPr>
                  <a:xfrm>
                    <a:off x="324000" y="2028960"/>
                    <a:ext cx="8424720" cy="3070080"/>
                  </a:xfrm>
                  <a:prstGeom prst="rect">
                    <a:avLst/>
                  </a:prstGeom>
                  <a:ln w="0">
                    <a:noFill/>
                  </a:ln>
                </p:spPr>
              </p:pic>
            </p:oleObj>
          </a:graphicData>
        </a:graphic>
      </p:graphicFrame>
      <p:sp>
        <p:nvSpPr>
          <p:cNvPr id="550" name=""/>
          <p:cNvSpPr/>
          <p:nvPr/>
        </p:nvSpPr>
        <p:spPr>
          <a:xfrm>
            <a:off x="0" y="41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6C97D53-BF52-494D-96BB-34DE72516E1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 és az irányítá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rányítás</a:t>
            </a:r>
            <a:r>
              <a:rPr b="0" lang="hu-HU" sz="2800" spc="-1" strike="noStrike">
                <a:solidFill>
                  <a:srgbClr val="ffffff"/>
                </a:solidFill>
                <a:latin typeface="Tahoma"/>
              </a:rPr>
              <a:t> olyan célirányos tevékenység, amely egy folyamatot elindít, megváltoztat, vagy leállít, azaz beavatkozik a folyamat időbeli fejlődésébe, állapotváltozóinak alakulásába. A beavatkozás a folyamat előre megtervezett kívánt állapota és a folyamat megfigyelt tényleges állapota összehasonlításával, ésszerű döntések alapján történik, hasznos eredmény elérése érdekébe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4BD83B6-541F-4F96-AE1B-F1E76FC81C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rendszer általános tulajdonság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4"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55" name=""/>
          <p:cNvGraphicFramePr/>
          <p:nvPr/>
        </p:nvGraphicFramePr>
        <p:xfrm>
          <a:off x="468360" y="1484280"/>
          <a:ext cx="7945560" cy="4403880"/>
        </p:xfrm>
        <a:graphic>
          <a:graphicData uri="http://schemas.openxmlformats.org/presentationml/2006/ole">
            <p:oleObj r:id="rId1" spid="">
              <p:embed/>
              <p:pic>
                <p:nvPicPr>
                  <p:cNvPr id="556" name="" descr=""/>
                  <p:cNvPicPr/>
                  <p:nvPr/>
                </p:nvPicPr>
                <p:blipFill>
                  <a:blip r:embed="rId2"/>
                  <a:stretch/>
                </p:blipFill>
                <p:spPr>
                  <a:xfrm>
                    <a:off x="468360" y="1484280"/>
                    <a:ext cx="7945560" cy="4403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DA65473-A543-4ACB-BF62-83E352AF23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objektumai közötti kölcsönhatások anyag-áramlással, energia-átadással és információ-átvitellel járnak együtt. Az információ átvitelét jelek közvetíti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jel</a:t>
            </a:r>
            <a:r>
              <a:rPr b="0" lang="hu-HU" sz="1800" spc="-1" strike="noStrike">
                <a:solidFill>
                  <a:srgbClr val="ffffff"/>
                </a:solidFill>
                <a:latin typeface="Tahoma"/>
              </a:rPr>
              <a:t> (</a:t>
            </a:r>
            <a:r>
              <a:rPr b="0" i="1" lang="hu-HU" sz="1800" spc="-1" strike="noStrike">
                <a:solidFill>
                  <a:srgbClr val="ffffff"/>
                </a:solidFill>
                <a:latin typeface="Tahoma"/>
              </a:rPr>
              <a:t>signal</a:t>
            </a:r>
            <a:r>
              <a:rPr b="0" lang="hu-HU" sz="1800" spc="-1" strike="noStrike">
                <a:solidFill>
                  <a:srgbClr val="ffffff"/>
                </a:solidFill>
                <a:latin typeface="Tahoma"/>
              </a:rPr>
              <a:t>), valamely megfigyelhető fizikai állapotjelző, amely információ hordozására képe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rendszer </a:t>
            </a:r>
            <a:r>
              <a:rPr b="0" i="1" lang="hu-HU" sz="1800" spc="-1" strike="noStrike">
                <a:solidFill>
                  <a:srgbClr val="ffffff"/>
                </a:solidFill>
                <a:latin typeface="Tahoma"/>
              </a:rPr>
              <a:t>állapotán</a:t>
            </a:r>
            <a:r>
              <a:rPr b="0" lang="hu-HU" sz="1800" spc="-1" strike="noStrike">
                <a:solidFill>
                  <a:srgbClr val="ffffff"/>
                </a:solidFill>
                <a:latin typeface="Tahoma"/>
              </a:rPr>
              <a:t> (</a:t>
            </a:r>
            <a:r>
              <a:rPr b="0" i="1" lang="hu-HU" sz="1800" spc="-1" strike="noStrike">
                <a:solidFill>
                  <a:srgbClr val="ffffff"/>
                </a:solidFill>
                <a:latin typeface="Tahoma"/>
              </a:rPr>
              <a:t>state</a:t>
            </a:r>
            <a:r>
              <a:rPr b="0" lang="hu-HU" sz="1800" spc="-1" strike="noStrike">
                <a:solidFill>
                  <a:srgbClr val="ffffff"/>
                </a:solidFill>
                <a:latin typeface="Tahoma"/>
              </a:rPr>
              <a:t>) állapotjelzői egy adott időpillanatban felvett értékeinek halmazát érjük. A rendszer állapota időben lehet állandó, vagy változó. Ez utóbbi esetben a rendszer állapotjelzőinek időbeli változása a rendszer </a:t>
            </a:r>
            <a:r>
              <a:rPr b="0" i="1" lang="hu-HU" sz="1800" spc="-1" strike="noStrike">
                <a:solidFill>
                  <a:srgbClr val="ffffff"/>
                </a:solidFill>
                <a:latin typeface="Tahoma"/>
              </a:rPr>
              <a:t>folyamatait</a:t>
            </a:r>
            <a:r>
              <a:rPr b="0" lang="hu-HU" sz="1800" spc="-1" strike="noStrike">
                <a:solidFill>
                  <a:srgbClr val="ffffff"/>
                </a:solidFill>
                <a:latin typeface="Tahoma"/>
              </a:rPr>
              <a:t> (</a:t>
            </a:r>
            <a:r>
              <a:rPr b="0" i="1" lang="hu-HU" sz="1800" spc="-1" strike="noStrike">
                <a:solidFill>
                  <a:srgbClr val="ffffff"/>
                </a:solidFill>
                <a:latin typeface="Tahoma"/>
              </a:rPr>
              <a:t>process</a:t>
            </a:r>
            <a:r>
              <a:rPr b="0" lang="hu-HU" sz="1800" spc="-1" strike="noStrike">
                <a:solidFill>
                  <a:srgbClr val="ffffff"/>
                </a:solidFill>
                <a:latin typeface="Tahoma"/>
              </a:rPr>
              <a: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olyamatainak állapotjelzőit természeti törvények kapcsolják össze. Ha ezeket ismerjük, vagy elegendő mérési eredményünk van a rendszer állapotjelzőinek időbeli változásáról, létrehozhatjuk a rendszer </a:t>
            </a:r>
            <a:r>
              <a:rPr b="0" i="1" lang="hu-HU" sz="1800" spc="-1" strike="noStrike">
                <a:solidFill>
                  <a:srgbClr val="ffffff"/>
                </a:solidFill>
                <a:latin typeface="Tahoma"/>
              </a:rPr>
              <a:t>modelljét</a:t>
            </a: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izikai rendszer modellje: </a:t>
            </a:r>
            <a:r>
              <a:rPr b="0" i="1" lang="hu-HU" sz="1800" spc="-1" strike="noStrike">
                <a:solidFill>
                  <a:srgbClr val="ffffff"/>
                </a:solidFill>
                <a:latin typeface="Tahoma"/>
              </a:rPr>
              <a:t>gondolati</a:t>
            </a:r>
            <a:r>
              <a:rPr b="0" lang="hu-HU" sz="1800" spc="-1" strike="noStrike">
                <a:solidFill>
                  <a:srgbClr val="ffffff"/>
                </a:solidFill>
                <a:latin typeface="Tahoma"/>
              </a:rPr>
              <a:t> (absztrakt) rendszer.</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rányított rendszerekben többnyire jól elkülöníthető az irányító és az irányított alrendszer. A két alrendszer kapcsolatát a "megfigyelés" és a "beavatkozás" eszközei valósítják meg</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B6A23B-DB33-4C6A-A05B-2D7CCF7E7B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folyamatokat a valóságban elkerülhetetlen külső és belső zavaró hatások érik. Ezek a zavarások is a valószínűbb, rendezetlenebb irányba terelik a rendszer állapotát. A kimenet kívánt eredménye csak beavatkozással, a folyamatok célszerű irányításával érhető 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utomatizálás az irányításon kívül feltételezi a folyamatok </a:t>
            </a:r>
            <a:r>
              <a:rPr b="0" i="1" lang="hu-HU" sz="2000" spc="-1" strike="noStrike">
                <a:solidFill>
                  <a:srgbClr val="ffffff"/>
                </a:solidFill>
                <a:latin typeface="Tahoma"/>
              </a:rPr>
              <a:t>gépesítését</a:t>
            </a:r>
            <a:r>
              <a:rPr b="0" lang="hu-HU" sz="2000" spc="-1" strike="noStrike">
                <a:solidFill>
                  <a:srgbClr val="ffffff"/>
                </a:solidFill>
                <a:latin typeface="Tahoma"/>
              </a:rPr>
              <a:t> és </a:t>
            </a:r>
            <a:r>
              <a:rPr b="0" i="1" lang="hu-HU" sz="2000" spc="-1" strike="noStrike">
                <a:solidFill>
                  <a:srgbClr val="ffffff"/>
                </a:solidFill>
                <a:latin typeface="Tahoma"/>
              </a:rPr>
              <a:t>műszerezését</a:t>
            </a:r>
            <a:r>
              <a:rPr b="0" lang="hu-HU" sz="2000" spc="-1" strike="noStrike">
                <a:solidFill>
                  <a:srgbClr val="ffffff"/>
                </a:solidFill>
                <a:latin typeface="Tahoma"/>
              </a:rPr>
              <a:t> is. Az előbbi az </a:t>
            </a:r>
            <a:r>
              <a:rPr b="0" i="1" lang="hu-HU" sz="2000" spc="-1" strike="noStrike">
                <a:solidFill>
                  <a:srgbClr val="ffffff"/>
                </a:solidFill>
                <a:latin typeface="Tahoma"/>
              </a:rPr>
              <a:t>önműködő beavatkozást</a:t>
            </a:r>
            <a:r>
              <a:rPr b="0" lang="hu-HU" sz="2000" spc="-1" strike="noStrike">
                <a:solidFill>
                  <a:srgbClr val="ffffff"/>
                </a:solidFill>
                <a:latin typeface="Tahoma"/>
              </a:rPr>
              <a:t>, az utóbbi a </a:t>
            </a:r>
            <a:r>
              <a:rPr b="0" i="1" lang="hu-HU" sz="2000" spc="-1" strike="noStrike">
                <a:solidFill>
                  <a:srgbClr val="ffffff"/>
                </a:solidFill>
                <a:latin typeface="Tahoma"/>
              </a:rPr>
              <a:t>megfigyelhetőséget</a:t>
            </a:r>
            <a:r>
              <a:rPr b="0" lang="hu-HU" sz="2000" spc="-1" strike="noStrike">
                <a:solidFill>
                  <a:srgbClr val="ffffff"/>
                </a:solidFill>
                <a:latin typeface="Tahoma"/>
              </a:rPr>
              <a:t>, az </a:t>
            </a:r>
            <a:r>
              <a:rPr b="0" i="1" lang="hu-HU" sz="2000" spc="-1" strike="noStrike">
                <a:solidFill>
                  <a:srgbClr val="ffffff"/>
                </a:solidFill>
                <a:latin typeface="Tahoma"/>
              </a:rPr>
              <a:t>állapotjelzők mérhetőségét</a:t>
            </a:r>
            <a:r>
              <a:rPr b="0" lang="hu-HU" sz="2000" spc="-1" strike="noStrike">
                <a:solidFill>
                  <a:srgbClr val="ffffff"/>
                </a:solidFill>
                <a:latin typeface="Tahoma"/>
              </a:rPr>
              <a:t> biztosítj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rányító rendszer az irányítás </a:t>
            </a:r>
            <a:r>
              <a:rPr b="0" i="1" lang="hu-HU" sz="2000" spc="-1" strike="noStrike">
                <a:solidFill>
                  <a:srgbClr val="ffffff"/>
                </a:solidFill>
                <a:latin typeface="Tahoma"/>
              </a:rPr>
              <a:t>céljára</a:t>
            </a:r>
            <a:r>
              <a:rPr b="0" lang="hu-HU" sz="2000" spc="-1" strike="noStrike">
                <a:solidFill>
                  <a:srgbClr val="ffffff"/>
                </a:solidFill>
                <a:latin typeface="Tahoma"/>
              </a:rPr>
              <a:t> vonatkozó információt a rendszeren kívülről, rendszerint </a:t>
            </a:r>
            <a:r>
              <a:rPr b="0" i="1" lang="hu-HU" sz="2000" spc="-1" strike="noStrike">
                <a:solidFill>
                  <a:srgbClr val="ffffff"/>
                </a:solidFill>
                <a:latin typeface="Tahoma"/>
              </a:rPr>
              <a:t>ember-gép</a:t>
            </a:r>
            <a:r>
              <a:rPr b="0" lang="hu-HU" sz="2000" spc="-1" strike="noStrike">
                <a:solidFill>
                  <a:srgbClr val="ffffff"/>
                </a:solidFill>
                <a:latin typeface="Tahoma"/>
              </a:rPr>
              <a:t> </a:t>
            </a:r>
            <a:r>
              <a:rPr b="0" i="1" lang="hu-HU" sz="2000" spc="-1" strike="noStrike">
                <a:solidFill>
                  <a:srgbClr val="ffffff"/>
                </a:solidFill>
                <a:latin typeface="Tahoma"/>
              </a:rPr>
              <a:t>kommunikáció</a:t>
            </a:r>
            <a:r>
              <a:rPr b="0" lang="hu-HU" sz="2000" spc="-1" strike="noStrike">
                <a:solidFill>
                  <a:srgbClr val="ffffff"/>
                </a:solidFill>
                <a:latin typeface="Tahoma"/>
              </a:rPr>
              <a:t> segítségével kapja. Ezt gyakran az automata </a:t>
            </a:r>
            <a:r>
              <a:rPr b="0" i="1" lang="hu-HU" sz="2000" spc="-1" strike="noStrike">
                <a:solidFill>
                  <a:srgbClr val="ffffff"/>
                </a:solidFill>
                <a:latin typeface="Tahoma"/>
              </a:rPr>
              <a:t>programjának</a:t>
            </a:r>
            <a:r>
              <a:rPr b="0" lang="hu-HU" sz="2000" spc="-1" strike="noStrike">
                <a:solidFill>
                  <a:srgbClr val="ffffff"/>
                </a:solidFill>
                <a:latin typeface="Tahoma"/>
              </a:rPr>
              <a:t> nevezik. Az irányítás egyszerűbb struktúráját "vezérlésnek" nevezzük. A vezérlő és a vezérelt folyamat kapcsolata ilyenkor egyirány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FA9AA0-192E-42B8-8511-F9F53A4BC2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endParaRPr b="0" lang="en-US" sz="4400" spc="-1" strike="noStrike">
              <a:solidFill>
                <a:srgbClr val="ffffcc"/>
              </a:solidFill>
              <a:latin typeface="Tahoma"/>
            </a:endParaRPr>
          </a:p>
        </p:txBody>
      </p:sp>
      <p:sp>
        <p:nvSpPr>
          <p:cNvPr id="562"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3" name=""/>
          <p:cNvGraphicFramePr/>
          <p:nvPr/>
        </p:nvGraphicFramePr>
        <p:xfrm>
          <a:off x="755640" y="1557360"/>
          <a:ext cx="7632720" cy="3672000"/>
        </p:xfrm>
        <a:graphic>
          <a:graphicData uri="http://schemas.openxmlformats.org/presentationml/2006/ole">
            <p:oleObj r:id="rId1" spid="">
              <p:embed/>
              <p:pic>
                <p:nvPicPr>
                  <p:cNvPr id="564" name="" descr=""/>
                  <p:cNvPicPr/>
                  <p:nvPr/>
                </p:nvPicPr>
                <p:blipFill>
                  <a:blip r:embed="rId2"/>
                  <a:stretch/>
                </p:blipFill>
                <p:spPr>
                  <a:xfrm>
                    <a:off x="755640" y="1557360"/>
                    <a:ext cx="7632720" cy="3672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3C2EF75-5936-4EBC-8EC5-E27580F383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hető paraméterek alapján</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u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em mérhető tulajdonságok szerint</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a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szehasonlítás alapjá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CC0BAA0-FEA6-4D67-927A-E9C7CDAF9C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ő a beavatkozó jel képzéséhez a vezérelt rendszer állapotára vonatkozó információt nem használ fel.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és nyílt hatásláncú modellje a termelési folyamatokban csak jól elhatárolt alrendszerekben használható. </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alóságban mindig jelen van az ésszerű célt kitűző és annak teljesülését megfigyelő </a:t>
            </a:r>
            <a:r>
              <a:rPr b="0" i="1" lang="hu-HU" sz="2800" spc="-1" strike="noStrike">
                <a:solidFill>
                  <a:srgbClr val="ffffff"/>
                </a:solidFill>
                <a:latin typeface="Tahoma"/>
              </a:rPr>
              <a:t>ember</a:t>
            </a:r>
            <a:r>
              <a:rPr b="0" lang="hu-HU" sz="2800" spc="-1" strike="noStrike">
                <a:solidFill>
                  <a:srgbClr val="ffffff"/>
                </a:solidFill>
                <a:latin typeface="Tahoma"/>
              </a:rPr>
              <a:t>, aki a hatásláncot zárttá tesz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D9DE94-2263-4A3A-9926-62943EB699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 </a:t>
            </a:r>
            <a:endParaRPr b="0" lang="en-US" sz="4000" spc="-1" strike="noStrike">
              <a:solidFill>
                <a:srgbClr val="ffffcc"/>
              </a:solidFill>
              <a:latin typeface="Tahoma"/>
            </a:endParaRPr>
          </a:p>
        </p:txBody>
      </p:sp>
      <p:sp>
        <p:nvSpPr>
          <p:cNvPr id="568"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9" name=""/>
          <p:cNvGraphicFramePr/>
          <p:nvPr/>
        </p:nvGraphicFramePr>
        <p:xfrm>
          <a:off x="900000" y="1197000"/>
          <a:ext cx="7488360" cy="4952880"/>
        </p:xfrm>
        <a:graphic>
          <a:graphicData uri="http://schemas.openxmlformats.org/presentationml/2006/ole">
            <p:oleObj r:id="rId1" spid="">
              <p:embed/>
              <p:pic>
                <p:nvPicPr>
                  <p:cNvPr id="570" name="" descr=""/>
                  <p:cNvPicPr/>
                  <p:nvPr/>
                </p:nvPicPr>
                <p:blipFill>
                  <a:blip r:embed="rId2"/>
                  <a:stretch/>
                </p:blipFill>
                <p:spPr>
                  <a:xfrm>
                    <a:off x="900000" y="1197000"/>
                    <a:ext cx="7488360" cy="4952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6589462-F8CD-44CF-874D-EF6F308B32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a:t>
            </a:r>
            <a:endParaRPr b="0" lang="en-US" sz="4000" spc="-1" strike="noStrike">
              <a:solidFill>
                <a:srgbClr val="ffffcc"/>
              </a:solidFill>
              <a:latin typeface="Tahoma"/>
            </a:endParaRPr>
          </a:p>
        </p:txBody>
      </p:sp>
      <p:sp>
        <p:nvSpPr>
          <p:cNvPr id="5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t </a:t>
            </a:r>
            <a:r>
              <a:rPr b="0" i="1" lang="hu-HU" sz="2400" spc="-1" strike="noStrike">
                <a:solidFill>
                  <a:srgbClr val="ffffff"/>
                </a:solidFill>
                <a:latin typeface="Tahoma"/>
              </a:rPr>
              <a:t>szabályozásnak </a:t>
            </a:r>
            <a:r>
              <a:rPr b="0" lang="hu-HU" sz="2400" spc="-1" strike="noStrike">
                <a:solidFill>
                  <a:srgbClr val="ffffff"/>
                </a:solidFill>
                <a:latin typeface="Tahoma"/>
              </a:rPr>
              <a:t>nevezzük</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 a beavatkozó jel képzéséhez a szabályozott folyamat állapotára vonatkozó információt is felhasználja. Ha a szabályozás célja a folyamat egyetlen állapotjelzőjének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z időben állandó alapjelhez (</a:t>
            </a:r>
            <a:r>
              <a:rPr b="0" i="1" lang="hu-HU" sz="2400" spc="-1" strike="noStrike">
                <a:solidFill>
                  <a:srgbClr val="ffffff"/>
                </a:solidFill>
                <a:latin typeface="Tahoma"/>
              </a:rPr>
              <a:t>x</a:t>
            </a:r>
            <a:r>
              <a:rPr b="0" i="1" lang="hu-HU" sz="2400" spc="-1" strike="noStrike" baseline="-25000">
                <a:solidFill>
                  <a:srgbClr val="ffffff"/>
                </a:solidFill>
                <a:latin typeface="Tahoma"/>
              </a:rPr>
              <a:t>a </a:t>
            </a:r>
            <a:r>
              <a:rPr b="0" lang="hu-HU" sz="2400" spc="-1" strike="noStrike">
                <a:solidFill>
                  <a:srgbClr val="ffffff"/>
                </a:solidFill>
                <a:latin typeface="Tahoma"/>
              </a:rPr>
              <a:t>)</a:t>
            </a:r>
            <a:r>
              <a:rPr b="0" i="1" lang="hu-HU" sz="2400" spc="-1" strike="noStrike" baseline="-25000">
                <a:solidFill>
                  <a:srgbClr val="ffffff"/>
                </a:solidFill>
                <a:latin typeface="Tahoma"/>
              </a:rPr>
              <a:t> </a:t>
            </a:r>
            <a:r>
              <a:rPr b="0" lang="hu-HU" sz="2400" spc="-1" strike="noStrike">
                <a:solidFill>
                  <a:srgbClr val="ffffff"/>
                </a:solidFill>
                <a:latin typeface="Tahoma"/>
              </a:rPr>
              <a:t>közeli értéken tartása, akkor a szabályozás</a:t>
            </a:r>
            <a:r>
              <a:rPr b="0" i="1" lang="hu-HU" sz="2400" spc="-1" strike="noStrike">
                <a:solidFill>
                  <a:srgbClr val="ffffff"/>
                </a:solidFill>
                <a:latin typeface="Tahoma"/>
              </a:rPr>
              <a:t> értéktartó</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összehasonlítás alapja a két jel eltérése:</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x</a:t>
            </a:r>
            <a:r>
              <a:rPr b="0" i="1" lang="hu-HU" sz="2400" spc="-1" strike="noStrike" baseline="-25000">
                <a:solidFill>
                  <a:srgbClr val="ffffff"/>
                </a:solidFill>
                <a:latin typeface="Tahoma"/>
              </a:rPr>
              <a:t>e</a:t>
            </a:r>
            <a:r>
              <a:rPr b="0" lang="hu-HU" sz="2400" spc="-1" strike="noStrike">
                <a:solidFill>
                  <a:srgbClr val="ffffff"/>
                </a:solidFill>
                <a:latin typeface="Tahoma"/>
              </a:rPr>
              <a:t> </a:t>
            </a:r>
            <a:r>
              <a:rPr b="0" lang="en-US" sz="2400" spc="-1" strike="noStrike">
                <a:solidFill>
                  <a:srgbClr val="ffffff"/>
                </a:solidFill>
                <a:latin typeface="Tahoma"/>
              </a:rPr>
              <a:t>= </a:t>
            </a:r>
            <a:r>
              <a:rPr b="0" i="1" lang="hu-HU" sz="2400" spc="-1" strike="noStrike">
                <a:solidFill>
                  <a:srgbClr val="ffffff"/>
                </a:solidFill>
                <a:latin typeface="Tahoma"/>
              </a:rPr>
              <a:t>x</a:t>
            </a:r>
            <a:r>
              <a:rPr b="0" i="1" lang="hu-HU" sz="2400" spc="-1" strike="noStrike" baseline="-25000">
                <a:solidFill>
                  <a:srgbClr val="ffffff"/>
                </a:solidFill>
                <a:latin typeface="Tahoma"/>
              </a:rPr>
              <a:t>a</a:t>
            </a:r>
            <a:r>
              <a:rPr b="0" i="1" lang="en-US" sz="2400" spc="-1" strike="noStrike">
                <a:solidFill>
                  <a:srgbClr val="ffffff"/>
                </a:solidFill>
                <a:latin typeface="Tahoma"/>
              </a:rPr>
              <a:t> -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ülönbségi" jel (hibajel) a beavatkozás alapja. A megfigyelt állapotjel ilyen felhasználása a </a:t>
            </a:r>
            <a:r>
              <a:rPr b="0" i="1" lang="hu-HU" sz="2400" spc="-1" strike="noStrike">
                <a:solidFill>
                  <a:srgbClr val="ffffff"/>
                </a:solidFill>
                <a:latin typeface="Tahoma"/>
              </a:rPr>
              <a:t>negatív visszacsatolás</a:t>
            </a:r>
            <a:r>
              <a:rPr b="0" lang="hu-HU"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676A318-59EB-45F4-B6B0-E1A72412F6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Vezérlő és vezérelt folyamat információ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7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5" name=""/>
          <p:cNvGraphicFramePr/>
          <p:nvPr/>
        </p:nvGraphicFramePr>
        <p:xfrm>
          <a:off x="755640" y="2276640"/>
          <a:ext cx="7848720" cy="2725560"/>
        </p:xfrm>
        <a:graphic>
          <a:graphicData uri="http://schemas.openxmlformats.org/presentationml/2006/ole">
            <p:oleObj r:id="rId1" spid="">
              <p:embed/>
              <p:pic>
                <p:nvPicPr>
                  <p:cNvPr id="576" name="" descr=""/>
                  <p:cNvPicPr/>
                  <p:nvPr/>
                </p:nvPicPr>
                <p:blipFill>
                  <a:blip r:embed="rId2"/>
                  <a:stretch/>
                </p:blipFill>
                <p:spPr>
                  <a:xfrm>
                    <a:off x="755640" y="2276640"/>
                    <a:ext cx="7848720" cy="2725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95C2794-7B6D-4A22-8AC5-F13FB07B95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ó és a szabályozott folyamat információs kapcsolata</a:t>
            </a:r>
            <a:endParaRPr b="0" lang="en-US" sz="4000" spc="-1" strike="noStrike">
              <a:solidFill>
                <a:srgbClr val="ffffcc"/>
              </a:solidFill>
              <a:latin typeface="Tahoma"/>
            </a:endParaRPr>
          </a:p>
        </p:txBody>
      </p:sp>
      <p:sp>
        <p:nvSpPr>
          <p:cNvPr id="578"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9" name=""/>
          <p:cNvGraphicFramePr/>
          <p:nvPr/>
        </p:nvGraphicFramePr>
        <p:xfrm>
          <a:off x="611280" y="2205000"/>
          <a:ext cx="8064360" cy="2779920"/>
        </p:xfrm>
        <a:graphic>
          <a:graphicData uri="http://schemas.openxmlformats.org/presentationml/2006/ole">
            <p:oleObj r:id="rId1" spid="">
              <p:embed/>
              <p:pic>
                <p:nvPicPr>
                  <p:cNvPr id="580" name="" descr=""/>
                  <p:cNvPicPr/>
                  <p:nvPr/>
                </p:nvPicPr>
                <p:blipFill>
                  <a:blip r:embed="rId2"/>
                  <a:stretch/>
                </p:blipFill>
                <p:spPr>
                  <a:xfrm>
                    <a:off x="611280" y="2205000"/>
                    <a:ext cx="8064360" cy="27799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05B2BAD-BB81-4F82-82FB-5282C0FFCD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Termelésinformatikában alkalmazott irányító rendszerek</a:t>
            </a:r>
            <a:endParaRPr b="0" lang="en-US" sz="4000" spc="-1" strike="noStrike">
              <a:solidFill>
                <a:srgbClr val="ffffcc"/>
              </a:solidFill>
              <a:latin typeface="Tahoma"/>
            </a:endParaRPr>
          </a:p>
        </p:txBody>
      </p:sp>
      <p:sp>
        <p:nvSpPr>
          <p:cNvPr id="582" name=""/>
          <p:cNvSpPr/>
          <p:nvPr/>
        </p:nvSpPr>
        <p:spPr>
          <a:xfrm>
            <a:off x="0" y="20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3" name=""/>
          <p:cNvGraphicFramePr/>
          <p:nvPr/>
        </p:nvGraphicFramePr>
        <p:xfrm>
          <a:off x="1619280" y="1628640"/>
          <a:ext cx="6335640" cy="4310280"/>
        </p:xfrm>
        <a:graphic>
          <a:graphicData uri="http://schemas.openxmlformats.org/presentationml/2006/ole">
            <p:oleObj r:id="rId1" spid="">
              <p:embed/>
              <p:pic>
                <p:nvPicPr>
                  <p:cNvPr id="584" name="" descr=""/>
                  <p:cNvPicPr/>
                  <p:nvPr/>
                </p:nvPicPr>
                <p:blipFill>
                  <a:blip r:embed="rId2"/>
                  <a:stretch/>
                </p:blipFill>
                <p:spPr>
                  <a:xfrm>
                    <a:off x="1619280" y="1628640"/>
                    <a:ext cx="6335640" cy="4310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07BB991-F8E6-4735-9C8E-1418647F83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Gyártórendszerek számítógépes irányí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86"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7" name=""/>
          <p:cNvGraphicFramePr/>
          <p:nvPr/>
        </p:nvGraphicFramePr>
        <p:xfrm>
          <a:off x="539640" y="1844640"/>
          <a:ext cx="7704360" cy="3720960"/>
        </p:xfrm>
        <a:graphic>
          <a:graphicData uri="http://schemas.openxmlformats.org/presentationml/2006/ole">
            <p:oleObj r:id="rId1" spid="">
              <p:embed/>
              <p:pic>
                <p:nvPicPr>
                  <p:cNvPr id="588" name="" descr=""/>
                  <p:cNvPicPr/>
                  <p:nvPr/>
                </p:nvPicPr>
                <p:blipFill>
                  <a:blip r:embed="rId2"/>
                  <a:stretch/>
                </p:blipFill>
                <p:spPr>
                  <a:xfrm>
                    <a:off x="539640" y="1844640"/>
                    <a:ext cx="7704360" cy="37209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2730E88-E050-47E1-8DF4-675DF6CBA2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hagyományo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0"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1" name=""/>
          <p:cNvGraphicFramePr/>
          <p:nvPr/>
        </p:nvGraphicFramePr>
        <p:xfrm>
          <a:off x="539640" y="1773360"/>
          <a:ext cx="8028000" cy="3270240"/>
        </p:xfrm>
        <a:graphic>
          <a:graphicData uri="http://schemas.openxmlformats.org/presentationml/2006/ole">
            <p:oleObj r:id="rId1" spid="">
              <p:embed/>
              <p:pic>
                <p:nvPicPr>
                  <p:cNvPr id="592" name="" descr=""/>
                  <p:cNvPicPr/>
                  <p:nvPr/>
                </p:nvPicPr>
                <p:blipFill>
                  <a:blip r:embed="rId2"/>
                  <a:stretch/>
                </p:blipFill>
                <p:spPr>
                  <a:xfrm>
                    <a:off x="539640" y="1773360"/>
                    <a:ext cx="8028000" cy="3270240"/>
                  </a:xfrm>
                  <a:prstGeom prst="rect">
                    <a:avLst/>
                  </a:prstGeom>
                  <a:ln w="0">
                    <a:noFill/>
                  </a:ln>
                </p:spPr>
              </p:pic>
            </p:oleObj>
          </a:graphicData>
        </a:graphic>
      </p:graphicFrame>
      <p:sp>
        <p:nvSpPr>
          <p:cNvPr id="593" name=""/>
          <p:cNvSpPr/>
          <p:nvPr/>
        </p:nvSpPr>
        <p:spPr>
          <a:xfrm>
            <a:off x="539640" y="537372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hagyományos" irányító rendszer a referencia és a mért állapot összehasonlítása alapján képez beavatkozó jele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5935558-6CF7-4A7D-AC64-A5D3F2D4C1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telligen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6" name=""/>
          <p:cNvGraphicFramePr/>
          <p:nvPr/>
        </p:nvGraphicFramePr>
        <p:xfrm>
          <a:off x="468360" y="1341360"/>
          <a:ext cx="8207280" cy="3083040"/>
        </p:xfrm>
        <a:graphic>
          <a:graphicData uri="http://schemas.openxmlformats.org/presentationml/2006/ole">
            <p:oleObj r:id="rId1" spid="">
              <p:embed/>
              <p:pic>
                <p:nvPicPr>
                  <p:cNvPr id="597" name="" descr=""/>
                  <p:cNvPicPr/>
                  <p:nvPr/>
                </p:nvPicPr>
                <p:blipFill>
                  <a:blip r:embed="rId2"/>
                  <a:stretch/>
                </p:blipFill>
                <p:spPr>
                  <a:xfrm>
                    <a:off x="468360" y="1341360"/>
                    <a:ext cx="8207280" cy="3083040"/>
                  </a:xfrm>
                  <a:prstGeom prst="rect">
                    <a:avLst/>
                  </a:prstGeom>
                  <a:ln w="0">
                    <a:noFill/>
                  </a:ln>
                </p:spPr>
              </p:pic>
            </p:oleObj>
          </a:graphicData>
        </a:graphic>
      </p:graphicFrame>
      <p:sp>
        <p:nvSpPr>
          <p:cNvPr id="598" name=""/>
          <p:cNvSpPr/>
          <p:nvPr/>
        </p:nvSpPr>
        <p:spPr>
          <a:xfrm>
            <a:off x="468360" y="4724280"/>
            <a:ext cx="82072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ntelligens" irányító rendszer valamilyen szabályalapú következtető rendszert használ, amely esetleg alternatív beavatkozási javaslatokat állit elő egy döntéshozó modul számára.</a:t>
            </a: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övetkeztetés lehet logikai, fuzzy, vagy neurális háló alapú</a:t>
            </a:r>
            <a:r>
              <a:rPr b="0" lang="en-US" sz="1800" spc="-1" strike="noStrike">
                <a:solidFill>
                  <a:srgbClr val="ffffff"/>
                </a:solidFill>
                <a:latin typeface="Tahoma"/>
              </a:rPr>
              <a:t> </a:t>
            </a:r>
            <a:r>
              <a:rPr b="0" lang="hu-HU" sz="1800" spc="-1" strike="noStrike">
                <a:solidFill>
                  <a:srgbClr val="ffffff"/>
                </a:solidFill>
                <a:latin typeface="Tahoma"/>
              </a:rPr>
              <a: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45C82B4-3726-4148-B210-3CA8768E12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rn irányításelmélet az irányítás modellezésére többnyire az </a:t>
            </a:r>
            <a:r>
              <a:rPr b="0" i="1" lang="hu-HU" sz="2000" spc="-1" strike="noStrike">
                <a:solidFill>
                  <a:srgbClr val="ffffff"/>
                </a:solidFill>
                <a:latin typeface="Tahoma"/>
              </a:rPr>
              <a:t>állapotegyenleteket</a:t>
            </a:r>
            <a:r>
              <a:rPr b="0" lang="hu-HU" sz="2000" spc="-1" strike="noStrike">
                <a:solidFill>
                  <a:srgbClr val="ffffff"/>
                </a:solidFill>
                <a:latin typeface="Tahoma"/>
              </a:rPr>
              <a:t> használja. Az állapotegyenletek alkalmasak az egy- és többváltozós, folytonos és diszkrét, lineáris és nem lineáris rendszerek modellezésé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inamikus irányított rendszer </a:t>
            </a:r>
            <a:r>
              <a:rPr b="0" i="1" lang="hu-HU" sz="2000" spc="-1" strike="noStrike">
                <a:solidFill>
                  <a:srgbClr val="ffffff"/>
                </a:solidFill>
                <a:latin typeface="Tahoma"/>
              </a:rPr>
              <a:t>állapotán</a:t>
            </a:r>
            <a:r>
              <a:rPr b="0" lang="hu-HU" sz="2000" spc="-1" strike="noStrike">
                <a:solidFill>
                  <a:srgbClr val="ffffff"/>
                </a:solidFill>
                <a:latin typeface="Tahoma"/>
              </a:rPr>
              <a:t> a rendszer állapotváltozóinak egy adott időpillanatban felvett érték-halmazát értjük, amely (irányítható és megfigyelhető rendszerek esetén) a rendszer múltjának ismeretében jövőjét megjósolhatóvá tesz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változók az állapotjelzőknek az a legkisebb elemszámú halmaza, amely a rendszer-modell megfogalmazásához szükséges és egyben elegendő is.</a:t>
            </a:r>
            <a:endParaRPr b="0" lang="en-US" sz="2000" spc="-1" strike="noStrike">
              <a:solidFill>
                <a:srgbClr val="ffffff"/>
              </a:solidFill>
              <a:latin typeface="Tahoma"/>
            </a:endParaRPr>
          </a:p>
        </p:txBody>
      </p:sp>
      <p:sp>
        <p:nvSpPr>
          <p:cNvPr id="60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2" name=""/>
              <p:cNvSpPr txBox="1"/>
              <p:nvPr/>
            </p:nvSpPr>
            <p:spPr>
              <a:xfrm>
                <a:off x="2843280" y="4724280"/>
                <a:ext cx="2881080" cy="103212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A</m:t>
                        </m:r>
                        <m:r>
                          <m:t xml:space="preserve">⋅</m:t>
                        </m:r>
                        <m:r>
                          <m:t xml:space="preserve">x</m:t>
                        </m:r>
                        <m:r>
                          <m:t xml:space="preserve">(</m:t>
                        </m:r>
                        <m:r>
                          <m:t xml:space="preserve">t</m:t>
                        </m:r>
                        <m:r>
                          <m:t xml:space="preserve">)</m:t>
                        </m:r>
                        <m:r>
                          <m:t xml:space="preserve">+</m:t>
                        </m:r>
                        <m:r>
                          <m:t xml:space="preserve">B</m:t>
                        </m:r>
                        <m:r>
                          <m:t xml:space="preserve">⋅</m:t>
                        </m:r>
                        <m:r>
                          <m:t xml:space="preserve">u</m:t>
                        </m:r>
                        <m:r>
                          <m:t xml:space="preserve">(</m:t>
                        </m:r>
                        <m:r>
                          <m:t xml:space="preserve">t</m:t>
                        </m:r>
                        <m:r>
                          <m:t xml:space="preserve">)</m:t>
                        </m:r>
                      </m:e>
                      <m:e/>
                      <m:e>
                        <m:r>
                          <m:t xml:space="preserve">y</m:t>
                        </m:r>
                        <m:r>
                          <m:t xml:space="preserve">(</m:t>
                        </m:r>
                        <m:r>
                          <m:t xml:space="preserve">t</m:t>
                        </m:r>
                        <m:r>
                          <m:t xml:space="preserve">)</m:t>
                        </m:r>
                        <m:r>
                          <m:t xml:space="preserve">=</m:t>
                        </m:r>
                        <m:r>
                          <m:t xml:space="preserve">C</m:t>
                        </m:r>
                        <m:r>
                          <m:t xml:space="preserve">⋅</m:t>
                        </m:r>
                        <m:r>
                          <m:t xml:space="preserve">x</m:t>
                        </m:r>
                        <m:r>
                          <m:t xml:space="preserve">(</m:t>
                        </m:r>
                        <m:r>
                          <m:t xml:space="preserve">t</m:t>
                        </m:r>
                        <m:r>
                          <m:t xml:space="preserve">)</m:t>
                        </m:r>
                        <m:r>
                          <m:t xml:space="preserve">+</m:t>
                        </m:r>
                        <m:r>
                          <m:t xml:space="preserve">D</m:t>
                        </m:r>
                        <m:r>
                          <m:t xml:space="preserve">⋅</m:t>
                        </m:r>
                        <m:r>
                          <m:t xml:space="preserve">u</m:t>
                        </m:r>
                        <m:r>
                          <m:t xml:space="preserve">(</m:t>
                        </m:r>
                        <m:r>
                          <m:t xml:space="preserve">t</m:t>
                        </m:r>
                        <m: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96DC6B0-CCB0-41B4-BCCF-08CE58CB96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A minőségbiztosítás fejlődése</a:t>
            </a:r>
            <a:r>
              <a:rPr b="0" lang="en-US" sz="4400" spc="-1" strike="noStrike">
                <a:solidFill>
                  <a:srgbClr val="ffffcc"/>
                </a:solidFill>
                <a:latin typeface="Tahoma"/>
              </a:rPr>
              <a:t> </a:t>
            </a:r>
            <a:endParaRPr b="0" lang="en-US" sz="4400" spc="-1" strike="noStrike">
              <a:solidFill>
                <a:srgbClr val="ffffcc"/>
              </a:solidFill>
              <a:latin typeface="Tahoma"/>
            </a:endParaRPr>
          </a:p>
        </p:txBody>
      </p:sp>
      <p:grpSp>
        <p:nvGrpSpPr>
          <p:cNvPr id="407" name=""/>
          <p:cNvGrpSpPr/>
          <p:nvPr/>
        </p:nvGrpSpPr>
        <p:grpSpPr>
          <a:xfrm>
            <a:off x="1547640" y="2637000"/>
            <a:ext cx="6121440" cy="1262160"/>
            <a:chOff x="1547640" y="2637000"/>
            <a:chExt cx="6121440" cy="1262160"/>
          </a:xfrm>
        </p:grpSpPr>
        <p:sp>
          <p:nvSpPr>
            <p:cNvPr id="408" name=""/>
            <p:cNvSpPr/>
            <p:nvPr/>
          </p:nvSpPr>
          <p:spPr>
            <a:xfrm>
              <a:off x="1547640" y="3500280"/>
              <a:ext cx="6121440" cy="398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QM, TELJESKÖR</a:t>
              </a:r>
              <a:r>
                <a:rPr b="1" lang="hu-HU" sz="2000" spc="-1" strike="noStrike">
                  <a:solidFill>
                    <a:srgbClr val="ffffff"/>
                  </a:solidFill>
                  <a:latin typeface="Tahoma"/>
                </a:rPr>
                <a:t>Ű </a:t>
              </a: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IRÁNYÍTÁS</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409" name=""/>
            <p:cNvSpPr/>
            <p:nvPr/>
          </p:nvSpPr>
          <p:spPr>
            <a:xfrm>
              <a:off x="154764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en-US" sz="2000" spc="-1" strike="noStrike">
                  <a:solidFill>
                    <a:srgbClr val="ffffff"/>
                  </a:solidFill>
                  <a:latin typeface="Tahoma"/>
                </a:rPr>
                <a:t>ELLEN</a:t>
              </a:r>
              <a:r>
                <a:rPr b="1" lang="hu-HU" sz="2000" spc="-1" strike="noStrike">
                  <a:solidFill>
                    <a:srgbClr val="ffffff"/>
                  </a:solidFill>
                  <a:latin typeface="Tahoma"/>
                </a:rPr>
                <a:t>Ő</a:t>
              </a:r>
              <a:r>
                <a:rPr b="1" lang="en-US" sz="2000" spc="-1" strike="noStrike">
                  <a:solidFill>
                    <a:srgbClr val="ffffff"/>
                  </a:solidFill>
                  <a:latin typeface="Tahoma"/>
                </a:rPr>
                <a:t>RZ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0" name=""/>
            <p:cNvSpPr/>
            <p:nvPr/>
          </p:nvSpPr>
          <p:spPr>
            <a:xfrm>
              <a:off x="3563640" y="2637000"/>
              <a:ext cx="208908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SZABÁLYOZÁ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1" name=""/>
            <p:cNvSpPr/>
            <p:nvPr/>
          </p:nvSpPr>
          <p:spPr>
            <a:xfrm>
              <a:off x="572436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IRÁ</a:t>
              </a:r>
              <a:r>
                <a:rPr b="1" lang="en-US" sz="2000" spc="-1" strike="noStrike">
                  <a:solidFill>
                    <a:srgbClr val="ffffff"/>
                  </a:solidFill>
                  <a:latin typeface="Tahoma"/>
                </a:rPr>
                <a:t>N</a:t>
              </a:r>
              <a:r>
                <a:rPr b="1" lang="hu-HU" sz="2000" spc="-1" strike="noStrike">
                  <a:solidFill>
                    <a:srgbClr val="ffffff"/>
                  </a:solidFill>
                  <a:latin typeface="Tahoma"/>
                </a:rPr>
                <a:t>YÍTÁS</a:t>
              </a:r>
              <a:r>
                <a:rPr b="0" lang="en-US" sz="1800" spc="-1" strike="noStrike">
                  <a:solidFill>
                    <a:srgbClr val="ffffff"/>
                  </a:solidFill>
                  <a:latin typeface="Tahoma"/>
                </a:rPr>
                <a:t> </a:t>
              </a:r>
              <a:endParaRPr b="0" lang="en-US" sz="1800" spc="-1" strike="noStrike">
                <a:solidFill>
                  <a:srgbClr val="ffffff"/>
                </a:solidFill>
                <a:latin typeface="Arial"/>
              </a:endParaRPr>
            </a:p>
          </p:txBody>
        </p:sp>
      </p:gr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6AB4A73-554E-447A-AA7B-248E91EC91A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abályozás megvalósításához visszacsatolhatjuk az állapotjeleket és a kimeneteket is. </a:t>
            </a:r>
            <a:endParaRPr b="0" lang="en-US" sz="1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a folyamatok nemlineárisak és a paraméterek időfüggők, akkor az állapotegyenletek egy bemenet és egy kimenet esetén:</a:t>
            </a:r>
            <a:br>
              <a:rPr sz="1800"/>
            </a:br>
            <a:br>
              <a:rPr sz="2000"/>
            </a:b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diszkrét, eseményorientált folyamatokról van szó, az állapotváltozók egy diszkrét időskála időpillanataiban vehetik fel értékeiket. Ha ezek az események  periódusidővel ismétlődnek, a rendszer mintavételezett. Ha a diszkrét események véletlenszerűek, a rendszer teljesen </a:t>
            </a:r>
            <a:r>
              <a:rPr b="0" i="1" lang="hu-HU" sz="1800" spc="-1" strike="noStrike">
                <a:solidFill>
                  <a:srgbClr val="ffffff"/>
                </a:solidFill>
                <a:latin typeface="Tahoma"/>
              </a:rPr>
              <a:t>eseményvezérelt</a:t>
            </a:r>
            <a:r>
              <a:rPr b="0" lang="hu-HU"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0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6" name=""/>
              <p:cNvSpPr txBox="1"/>
              <p:nvPr/>
            </p:nvSpPr>
            <p:spPr>
              <a:xfrm>
                <a:off x="3348000" y="2997360"/>
                <a:ext cx="2016000" cy="79200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F</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
                      <m:e>
                        <m:r>
                          <m:t xml:space="preserve">y</m:t>
                        </m:r>
                        <m:r>
                          <m:t xml:space="preserve">(</m:t>
                        </m:r>
                        <m:r>
                          <m:t xml:space="preserve">t</m:t>
                        </m:r>
                        <m:r>
                          <m:t xml:space="preserve">)</m:t>
                        </m:r>
                        <m:r>
                          <m:t xml:space="preserve">=</m:t>
                        </m:r>
                        <m:r>
                          <m:t xml:space="preserve">G</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qArr>
                  </m:oMath>
                </a14:m>
              </a:p>
            </p:txBody>
          </p:sp>
        </mc:Choice>
        <mc:Fallback/>
      </mc:AlternateContent>
      <p:sp>
        <p:nvSpPr>
          <p:cNvPr id="60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8" name=""/>
              <p:cNvSpPr txBox="1"/>
              <p:nvPr/>
            </p:nvSpPr>
            <p:spPr>
              <a:xfrm>
                <a:off x="3419640" y="5084640"/>
                <a:ext cx="1942920" cy="81612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r>
                          <m:rPr>
                            <m:lit/>
                            <m:nor/>
                          </m:rPr>
                          <m:t xml:space="preserve">F*</m:t>
                        </m:r>
                        <m:r>
                          <m:t xml:space="preserve">(</m:t>
                        </m:r>
                        <m:sSub>
                          <m:e>
                            <m:r>
                              <m:t xml:space="preserve">x</m:t>
                            </m:r>
                          </m:e>
                          <m:sub>
                            <m:r>
                              <m:t xml:space="preserve">k</m:t>
                            </m:r>
                          </m:sub>
                        </m:sSub>
                        <m:sSub>
                          <m:e>
                            <m:r>
                              <m:rPr>
                                <m:lit/>
                                <m:nor/>
                              </m:rPr>
                              <m:t xml:space="preserve">,u</m:t>
                            </m:r>
                          </m:e>
                          <m:sub>
                            <m:r>
                              <m:t xml:space="preserve">k</m:t>
                            </m:r>
                          </m:sub>
                        </m:sSub>
                        <m:r>
                          <m:t xml:space="preserve">)</m:t>
                        </m:r>
                      </m:e>
                      <m:e/>
                      <m:e>
                        <m:sSub>
                          <m:e>
                            <m:r>
                              <m:t xml:space="preserve">y</m:t>
                            </m:r>
                          </m:e>
                          <m:sub>
                            <m:r>
                              <m:t xml:space="preserve">k</m:t>
                            </m:r>
                          </m:sub>
                        </m:sSub>
                        <m:r>
                          <m:t xml:space="preserve">=</m:t>
                        </m:r>
                        <m:r>
                          <m:t xml:space="preserve">G</m:t>
                        </m:r>
                        <m:r>
                          <m:t xml:space="preserve">∗</m:t>
                        </m:r>
                        <m:r>
                          <m:t xml:space="preserve">(</m:t>
                        </m:r>
                        <m:sSub>
                          <m:e>
                            <m:r>
                              <m:t xml:space="preserve">x</m:t>
                            </m:r>
                          </m:e>
                          <m:sub>
                            <m:r>
                              <m:t xml:space="preserve">k</m:t>
                            </m:r>
                          </m:sub>
                        </m:sSub>
                        <m:r>
                          <m:t xml:space="preserve">,</m:t>
                        </m:r>
                        <m:sSub>
                          <m:e>
                            <m:r>
                              <m:t xml:space="preserve">u</m:t>
                            </m:r>
                          </m:e>
                          <m:sub>
                            <m:r>
                              <m:t xml:space="preserve">k</m:t>
                            </m:r>
                          </m:sub>
                        </m:sSub>
                        <m:r>
                          <m:t xml:space="preserve">)</m:t>
                        </m:r>
                        <m:r>
                          <m:rPr>
                            <m:lit/>
                            <m:nor/>
                          </m:rP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3D9936E-7407-47B7-AC8E-294371F980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ptimális és robusztus rendszerek</a:t>
            </a:r>
            <a:endParaRPr b="0" lang="en-US" sz="4000" spc="-1" strike="noStrike">
              <a:solidFill>
                <a:srgbClr val="ffffcc"/>
              </a:solidFill>
              <a:latin typeface="Tahoma"/>
            </a:endParaRPr>
          </a:p>
        </p:txBody>
      </p:sp>
      <p:sp>
        <p:nvSpPr>
          <p:cNvPr id="6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ptimális</a:t>
            </a:r>
            <a:r>
              <a:rPr b="0" lang="hu-HU" sz="2400" spc="-1" strike="noStrike">
                <a:solidFill>
                  <a:srgbClr val="ffffff"/>
                </a:solidFill>
                <a:latin typeface="Tahoma"/>
              </a:rPr>
              <a:t> </a:t>
            </a:r>
            <a:r>
              <a:rPr b="0" i="1" lang="hu-HU" sz="2400" spc="-1" strike="noStrike">
                <a:solidFill>
                  <a:srgbClr val="ffffff"/>
                </a:solidFill>
                <a:latin typeface="Tahoma"/>
              </a:rPr>
              <a:t>rendszerek</a:t>
            </a:r>
            <a:r>
              <a:rPr b="0" lang="hu-HU" sz="2400" spc="-1" strike="noStrike">
                <a:solidFill>
                  <a:srgbClr val="ffffff"/>
                </a:solidFill>
                <a:latin typeface="Tahoma"/>
              </a:rPr>
              <a:t> valamilyen értelemben (valamilyen célfüggvény tekintetében) a folyamat összegzett (agregált) állapotát maximumon vagy minimumo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robusztus rendszerek</a:t>
            </a:r>
            <a:r>
              <a:rPr b="0" lang="hu-HU" sz="2400" spc="-1" strike="noStrike">
                <a:solidFill>
                  <a:srgbClr val="ffffff"/>
                </a:solidFill>
                <a:latin typeface="Tahoma"/>
              </a:rPr>
              <a:t> a működési feltételek, a referencia jelek, a célok és a korlátozások változása esetén is az eredményesség mérőszámát elfogadható (nem túl rossz) szinte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ai, gyorsan változó feltételek között a robusztus (bizonyos értelemben „nem zavarérzékeny”) szabályozások jelentősége fokozódi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6A8A3D-5083-4747-AAB1-AD485B74B6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vállalatot</a:t>
            </a:r>
            <a:r>
              <a:rPr b="0" lang="hu-HU" sz="2800" spc="-1" strike="noStrike">
                <a:solidFill>
                  <a:srgbClr val="ffffff"/>
                </a:solidFill>
                <a:latin typeface="Tahoma"/>
              </a:rPr>
              <a:t>, mint rendszert, kívülről jogi és gazdasági keretek határolják el a környezetétől:</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lehetőségei szerint:</a:t>
            </a:r>
            <a:r>
              <a:rPr b="0" i="1" lang="hu-HU" sz="2400" spc="-1" strike="noStrike">
                <a:solidFill>
                  <a:srgbClr val="ffffff"/>
                </a:solidFill>
                <a:latin typeface="Tahoma"/>
              </a:rPr>
              <a:t> jogi személy</a:t>
            </a:r>
            <a:r>
              <a:rPr b="0" lang="hu-HU" sz="2400" spc="-1" strike="noStrike">
                <a:solidFill>
                  <a:srgbClr val="ffffff"/>
                </a:solidFill>
                <a:latin typeface="Tahoma"/>
              </a:rPr>
              <a:t>,</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rendeltetése szerint: </a:t>
            </a:r>
            <a:r>
              <a:rPr b="0" i="1" lang="hu-HU" sz="2400" spc="-1" strike="noStrike">
                <a:solidFill>
                  <a:srgbClr val="ffffff"/>
                </a:solidFill>
                <a:latin typeface="Tahoma"/>
              </a:rPr>
              <a:t>gazdasági egység</a:t>
            </a:r>
            <a:r>
              <a:rPr b="0" lang="hu-HU"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 belső szerkezetét a rendeltetésének megfelelő </a:t>
            </a:r>
            <a:r>
              <a:rPr b="0" i="1" lang="hu-HU" sz="2800" spc="-1" strike="noStrike">
                <a:solidFill>
                  <a:srgbClr val="ffffff"/>
                </a:solidFill>
                <a:latin typeface="Tahoma"/>
              </a:rPr>
              <a:t>belső gazdasági funkciók</a:t>
            </a:r>
            <a:r>
              <a:rPr b="0" lang="hu-HU" sz="2800" spc="-1" strike="noStrike">
                <a:solidFill>
                  <a:srgbClr val="ffffff"/>
                </a:solidFill>
                <a:latin typeface="Tahoma"/>
              </a:rPr>
              <a:t> határozzák meg. Ezek elvont lényege a </a:t>
            </a:r>
            <a:r>
              <a:rPr b="0" i="1" lang="hu-HU" sz="2800" spc="-1" strike="noStrike">
                <a:solidFill>
                  <a:srgbClr val="ffffff"/>
                </a:solidFill>
                <a:latin typeface="Tahoma"/>
              </a:rPr>
              <a:t>gazdasági áramok transzformációja</a:t>
            </a:r>
            <a:r>
              <a:rPr b="0" lang="hu-HU" sz="2800" spc="-1" strike="noStrike">
                <a:solidFill>
                  <a:srgbClr val="ffffff"/>
                </a:solidFill>
                <a:latin typeface="Tahoma"/>
              </a:rPr>
              <a:t>. Minden iparvállalatban háromféle transzformációs folyamat megy végbe:</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nyagáram és -feldolgozás, </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datáram és -feldolgozás,</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értékáram és -feldolgoz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E323B3-AD51-4FAA-8754-E6D96C0723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áram szigorú követelmények szerint felel meg egymásnak és együttesen is eleget tesz a jogszabályokban rögzített </a:t>
            </a:r>
            <a:r>
              <a:rPr b="0" i="1" lang="hu-HU" sz="2000" spc="-1" strike="noStrike">
                <a:solidFill>
                  <a:srgbClr val="ffffff"/>
                </a:solidFill>
                <a:latin typeface="Tahoma"/>
              </a:rPr>
              <a:t>működési feltételeknek</a:t>
            </a:r>
            <a:r>
              <a:rPr b="0" lang="hu-HU"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belső mozgását a </a:t>
            </a:r>
            <a:r>
              <a:rPr b="0" i="1" lang="hu-HU" sz="2000" spc="-1" strike="noStrike">
                <a:solidFill>
                  <a:srgbClr val="ffffff"/>
                </a:solidFill>
                <a:latin typeface="Tahoma"/>
              </a:rPr>
              <a:t>működési potenciálok</a:t>
            </a:r>
            <a:r>
              <a:rPr b="0" lang="hu-HU" sz="2000" spc="-1" strike="noStrike">
                <a:solidFill>
                  <a:srgbClr val="ffffff"/>
                </a:solidFill>
                <a:latin typeface="Tahoma"/>
              </a:rPr>
              <a:t> tartják fenn. Ezek lehetne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mberi </a:t>
            </a:r>
            <a:r>
              <a:rPr b="0" lang="hu-HU" sz="1800" spc="-1" strike="noStrike">
                <a:solidFill>
                  <a:srgbClr val="ffffff"/>
                </a:solidFill>
                <a:latin typeface="Tahoma"/>
              </a:rPr>
              <a:t>tényezők: az élő szakismeret és az emberi munkavégző képesség,</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echnikai</a:t>
            </a:r>
            <a:r>
              <a:rPr b="0" lang="hu-HU" sz="1800" spc="-1" strike="noStrike">
                <a:solidFill>
                  <a:srgbClr val="ffffff"/>
                </a:solidFill>
                <a:latin typeface="Tahoma"/>
              </a:rPr>
              <a:t> tényezők: az eszközökben tárgyiasult szakismeret és a fizikai energi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ramok tehát a vállalat </a:t>
            </a:r>
            <a:r>
              <a:rPr b="0" i="1" lang="hu-HU" sz="2000" spc="-1" strike="noStrike">
                <a:solidFill>
                  <a:srgbClr val="ffffff"/>
                </a:solidFill>
                <a:latin typeface="Tahoma"/>
              </a:rPr>
              <a:t>működésének tárgyai </a:t>
            </a:r>
            <a:r>
              <a:rPr b="0" lang="hu-HU" sz="2000" spc="-1" strike="noStrike">
                <a:solidFill>
                  <a:srgbClr val="ffffff"/>
                </a:solidFill>
                <a:latin typeface="Tahoma"/>
              </a:rPr>
              <a:t>és a potenciálok a </a:t>
            </a:r>
            <a:r>
              <a:rPr b="0" i="1" lang="hu-HU" sz="2000" spc="-1" strike="noStrike">
                <a:solidFill>
                  <a:srgbClr val="ffffff"/>
                </a:solidFill>
                <a:latin typeface="Tahoma"/>
              </a:rPr>
              <a:t>működés alanyai.</a:t>
            </a:r>
            <a:r>
              <a:rPr b="0" lang="hu-HU" sz="2000" spc="-1" strike="noStrike">
                <a:solidFill>
                  <a:srgbClr val="ffffff"/>
                </a:solidFill>
                <a:latin typeface="Tahoma"/>
              </a:rPr>
              <a:t> A hagyományos gazdasági szemlélet ezeket összevonja a gazdasági értéküknek megfelelő </a:t>
            </a:r>
            <a:r>
              <a:rPr b="0" i="1" lang="hu-HU" sz="2000" spc="-1" strike="noStrike">
                <a:solidFill>
                  <a:srgbClr val="ffffff"/>
                </a:solidFill>
                <a:latin typeface="Tahoma"/>
              </a:rPr>
              <a:t>erőforrás</a:t>
            </a:r>
            <a:r>
              <a:rPr b="0" lang="hu-HU" sz="2000" spc="-1" strike="noStrike">
                <a:solidFill>
                  <a:srgbClr val="ffffff"/>
                </a:solidFill>
                <a:latin typeface="Tahoma"/>
              </a:rPr>
              <a:t> (</a:t>
            </a:r>
            <a:r>
              <a:rPr b="0" i="1" lang="hu-HU" sz="2000" spc="-1" strike="noStrike">
                <a:solidFill>
                  <a:srgbClr val="ffffff"/>
                </a:solidFill>
                <a:latin typeface="Tahoma"/>
              </a:rPr>
              <a:t>manufacturing resources</a:t>
            </a:r>
            <a:r>
              <a:rPr b="0" lang="hu-HU" sz="2000" spc="-1" strike="noStrike">
                <a:solidFill>
                  <a:srgbClr val="ffffff"/>
                </a:solidFill>
                <a:latin typeface="Tahoma"/>
              </a:rPr>
              <a:t>) fogalomba, amely eltér az itt alkalmazott, konkrétabb mérnöki látásmód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581E70-9D97-49B6-AA8D-81D1025C5F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i funkciók szakmai tagolása</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16" name="" descr=""/>
          <p:cNvPicPr/>
          <p:nvPr/>
        </p:nvPicPr>
        <p:blipFill>
          <a:blip r:embed="rId1"/>
          <a:stretch/>
        </p:blipFill>
        <p:spPr>
          <a:xfrm>
            <a:off x="3092400" y="1600200"/>
            <a:ext cx="295740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D23B786-B3C2-45BA-8D22-F2A56766BB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struktúra részfunkciói, adat- és anyagáramai </a:t>
            </a:r>
            <a:endParaRPr b="0" lang="en-US" sz="4000" spc="-1" strike="noStrike">
              <a:solidFill>
                <a:srgbClr val="ffffcc"/>
              </a:solidFill>
              <a:latin typeface="Tahoma"/>
            </a:endParaRPr>
          </a:p>
        </p:txBody>
      </p:sp>
      <p:pic>
        <p:nvPicPr>
          <p:cNvPr id="618" name="" descr=""/>
          <p:cNvPicPr/>
          <p:nvPr/>
        </p:nvPicPr>
        <p:blipFill>
          <a:blip r:embed="rId1"/>
          <a:stretch/>
        </p:blipFill>
        <p:spPr>
          <a:xfrm>
            <a:off x="2689200" y="1600200"/>
            <a:ext cx="376416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5CA7361-6804-4DC1-BEB8-EE3CA42F55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nyag- és adat-transzformációk, mint az iparvállalat alapvető funkciói</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20" name="" descr=""/>
          <p:cNvPicPr/>
          <p:nvPr/>
        </p:nvPicPr>
        <p:blipFill>
          <a:blip r:embed="rId1"/>
          <a:stretch/>
        </p:blipFill>
        <p:spPr>
          <a:xfrm>
            <a:off x="1403280" y="1471680"/>
            <a:ext cx="6697800" cy="460044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3E8E68B-7338-4E8F-B9B9-5017C05856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helyeinek hierarchikus szerkezete</a:t>
            </a:r>
            <a:endParaRPr b="0" lang="en-US" sz="4000" spc="-1" strike="noStrike">
              <a:solidFill>
                <a:srgbClr val="ffffcc"/>
              </a:solidFill>
              <a:latin typeface="Tahoma"/>
            </a:endParaRPr>
          </a:p>
        </p:txBody>
      </p:sp>
      <p:sp>
        <p:nvSpPr>
          <p:cNvPr id="6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nyagáramok </a:t>
            </a:r>
            <a:r>
              <a:rPr b="0" i="1" lang="hu-HU" sz="2000" spc="-1" strike="noStrike">
                <a:solidFill>
                  <a:srgbClr val="ffffff"/>
                </a:solidFill>
                <a:latin typeface="Tahoma"/>
              </a:rPr>
              <a:t>hely</a:t>
            </a:r>
            <a:r>
              <a:rPr b="0" lang="hu-HU" sz="2000" spc="-1" strike="noStrike">
                <a:solidFill>
                  <a:srgbClr val="ffffff"/>
                </a:solidFill>
                <a:latin typeface="Tahoma"/>
              </a:rPr>
              <a:t> </a:t>
            </a:r>
            <a:r>
              <a:rPr b="0" i="1" lang="hu-HU" sz="2000" spc="-1" strike="noStrike">
                <a:solidFill>
                  <a:srgbClr val="ffffff"/>
                </a:solidFill>
                <a:latin typeface="Tahoma"/>
              </a:rPr>
              <a:t>szerinti tagolásában</a:t>
            </a:r>
            <a:r>
              <a:rPr b="0" lang="hu-HU" sz="2000" spc="-1" strike="noStrike">
                <a:solidFill>
                  <a:srgbClr val="ffffff"/>
                </a:solidFill>
                <a:latin typeface="Tahoma"/>
              </a:rPr>
              <a:t> elsősorban műszaki-szervezési szempontok érvényesülnek.</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rendszereinek, vagyis a gyártás helyeinek hierarchikus szerkezete az általánosan használt elnevezések szerint a következő:</a:t>
            </a:r>
            <a:endParaRPr b="0" lang="en-US" sz="20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gyáregység,</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üzem,</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űhely,</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csoport,</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unkahely.</a:t>
            </a:r>
            <a:br>
              <a:rPr sz="1600"/>
            </a:br>
            <a:endParaRPr b="0" lang="en-US" sz="16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hely az a legkisebb gazdasági egység, amelyben még a gyártás funkcionális összetevői maradéktalanul megtalálhatók. Ezek a komponensek a következők:</a:t>
            </a:r>
            <a:endParaRPr b="0" lang="en-US" sz="20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tárgya</a:t>
            </a:r>
            <a:r>
              <a:rPr b="0" lang="hu-HU" sz="1800" spc="-1" strike="noStrike">
                <a:solidFill>
                  <a:srgbClr val="ffffff"/>
                </a:solidFill>
                <a:latin typeface="Tahoma"/>
              </a:rPr>
              <a:t>: munka-anyag, - darab, - szerelvény,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alanya</a:t>
            </a:r>
            <a:r>
              <a:rPr b="0" lang="hu-HU" sz="1800" spc="-1" strike="noStrike">
                <a:solidFill>
                  <a:srgbClr val="ffffff"/>
                </a:solidFill>
                <a:latin typeface="Tahoma"/>
              </a:rPr>
              <a:t>: irányító dolgozó, mechanikus-, vagy elektronikus vezérlés,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r>
              <a:rPr b="0" i="1" lang="hu-HU" sz="1800" spc="-1" strike="noStrike">
                <a:solidFill>
                  <a:srgbClr val="ffffff"/>
                </a:solidFill>
                <a:latin typeface="Tahoma"/>
              </a:rPr>
              <a:t> munka eszközei</a:t>
            </a:r>
            <a:r>
              <a:rPr b="0" lang="hu-HU" sz="1800" spc="-1" strike="noStrike">
                <a:solidFill>
                  <a:srgbClr val="ffffff"/>
                </a:solidFill>
                <a:latin typeface="Tahoma"/>
              </a:rPr>
              <a:t>: dolgozói manualitás, szerszámgép, gyártóeszközök, stb.</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B417CEA-79F7-42FF-A856-79C0D7B1D0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ámítógépes tervezőrendszerek alapfunkcióit definiáló </a:t>
            </a:r>
            <a:r>
              <a:rPr b="0" i="1" lang="hu-HU" sz="4000" spc="-1" strike="noStrike">
                <a:solidFill>
                  <a:srgbClr val="ffffcc"/>
                </a:solidFill>
                <a:latin typeface="Tahoma"/>
              </a:rPr>
              <a:t>kérdések</a:t>
            </a:r>
            <a:r>
              <a:rPr b="0" lang="hu-HU" sz="4000" spc="-1" strike="noStrike">
                <a:solidFill>
                  <a:srgbClr val="ffffcc"/>
                </a:solidFill>
                <a:latin typeface="Tahoma"/>
              </a:rPr>
              <a:t> </a:t>
            </a:r>
            <a:endParaRPr b="0" lang="en-US" sz="4000" spc="-1" strike="noStrike">
              <a:solidFill>
                <a:srgbClr val="ffffcc"/>
              </a:solidFill>
              <a:latin typeface="Tahoma"/>
            </a:endParaRPr>
          </a:p>
        </p:txBody>
      </p:sp>
      <p:pic>
        <p:nvPicPr>
          <p:cNvPr id="624" name="" descr=""/>
          <p:cNvPicPr/>
          <p:nvPr/>
        </p:nvPicPr>
        <p:blipFill>
          <a:blip r:embed="rId1"/>
          <a:stretch/>
        </p:blipFill>
        <p:spPr>
          <a:xfrm>
            <a:off x="1763640" y="1628640"/>
            <a:ext cx="5472360" cy="427068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2F9E28E-B451-4160-B1C0-F12F927481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menedzsment főbb szempontjai</a:t>
            </a:r>
            <a:endParaRPr b="0" lang="en-US" sz="4000" spc="-1" strike="noStrike">
              <a:solidFill>
                <a:srgbClr val="ffffcc"/>
              </a:solidFill>
              <a:latin typeface="Tahoma"/>
            </a:endParaRPr>
          </a:p>
        </p:txBody>
      </p:sp>
      <p:sp>
        <p:nvSpPr>
          <p:cNvPr id="6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vállalat szervezeti alapja az a professzionális munkamegosztás (műszaki, kereskedői, könyvelői), amelyben a kooperáló szakágak felelős döntési autonómiával rendelkeznek az alájuk rendelt szervek felett.</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 összes külső anyagi folyamatait (input-output piaci kapcsolatait) zárt felelősségi láncban azonos vezető irányítja és ugyanígy a belső anyagi folyamatokat is (a gyártás műszaki előkészítését és realizálását) egyetlen felelős személy vezeti. </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és előkészítés mélységét (részletezettségét és időtávját) a piaci követelmények, a gazdasági kockázat és a tervezési költségek szabják meg, vagyis ettől függ a megfelelő funkcionális szervek optimális kapacitása is</a:t>
            </a:r>
            <a:endParaRPr b="0" lang="en-US" sz="18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nagybonyolultságú egyedi termékek esetében a szaktudás és a döntési hatókör decentralizált kooperáló egységekre oszlik,</a:t>
            </a:r>
            <a:endParaRPr b="0" lang="en-US" sz="16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nagysorozatú stabil termékek esetében a szakismeret és a döntési kör központosított. </a:t>
            </a:r>
            <a:endParaRPr b="0" lang="en-US" sz="16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ülső és belső változásokhoz való kellő alkalmazkodáshoz, gyors működésű visszacsatoló, beavatkozó és zavarelhárító organizmust (szabályozó hálózatot) építenek ki, amely biztosítja, hogy operatív döntések csak ott születhessenek, ahol a döntéshez szükséges tárgyi és szakmai ismeretek valamint a végrehajtás feltételeit megteremtő rendelkezési lehetőségek is megvan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80373A-E503-4742-AF22-D067E685A2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ellenőrzés</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 W. Taylor által kezdeményezett, "tudományos menedzsment" néven ismert mozgalom hatására a tervezés különvált a végrehajtástó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nedzselési módszereket kezdtek használni a hatékonyság növelésér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 folyamat részeként az ipari termelő folyamatokban a munkavezetők kezéből kivették a végtermék-ellenőrzési feladatot, s önálló, kiképzett, független minőségellenőröket bíztak meg ezzel a feladattal.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önálló diszciplínává, szakmává vált, mely először a végtermék ellenőrzésével, minősítésével szabályozó elemként vált a gyártási folyamat elengedhetetlen részévé.</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alapelve, hogy állandóan érvényesüljenek az előre rögzített minőségi követelmények. Az elsődleges cél a hiba-megállapítás; az alkalmazott módszerek közé tartozik a: szabványosítás, méré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Jellemzője: a minőségellenőrzési részleg (vagy osztály) felelős a minőségért. A minőségellenőrzés nagy hátránya, hogy egyáltalán nem biztosítja a továbbfejlődést. A termelő és a minőséggel foglalkozó részlegek között folyamatosan érdekellentétek keletkeznek. Módszerei elsősorban a hiba megállapítására vonatkoznak a folyamat végén, így nem nyílik lehetőség a folyamat közbeni visszacsatolásra.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ovábbi negatívum, hogy a felsőbb vezetők teljesen elszakadnak a minőségügyi funkciótól, ezáltal egyre kevesebb információ jut el hozzájuk - krízishelyzetben így nem rendelkeznek megfelelő ismeretekke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0A94B8-F86F-4F4E-9350-702B78E7F2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768320"/>
            <a:ext cx="7772400" cy="3029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vállalat egészét átfogó informatikai rendszer koncepciój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20874184-F0B4-48B9-8FAD-5EA3169910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 egészét átfogó informatikai rendszer koncepciój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heurisztikus modell vehetünk alapul, amely a jogszabályok által behatárolt vállalati "szervezési és működési szabályzat"-ból indul ki, ennek elemeit kísérli meg rendszerszemlélettel összekapcsolni, miközben a "felülről-lefelé" való közelítéstervezési elvet következetesen alkalmazza.</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iindulási pont a rugalmas gyártórendszerek tervezési módszertana</a:t>
            </a:r>
            <a:r>
              <a:rPr b="0" lang="en-US" sz="2800" spc="-1" strike="noStrike">
                <a:solidFill>
                  <a:srgbClr val="ffffff"/>
                </a:solidFill>
                <a:latin typeface="Tahoma"/>
              </a:rPr>
              <a:t> </a:t>
            </a:r>
            <a:r>
              <a:rPr b="0" lang="hu-HU" sz="2800" spc="-1" strike="noStrike">
                <a:solidFill>
                  <a:srgbClr val="ffffff"/>
                </a:solidFill>
                <a:latin typeface="Tahoma"/>
              </a:rPr>
              <a:t>(</a:t>
            </a:r>
            <a:r>
              <a:rPr b="0" i="1" lang="hu-HU" sz="2800" spc="-1" strike="noStrike">
                <a:solidFill>
                  <a:srgbClr val="ffffff"/>
                </a:solidFill>
                <a:latin typeface="Tahoma"/>
              </a:rPr>
              <a:t>Hatvany József, Nemes László, Bernus Péter</a:t>
            </a:r>
            <a:r>
              <a:rPr b="0" lang="hu-HU"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9A8AEE-F701-4B23-80A9-F88AC4A1E9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állalatintegrálás helyzet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6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mmiféle integrált gyártórendszer, vagy CIM rendszer nem vásárolható kész termékké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den vállalatnak részt kell vennie a saját rendszerének létrehozásába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ükség van CIM rendszerépítő módszertanr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DFCB0A-9B8C-470B-AB9D-73A93D1346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CIM rendszerek tervezése</a:t>
            </a:r>
            <a:endParaRPr b="0" lang="en-US" sz="4400" spc="-1" strike="noStrike">
              <a:solidFill>
                <a:srgbClr val="ffffcc"/>
              </a:solidFill>
              <a:latin typeface="Tahoma"/>
            </a:endParaRPr>
          </a:p>
        </p:txBody>
      </p:sp>
      <p:sp>
        <p:nvSpPr>
          <p:cNvPr id="6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vel az ilyen rendszerek nagyon összetettek, bonyolultak, speciális módszerekre van szükség ezen összetettség strukturális és funkcionális megértésére, hogy a tervezés lépései a lehető legkevesebb zsákutcával és kudarc miatti változtatással elvezessenek egy működőképes, az egész rendszer célját szolgáló, koordinált alrendszerekből felépülő struktúrához.</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nek nemcsak a műszaki, hanem a gazdasági, szociális és emberi szempontokat is integrált módon kell figyelembe vennie.</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incs egyetlen ember sem, aki a tervezéshez minden tudással rendelkezik, egy CIM rendszer tervezése feltétlenül csapatmunka.</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kezdeti állapota nem véletlen kérdése, hanem egy műszaki-gazdasági kompromisszumkeresés eredménye; ezért ezt a kezdeti állapotot figyelembe kell venni, hogy jól megértsük azokat a megkötéseket, amelyekkel a rendszer működik, másrészt, hogy elkerüljük azon részek újratervezését, amelyek megfelelően működnek. A mai gazdasági helyzetben ez a szempont egyre fontosabb; sok ipari rendszertől várnak egyre gyorsabb fejlődést egyre kisebb költségek mellet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1B0B01-83F3-485B-BE58-94BA29EDE1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kifejezés alatt a tervezéshez szükséges struktúra- és folyamatelemek olyan egységes rendszerét értjük, amelyekhez hozzárendelhető: </a:t>
            </a:r>
            <a:br>
              <a:rPr sz="2400"/>
            </a:br>
            <a:endParaRPr b="0" lang="en-US" sz="24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a:t>
            </a:r>
            <a:r>
              <a:rPr b="0" i="1" lang="hu-HU" sz="2000" spc="-1" strike="noStrike">
                <a:solidFill>
                  <a:srgbClr val="ffffff"/>
                </a:solidFill>
                <a:latin typeface="Tahoma"/>
              </a:rPr>
              <a:t>referenciamodell</a:t>
            </a:r>
            <a:r>
              <a:rPr b="0" lang="hu-HU" sz="2000" spc="-1" strike="noStrike">
                <a:solidFill>
                  <a:srgbClr val="ffffff"/>
                </a:solidFill>
                <a:latin typeface="Tahoma"/>
              </a:rPr>
              <a:t>, amely teljességében és általánosságban mutatja a tervezett rendszer szerkezeté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vagy több</a:t>
            </a:r>
            <a:r>
              <a:rPr b="0" i="1" lang="hu-HU" sz="2000" spc="-1" strike="noStrike">
                <a:solidFill>
                  <a:srgbClr val="ffffff"/>
                </a:solidFill>
                <a:latin typeface="Tahoma"/>
              </a:rPr>
              <a:t> modellezési formalizmus</a:t>
            </a:r>
            <a:r>
              <a:rPr b="0" lang="hu-HU" sz="2000" spc="-1" strike="noStrike">
                <a:solidFill>
                  <a:srgbClr val="ffffff"/>
                </a:solidFill>
                <a:latin typeface="Tahoma"/>
              </a:rPr>
              <a:t>, hogy felépíthessük a modellt tanulmányozás és értékelés céljából,</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tervezési program </a:t>
            </a:r>
            <a:r>
              <a:rPr b="0" i="1" lang="hu-HU" sz="2000" spc="-1" strike="noStrike">
                <a:solidFill>
                  <a:srgbClr val="ffffff"/>
                </a:solidFill>
                <a:latin typeface="Tahoma"/>
              </a:rPr>
              <a:t>strukturált megközelítése</a:t>
            </a:r>
            <a:r>
              <a:rPr b="0" lang="hu-HU" sz="2000" spc="-1" strike="noStrike">
                <a:solidFill>
                  <a:srgbClr val="ffffff"/>
                </a:solidFill>
                <a:latin typeface="Tahoma"/>
              </a:rPr>
              <a:t>, amely lépésenként vezet el egy meglévő rendszertől a tervezett rendszerig, figyelembe véve a fejlődés céljait és a speciális megszorításoka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ködést </a:t>
            </a:r>
            <a:r>
              <a:rPr b="0" i="1" lang="hu-HU" sz="2000" spc="-1" strike="noStrike">
                <a:solidFill>
                  <a:srgbClr val="ffffff"/>
                </a:solidFill>
                <a:latin typeface="Tahoma"/>
              </a:rPr>
              <a:t>kiértékelő szempontok</a:t>
            </a:r>
            <a:r>
              <a:rPr b="0" lang="hu-HU" sz="2000" spc="-1" strike="noStrike">
                <a:solidFill>
                  <a:srgbClr val="ffffff"/>
                </a:solidFill>
                <a:latin typeface="Tahoma"/>
              </a:rPr>
              <a:t>, amelyekkel a rendszer számos nézőpontból (gazdasági, megbízhatóság, stb.) értékelhető k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3FB7AC-B6C9-4E0A-96AD-58A83966FB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módszertan számos olyan, ésszerűen sorbarendezett lépés, amelyeket követve egy probléma megoldható.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integrált gyártórendszer tervező módszertan kereteiben a strukturált megközelítésnek az integráló projekt teljes életciklusát le kell fednie, amely számos egymás utáni lépésből áll (követelményrendszer elkészítése, analízis, tervezés, fejlesztés, megvalósítás és működtetés, tesztelés és karbantartás ).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minden lépését körültekintő alapossággal meg kell határozni és egy szabványosított projektstruktúrára kell alapozni megadva azokat a behatásokat, amelyeket még figyelembe kell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94326A-C935-4A38-9336-2546ADC706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6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 architektúra egy fizikai, vagy elképzelt tárgy, vagy egység struktúrájának (szerkezetének) leírása (modellj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órendszerek, vállalatok, vagy egységek integrálásával pontosan </a:t>
            </a:r>
            <a:r>
              <a:rPr b="0" i="1" lang="hu-HU" sz="2800" spc="-1" strike="noStrike">
                <a:solidFill>
                  <a:srgbClr val="ffffff"/>
                </a:solidFill>
                <a:latin typeface="Tahoma"/>
              </a:rPr>
              <a:t>kétféle</a:t>
            </a:r>
            <a:r>
              <a:rPr b="0" lang="hu-HU" sz="2800" spc="-1" strike="noStrike">
                <a:solidFill>
                  <a:srgbClr val="ffffff"/>
                </a:solidFill>
                <a:latin typeface="Tahoma"/>
              </a:rPr>
              <a:t> architektúra foglalkozik:</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fizikai rendszer</a:t>
            </a:r>
            <a:r>
              <a:rPr b="0" lang="hu-HU" sz="2400" spc="-1" strike="noStrike">
                <a:solidFill>
                  <a:srgbClr val="ffffff"/>
                </a:solidFill>
                <a:latin typeface="Tahoma"/>
              </a:rPr>
              <a:t> strukturált elrendezése (terve), például mint a számítógépes irányító rendszer egy teljes vállalati integrációs rendszerben;</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projekt </a:t>
            </a:r>
            <a:r>
              <a:rPr b="0" lang="hu-HU" sz="2400" spc="-1" strike="noStrike">
                <a:solidFill>
                  <a:srgbClr val="ffffff"/>
                </a:solidFill>
                <a:latin typeface="Tahoma"/>
              </a:rPr>
              <a:t>vagy </a:t>
            </a:r>
            <a:r>
              <a:rPr b="0" i="1" lang="hu-HU" sz="2400" spc="-1" strike="noStrike">
                <a:solidFill>
                  <a:srgbClr val="ffffff"/>
                </a:solidFill>
                <a:latin typeface="Tahoma"/>
              </a:rPr>
              <a:t>program</a:t>
            </a:r>
            <a:r>
              <a:rPr b="0" lang="hu-HU" sz="2400" spc="-1" strike="noStrike">
                <a:solidFill>
                  <a:srgbClr val="ffffff"/>
                </a:solidFill>
                <a:latin typeface="Tahoma"/>
              </a:rPr>
              <a:t> strukturált elrendezése (szervezet), mint például egy gyártási- vagy vállalatintegráció, vagy más vállalat -fejlesztő program.</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E8B982C-C905-4D7D-95E8-A7FCDF0C7E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OSA - (Open System Architecture for Computer Integrated Manufacturing- nyílt rendszer-architektúra számítógéppel integrált gyártáshoz) rendszert az európai AMICE multinacionális konzorcium fejlesztette a 688, 2422 és 5288 sz. ESPRIT projektek keretében (AMICE 1993).</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rendszer - Bordeaux-i egyetem 1974-től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ERA, a Purdue vállalati referencia architektúra és az arra vonatkozó Purdue módszertan a Purdue University CIM konzorciumának munkája, amelyet 1989-ben kezdtek el fejleszteni ipari megrendelésre</a:t>
            </a:r>
            <a:endParaRPr b="0" lang="en-US" sz="2400" spc="-1" strike="noStrike">
              <a:solidFill>
                <a:srgbClr val="ffffff"/>
              </a:solidFill>
              <a:latin typeface="Tahoma"/>
            </a:endParaRPr>
          </a:p>
        </p:txBody>
      </p:sp>
      <p:sp>
        <p:nvSpPr>
          <p:cNvPr id="641"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C106A46-060C-433E-B647-3131C8DC34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gyártás- és vállalatintegráció</a:t>
            </a:r>
            <a:endParaRPr b="0" lang="en-US" sz="4400" spc="-1" strike="noStrike">
              <a:solidFill>
                <a:srgbClr val="ffffcc"/>
              </a:solidFill>
              <a:latin typeface="Tahoma"/>
            </a:endParaRPr>
          </a:p>
        </p:txBody>
      </p:sp>
      <p:sp>
        <p:nvSpPr>
          <p:cNvPr id="6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és vállalatintegráció nem automatizálás és/vagy számítógépek alkalmazása önmagában, noha a számítógépek és az automatizálás részt vesznek benn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vagy vállalatintegrálás egyrészt adat- (és/vagy információ) gyűjtés, átalakítás, tárolás és felhasználás a vállalat üzleti tevékenységet folytató funkcionális egységétől és annak környezetéből, hogy az üzleti tevékenység egésze javuljon az üzleti menedzsment által meghatározott kritériumok szerint, másrészt hozzá tartozik a nyersanyag, a közbülső anyagok és a késztermékek folyamatainak integrálása is, csakúgy, mint a gépek elrendezésének és működésének optimalizálás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él a vállalat egészének lehetőség szerint optimális működése. Ezen túlmenően a dolgozó emberek tevékenységét és hatásait is integrálni kell a gyártási vagy más vállalati működéssel, hasonlóan, mint a számítógépekkel és a hozzájuk kapcsolt berendezésekkel végrehajtott információ-integrálás esetében</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E8715F8-4C5A-4282-A022-042DD7E0A5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tevékenységek és a vállalatok integrálási igény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lágméretű ipar manapság a gyártási műveletek módosításait igényli, hogy biztosítsa:</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k igényeire való gyorsabb és jobb válasz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mind magasabb minőségét, továbbá</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kvő rugalmasságot és gyorsabb választ az új termékek bevezetésében és a piaci igények kielégítésében.</a:t>
            </a:r>
            <a:endParaRPr b="0" lang="en-US" sz="2000" spc="-1" strike="noStrike">
              <a:solidFill>
                <a:srgbClr val="ffffff"/>
              </a:solidFill>
              <a:latin typeface="Tahoma"/>
            </a:endParaRPr>
          </a:p>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Ugyanakkor az ipar további követelményekkel néz szembe, hogy jövedelmezőségét összességében növelje, miközben:</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aknak csökkenteniük kell a környezetre gyakorolt negatív hatásuka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lniük kell a személyzet és a környezet biztonságát és</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aniuk kell az üzemi személyzet munkafeltételeit és a munkával való megelégedettség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70FE5BB-96C1-4134-8BC9-3759B6842F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1T08:25:00Z</dcterms:created>
  <dc:creator>ICS</dc:creator>
  <dc:description/>
  <dc:language>en-US</dc:language>
  <cp:lastModifiedBy>Hornyák Olivér</cp:lastModifiedBy>
  <dcterms:modified xsi:type="dcterms:W3CDTF">2004-11-24T13:56:38Z</dcterms:modified>
  <cp:revision>114</cp:revision>
  <dc:subject/>
  <dc:title>Minőségmenedzsment és Informatika</dc:title>
</cp:coreProperties>
</file>